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FF0-088D-44A0-B961-E5C471AA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BCC-CDB3-4D54-8364-C4344DD4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F8D-E85C-4801-96C5-E14AA324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BED-405B-4C13-97E2-23165A06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BE2-8B75-46BA-8175-1B1D0E85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363-7DF0-476C-9850-055DE031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2B3-5FC8-438F-9BFC-541C50A5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857-207C-4A09-9469-0210CA9F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64D-3915-40EB-98F2-047786D8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E60-218F-4AF9-95FF-5A728EDA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58D-CC9B-47E6-AAD4-8450D666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A26-35AB-4E2E-BEED-03D3501B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D80A-4002-4962-AEB0-2F966FB8FD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080d"/>
                </a:solidFill>
                <a:latin typeface="Arial"/>
              </a:rPr>
              <a:t>Харахха физминут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13-Учух чарых чилтызах ---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1866960" y="963720"/>
            <a:ext cx="4967280" cy="4966920"/>
            <a:chOff x="1866960" y="963720"/>
            <a:chExt cx="4967280" cy="4966920"/>
          </a:xfrm>
        </p:grpSpPr>
        <p:sp>
          <p:nvSpPr>
            <p:cNvPr id="103" name="Oval 3"/>
            <p:cNvSpPr/>
            <p:nvPr/>
          </p:nvSpPr>
          <p:spPr>
            <a:xfrm rot="16200000">
              <a:off x="514296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4"/>
            <p:cNvSpPr/>
            <p:nvPr/>
          </p:nvSpPr>
          <p:spPr>
            <a:xfrm rot="16200000">
              <a:off x="255060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5"/>
            <p:cNvSpPr/>
            <p:nvPr/>
          </p:nvSpPr>
          <p:spPr>
            <a:xfrm>
              <a:off x="3882960" y="35560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"/>
            <p:cNvSpPr/>
            <p:nvPr/>
          </p:nvSpPr>
          <p:spPr>
            <a:xfrm>
              <a:off x="3882960" y="9637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7"/>
            <p:cNvSpPr/>
            <p:nvPr/>
          </p:nvSpPr>
          <p:spPr>
            <a:xfrm>
              <a:off x="3954600" y="305100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8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138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ls" descr="butterfly13"/>
          <p:cNvPicPr/>
          <p:nvPr/>
        </p:nvPicPr>
        <p:blipFill>
          <a:blip r:embed="rId1"/>
          <a:stretch/>
        </p:blipFill>
        <p:spPr>
          <a:xfrm rot="20139000">
            <a:off x="1144080" y="482400"/>
            <a:ext cx="800280" cy="79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Роза открываеися"/>
          <p:cNvPicPr/>
          <p:nvPr/>
        </p:nvPicPr>
        <p:blipFill>
          <a:blip r:embed="rId2"/>
          <a:stretch/>
        </p:blipFill>
        <p:spPr>
          <a:xfrm>
            <a:off x="3708360" y="357336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 -0.08395 C 0.54931 -0.08395 0.71216 0.09945 0.71216 0.32493 C 0.71216 0.55042 0.54931 0.73427 0.35 0.73427 C 0.15018 0.73427 -0.01215 0.55042 -0.01215 0.32493 C -0.01215 0.09945 0.15018 -0.08395 0.35 -0.08395 Z">
                                      <p:cBhvr>
                                        <p:cTn id="146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1924E-006 L 0.09444 0.57702 E">
                                      <p:cBhvr>
                                        <p:cTn id="14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136 -0.0148 L 0.42726 0.34182 E">
                                      <p:cBhvr>
                                        <p:cTn id="15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a080d"/>
                </a:solidFill>
                <a:latin typeface="Arial"/>
              </a:rPr>
              <a:t>Хазы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a080d"/>
                </a:solidFill>
                <a:latin typeface="Arial"/>
              </a:rPr>
              <a:t>полыңар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26m1"/>
          <p:cNvPicPr/>
          <p:nvPr/>
        </p:nvPicPr>
        <p:blipFill>
          <a:blip r:embed="rId1"/>
          <a:stretch/>
        </p:blipFill>
        <p:spPr>
          <a:xfrm>
            <a:off x="3780000" y="4365720"/>
            <a:ext cx="1728720" cy="2292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2"/>
          <a:stretch/>
        </p:blipFill>
        <p:spPr>
          <a:xfrm rot="17554200">
            <a:off x="2987640" y="4581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2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d0d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8m5"/>
          <p:cNvPicPr/>
          <p:nvPr/>
        </p:nvPicPr>
        <p:blipFill>
          <a:blip r:embed="rId1"/>
          <a:stretch/>
        </p:blipFill>
        <p:spPr>
          <a:xfrm>
            <a:off x="1476360" y="1413000"/>
            <a:ext cx="2016000" cy="216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5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5013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2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47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2"/>
          <p:cNvSpPr/>
          <p:nvPr/>
        </p:nvSpPr>
        <p:spPr>
          <a:xfrm>
            <a:off x="395280" y="2924280"/>
            <a:ext cx="1008000" cy="936360"/>
          </a:xfrm>
          <a:prstGeom prst="ellipse">
            <a:avLst/>
          </a:prstGeom>
          <a:gradFill rotWithShape="0">
            <a:gsLst>
              <a:gs pos="0">
                <a:srgbClr val="f1091f"/>
              </a:gs>
              <a:gs pos="100000">
                <a:srgbClr val="70040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26m1"/>
          <p:cNvPicPr/>
          <p:nvPr/>
        </p:nvPicPr>
        <p:blipFill>
          <a:blip r:embed="rId1"/>
          <a:stretch/>
        </p:blipFill>
        <p:spPr>
          <a:xfrm>
            <a:off x="3708360" y="4292640"/>
            <a:ext cx="1873440" cy="237636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57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ubPieSlice"/>
          <p:cNvSpPr/>
          <p:nvPr/>
        </p:nvSpPr>
        <p:spPr>
          <a:xfrm>
            <a:off x="1547640" y="404640"/>
            <a:ext cx="6912000" cy="6193080"/>
          </a:xfrm>
          <a:custGeom>
            <a:avLst/>
            <a:gdLst>
              <a:gd name="textAreaLeft" fmla="*/ 1011960 w 6912000"/>
              <a:gd name="textAreaRight" fmla="*/ 5900040 w 6912000"/>
              <a:gd name="textAreaTop" fmla="*/ 906840 h 6193080"/>
              <a:gd name="textAreaBottom" fmla="*/ 5286240 h 6193080"/>
            </a:gdLst>
            <a:ahLst/>
            <a:rect l="textAreaLeft" t="textAreaTop" r="textAreaRight" b="textAreaBottom"/>
            <a:pathLst>
              <a:path w="21600" h="21600">
                <a:moveTo>
                  <a:pt x="21599" y="10725"/>
                </a:moveTo>
                <a:cubicBezTo>
                  <a:pt x="21559" y="4790"/>
                  <a:pt x="1673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i10_2"/>
          <p:cNvPicPr/>
          <p:nvPr/>
        </p:nvPicPr>
        <p:blipFill>
          <a:blip r:embed="rId2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7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val 4"/>
          <p:cNvSpPr/>
          <p:nvPr/>
        </p:nvSpPr>
        <p:spPr>
          <a:xfrm>
            <a:off x="3059280" y="4221000"/>
            <a:ext cx="2520720" cy="21607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84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2"/>
          <p:cNvSpPr/>
          <p:nvPr/>
        </p:nvSpPr>
        <p:spPr>
          <a:xfrm>
            <a:off x="395280" y="2492280"/>
            <a:ext cx="2376360" cy="208908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3423E-006 L 0.66944 0.00532 E">
                                      <p:cBhvr>
                                        <p:cTn id="9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0532 L -3.33333E-006 -0.00509 E">
                                      <p:cBhvr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4"/>
          <p:cNvSpPr/>
          <p:nvPr/>
        </p:nvSpPr>
        <p:spPr>
          <a:xfrm>
            <a:off x="3780000" y="270828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e03c82"/>
              </a:gs>
              <a:gs pos="100000">
                <a:srgbClr val="681c3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2"/>
          <p:cNvSpPr/>
          <p:nvPr/>
        </p:nvSpPr>
        <p:spPr>
          <a:xfrm>
            <a:off x="7524720" y="5516640"/>
            <a:ext cx="1203480" cy="1022400"/>
          </a:xfrm>
          <a:prstGeom prst="ellipse">
            <a:avLst/>
          </a:prstGeom>
          <a:solidFill>
            <a:srgbClr val="ff00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 flipV="1">
            <a:off x="297000" y="6264000"/>
            <a:ext cx="8596080" cy="90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000" y="5543640"/>
            <a:ext cx="8550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297000" y="4824360"/>
            <a:ext cx="8550000" cy="44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250920" y="4103640"/>
            <a:ext cx="864216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297000" y="338472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297000" y="266400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V="1">
            <a:off x="250920" y="1942920"/>
            <a:ext cx="8686800" cy="45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V="1">
            <a:off x="297000" y="122364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341280" y="549000"/>
            <a:ext cx="850572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905040" y="0"/>
            <a:ext cx="8856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1685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24066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3129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>
            <a:off x="38498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5234040" y="0"/>
            <a:ext cx="6012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6014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7374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7458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3"/>
          <p:cNvSpPr/>
          <p:nvPr/>
        </p:nvSpPr>
        <p:spPr>
          <a:xfrm>
            <a:off x="8120160" y="0"/>
            <a:ext cx="11880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4"/>
          <p:cNvSpPr/>
          <p:nvPr/>
        </p:nvSpPr>
        <p:spPr>
          <a:xfrm>
            <a:off x="8901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>
            <a:off x="603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303120" y="5894280"/>
            <a:ext cx="8597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>
            <a:off x="1325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>
            <a:off x="7097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9"/>
          <p:cNvSpPr/>
          <p:nvPr/>
        </p:nvSpPr>
        <p:spPr>
          <a:xfrm>
            <a:off x="20462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0"/>
          <p:cNvSpPr/>
          <p:nvPr/>
        </p:nvSpPr>
        <p:spPr>
          <a:xfrm>
            <a:off x="2768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 flipH="1">
            <a:off x="3429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>
            <a:off x="41511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3"/>
          <p:cNvSpPr/>
          <p:nvPr/>
        </p:nvSpPr>
        <p:spPr>
          <a:xfrm>
            <a:off x="4871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4"/>
          <p:cNvSpPr/>
          <p:nvPr/>
        </p:nvSpPr>
        <p:spPr>
          <a:xfrm flipV="1">
            <a:off x="243000" y="5232240"/>
            <a:ext cx="859788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5"/>
          <p:cNvSpPr/>
          <p:nvPr/>
        </p:nvSpPr>
        <p:spPr>
          <a:xfrm>
            <a:off x="243000" y="445140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250920" y="371628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7"/>
          <p:cNvSpPr/>
          <p:nvPr/>
        </p:nvSpPr>
        <p:spPr>
          <a:xfrm>
            <a:off x="243000" y="300816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8"/>
          <p:cNvSpPr/>
          <p:nvPr/>
        </p:nvSpPr>
        <p:spPr>
          <a:xfrm flipV="1">
            <a:off x="250920" y="227628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9"/>
          <p:cNvSpPr/>
          <p:nvPr/>
        </p:nvSpPr>
        <p:spPr>
          <a:xfrm flipV="1">
            <a:off x="250920" y="1557360"/>
            <a:ext cx="8742240" cy="71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0"/>
          <p:cNvSpPr/>
          <p:nvPr/>
        </p:nvSpPr>
        <p:spPr>
          <a:xfrm flipV="1">
            <a:off x="303120" y="842760"/>
            <a:ext cx="859788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1"/>
          <p:cNvSpPr/>
          <p:nvPr/>
        </p:nvSpPr>
        <p:spPr>
          <a:xfrm flipV="1">
            <a:off x="243000" y="242640"/>
            <a:ext cx="8658000" cy="586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2"/>
          <p:cNvSpPr/>
          <p:nvPr/>
        </p:nvSpPr>
        <p:spPr>
          <a:xfrm>
            <a:off x="5654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3"/>
          <p:cNvSpPr/>
          <p:nvPr/>
        </p:nvSpPr>
        <p:spPr>
          <a:xfrm>
            <a:off x="63752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4"/>
          <p:cNvSpPr/>
          <p:nvPr/>
        </p:nvSpPr>
        <p:spPr>
          <a:xfrm>
            <a:off x="7758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5"/>
          <p:cNvSpPr/>
          <p:nvPr/>
        </p:nvSpPr>
        <p:spPr>
          <a:xfrm>
            <a:off x="85406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10916E-006 L -0.78264 -0.784 E">
                                      <p:cBhvr>
                                        <p:cTn id="10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-0.784 L -0.78264 0.0481 E">
                                      <p:cBhvr>
                                        <p:cTn id="10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6563 -0.80157 E">
                                      <p:cBhvr>
                                        <p:cTn id="113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81 -0.80157 L 0.03281 -0.01318 E">
                                      <p:cBhvr>
                                        <p:cTn id="11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-0.0592 0.03931 E">
                                      <p:cBhvr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3281 -0.80157 E">
                                      <p:cBhvr>
                                        <p:cTn id="12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-0.80157 L -0.77604 -0.81036 E">
                                      <p:cBhvr>
                                        <p:cTn id="12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3:26:02Z</dcterms:created>
  <dc:creator>Масько Л.Г.</dc:creator>
  <dc:description/>
  <dc:language>en-US</dc:language>
  <cp:lastModifiedBy>user</cp:lastModifiedBy>
  <dcterms:modified xsi:type="dcterms:W3CDTF">2018-03-04T11:55:07Z</dcterms:modified>
  <cp:revision>29</cp:revision>
  <dc:subject/>
  <dc:title>Слайд 1</dc:title>
</cp:coreProperties>
</file>