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F9DE-3050-4A5D-BD81-7BEEE014D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D561-88DD-4DE0-A21B-6FD1FED0D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A2EE-6CAD-47C0-860D-C6414F40A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36F1-4D4C-403A-B0E5-78DA0FF4C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7B579-DFAE-402C-AAAB-42EE53569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A3D92-B29A-4835-A6F7-94C4477C7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A62AD-FDB8-4758-BF71-545DF2CFF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39087-0527-45B7-9CD8-22EAF5990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AC612-A0F1-4B2D-95EF-C7957FA3B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0F850-E158-4DF1-9BBE-A3DF2FB63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AE9B9-75BE-487F-89E0-2349CEB6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B2BA-3CBA-46E7-AD4A-A665756A8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25679-8579-45E4-9F49-B133D9C8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38748-7ADF-43F3-A66D-B7FBE2EB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BFCCA-9C3E-40A9-A352-DCCBA4ACE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CCB80-CE5A-4AF1-8D3E-D3F071661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5D1B2-13E6-4030-9AD1-9C7F50BCC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B298-30DA-4824-8D5D-4E016437F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CFC5-F53B-4C14-9EC4-35C2F3985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F8CF-3001-474B-BFCD-05D60C888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EEA5-39A5-4CD9-80FA-D54D009AE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0891-D573-4465-BAF9-5D9A121D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9E4A-2CA9-4A20-B503-7C11AAB7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D2EF-8717-4673-8EC8-093DEEEA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A9376-DFAB-4C05-9353-4D9A42BDD7D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04AA0-512D-4FFB-9962-8356E4C48EE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%3Cb%3E&#1042;&#1086;&#1089;&#1087;&#1080;&#1090;&#1072;&#1085;&#1080;&#1077;%3C/b%3E%20-%201)%20&#1094;&#1077;&#1083;&#1077;&#1085;&#1072;&#1087;&#1088;&#1072;&#1074;&#1083;&#1077;&#1085;&#1085;&#1086;&#1077;%20&#1088;&#1072;&#1079;&#1074;&#1080;&#1090;&#1080;&#1077;%20&#1095;&#1077;&#1083;&#1086;&#1074;&#1077;&#1082;&#1072;,%20&#1074;&#1082;&#1083;&#1102;&#1095;&#1072;&#1102;&#1097;&#1077;&#1077;%20&#1086;&#1089;&#1074;&#1086;&#1077;&#1085;&#1080;&#1077;%20&#1082;&#1091;&#1083;&#1100;&#1090;&#1091;&#1088;&#1099;,%20&#1094;&#1077;&#1085;&#1085;&#1086;&#1089;&#1090;&#1077;&#1081;%20&#1080;%20&#1085;&#1086;&#1088;&#1084;%20&#1086;&#1073;&#1097;&#1077;&#1089;&#1090;&#1074;&#1072;%3B%202)%20&#1087;&#1088;&#1086;&#1094;&#1077;&#1089;&#1089;%20&#1089;&#1086;&#1094;&#1080;&#1072;&#1083;&#1080;&#1079;&#1072;&#1094;&#1080;&#1080;%20&#1080;&#1085;&#1076;&#1080;&#1074;&#1080;&#1076;&#1072;,%20&#1089;&#1090;&#1072;&#1085;&#1086;&#1074;&#1083;&#1077;&#1085;&#1080;&#1103;%20&#1080;%20&#1088;&#1072;&#1079;&#1074;&#1080;&#1090;&#1080;&#1103;%20&#1077;&#1075;&#1086;%20&#1082;&#1072;&#1082;%20&#1083;&#1080;&#1095;&#1085;&#1086;&#1089;&#1090;&#1080;%20&#1085;&#1072;%20&#1087;&#1088;&#1086;&#1090;&#1103;&#1078;&#1077;&#1085;&#1080;&#1080;%20&#1074;&#1089;&#1077;&#1081;%20&#1078;&#1080;&#1079;&#1085;&#1080;%20&#1074;%20&#1093;&#1086;&#1076;&#1077;%20&#1089;&#1086;&#1073;&#1089;&#1090;&#1074;&#1077;&#1085;&#1085;&#1086;&#1081;%20&#1072;&#1082;&#1090;&#1080;&#1074;&#1085;&#1086;&#1089;&#1090;&#1080;%20&#1080;%20&#1087;&#1086;&#1076;%20&#1074;&#1083;&#1080;&#1103;&#1085;&#1080;&#1077;&#1084;%20&#1087;&#1088;&#1080;&#1088;&#1086;&#1076;&#1085;&#1086;&#1081;,%20&#1089;&#1086;&#1094;&#1080;&#1072;&#1083;&#1100;&#1085;&#1086;&#1081;%20&#1080;%20&#1082;&#1091;&#1083;&#1100;&#1090;&#1091;&#1088;&#1085;&#1086;&#1081;%20&#1089;&#1088;&#1077;&#1076;&#1099;,%20&#1074;%20&#1090;.&#1095;.%20&#1089;&#1087;&#1077;&#1094;&#1080;&#1072;&#1083;&#1100;&#1085;&#1086;%20&#1086;&#1088;&#1075;&#1072;&#1085;&#1080;&#1079;&#1086;&#1074;&#1072;&#1085;&#1085;&#1086;&#1081;%20&#1094;&#1077;&#1083;&#1077;&#1085;&#1072;&#1087;&#1088;&#1072;&#1074;&#1083;&#1077;&#1085;&#1085;&#1086;&#1081;%20&#1076;&#1077;&#1103;&#1090;&#1077;&#1083;&#1100;&#1085;&#1086;&#1089;&#1090;&#1080;%20&#1088;&#1086;&#1076;&#1080;&#1090;&#1077;&#1083;&#1077;&#1081;%20&#1080;%20&#1087;&#1077;&#1076;&#1072;&#1075;&#1086;&#1075;&#1086;&#1074;%3B%203)%20&#1086;&#1073;&#1088;&#1077;&#1090;&#1077;&#1085;&#1080;&#1077;%20&#1080;&#1085;&#1076;&#1080;&#1074;&#1080;&#1076;&#1086;&#1084;%20&#1086;&#1073;&#1097;&#1077;&#1089;&#1090;&#1074;&#1077;&#1085;&#1085;&#1086;%20&#1087;&#1088;&#1080;&#1079;&#1085;&#1072;&#1085;&#1085;&#1099;&#1093;%20&#1080;%20&#1086;&#1076;&#1086;&#1073;&#1088;&#1103;&#1077;&#1084;&#1099;&#1093;%20&#1076;&#1072;&#1085;&#1085;&#1099;&#1084;%20&#1089;&#1086;&#1086;&#1073;&#1097;&#1077;&#1089;&#1090;&#1074;&#1086;&#1084;%20&#1089;&#1086;&#1094;&#1080;&#1072;&#1083;&#1100;&#1085;&#1099;&#1093;%20&#1094;&#1077;&#1085;&#1085;&#1086;&#1089;&#1090;&#1077;&#1081;,%20&#1085;&#1088;&#1072;&#1074;&#1089;&#1090;&#1074;&#1077;&#1085;&#1085;&#1099;&#1093;%20&#1080;%20&#1087;&#1088;&#1072;&#1074;&#1086;&#1074;&#1099;&#1093;%20&#1085;&#1086;&#1088;&#1084;,%20&#1082;&#1072;&#1095;&#1077;&#1089;&#1090;&#1074;%20&#1083;&#1080;&#1095;&#1085;&#1086;&#1089;&#1090;&#1080;%20&#1080;%20&#1086;&#1073;&#1088;&#1072;&#1079;&#1094;&#1086;&#1074;%20&#1087;&#1086;&#1074;&#1077;&#1076;&#1077;&#1085;&#1080;&#1103;%20&#1074;%20&#1087;&#1088;&#1086;&#1094;&#1077;&#1089;&#1089;&#1072;&#1093;%20&#1086;&#1073;&#1088;&#1072;&#1079;&#1086;&#1074;&#1072;&#1085;&#1080;&#1103;." TargetMode="External"/><Relationship Id="rId2" Type="http://schemas.openxmlformats.org/officeDocument/2006/relationships/hyperlink" Target="http://www.ido.edu.ru/psychology/pedagogical_psychology/annot/annot_11_5.html" TargetMode="External"/><Relationship Id="rId3" Type="http://schemas.openxmlformats.org/officeDocument/2006/relationships/image" Target="../media/image1.jpeg"/><Relationship Id="rId4" Type="http://schemas.openxmlformats.org/officeDocument/2006/relationships/hyperlink" Target="http://www.ido.edu.ru/psychology/pedagogical_psychology/annot/annot_11_6.html" TargetMode="External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900000" y="1557360"/>
            <a:ext cx="824400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 от греч. «методос» - путь)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путь достижения заданной цели воспитания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 конкретные пути влияния на сознание, чувства, поведение школьников для решения педагогических задач в совместной деятельности (общении) с учителем-воспитателе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76360" y="584280"/>
            <a:ext cx="53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етоды воспит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71640" y="-1047960"/>
            <a:ext cx="70516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28036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лассификация методов воспитания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Это выстроенная по определенному признаку система метод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лассификация помогает обнаружить в методах общее и специфическое, существенное и случайное, теоретическое и практическое и тем самым способствует  их выбору, наиболее эффективному применению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пираясь на классификацию, педагог не только ясно представляет себе систему методов, но и лучше понимает  назначение, характерные признаки различных методов и их модификац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лассификация методов воспитания 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основе направленности – интегративной характеристики, включающей    в себя единство целевую, содержательную и процессуальную стороны методов воспит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соответствии с этой характеристикой выделяются 3 группы методов воспитани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Методы формирования сознания ли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Методы организации деятельности и формирования опыта общественного пове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Методы стимулирования поведения и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0920" y="187920"/>
            <a:ext cx="8316000" cy="2450160"/>
            <a:chOff x="250920" y="187920"/>
            <a:chExt cx="8316000" cy="2450160"/>
          </a:xfrm>
        </p:grpSpPr>
        <p:cxnSp>
          <p:nvCxnSpPr>
            <p:cNvPr id="103" name="_s2105"/>
            <p:cNvCxnSpPr>
              <a:stCxn id="104" idx="0"/>
              <a:endCxn id="105" idx="2"/>
            </p:cNvCxnSpPr>
            <p:nvPr/>
          </p:nvCxnSpPr>
          <p:spPr>
            <a:xfrm flipV="1" rot="16200000">
              <a:off x="7241040" y="1757520"/>
              <a:ext cx="135720" cy="38520"/>
            </a:xfrm>
            <a:prstGeom prst="bentConnector3">
              <a:avLst>
                <a:gd name="adj1" fmla="val 5053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2103"/>
            <p:cNvCxnSpPr>
              <a:stCxn id="107" idx="0"/>
              <a:endCxn id="108" idx="2"/>
            </p:cNvCxnSpPr>
            <p:nvPr/>
          </p:nvCxnSpPr>
          <p:spPr>
            <a:xfrm flipH="1" flipV="1" rot="5400000">
              <a:off x="4293000" y="1854000"/>
              <a:ext cx="71640" cy="52200"/>
            </a:xfrm>
            <a:prstGeom prst="bentConnector3">
              <a:avLst>
                <a:gd name="adj1" fmla="val 5101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9" name="_s2071"/>
            <p:cNvCxnSpPr/>
            <p:nvPr/>
          </p:nvCxnSpPr>
          <p:spPr>
            <a:xfrm flipH="1" flipV="1" rot="5400000">
              <a:off x="1431360" y="1818720"/>
              <a:ext cx="178200" cy="723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0" name="_s2062"/>
            <p:cNvCxnSpPr/>
            <p:nvPr/>
          </p:nvCxnSpPr>
          <p:spPr>
            <a:xfrm flipV="1" rot="16200000">
              <a:off x="5666760" y="-309600"/>
              <a:ext cx="345240" cy="2896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" name="_s2061"/>
            <p:cNvCxnSpPr/>
            <p:nvPr/>
          </p:nvCxnSpPr>
          <p:spPr>
            <a:xfrm flipH="1" flipV="1" rot="5400000">
              <a:off x="4279320" y="931680"/>
              <a:ext cx="236160" cy="12240"/>
            </a:xfrm>
            <a:prstGeom prst="bentConnector3">
              <a:avLst>
                <a:gd name="adj1" fmla="val 4854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2" name="_s2060"/>
            <p:cNvCxnSpPr/>
            <p:nvPr/>
          </p:nvCxnSpPr>
          <p:spPr>
            <a:xfrm flipV="1">
              <a:off x="1556280" y="965880"/>
              <a:ext cx="2827440" cy="326160"/>
            </a:xfrm>
            <a:prstGeom prst="bentConnector3">
              <a:avLst>
                <a:gd name="adj1" fmla="val 407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3" name="_s2056"/>
            <p:cNvSpPr/>
            <p:nvPr/>
          </p:nvSpPr>
          <p:spPr>
            <a:xfrm>
              <a:off x="2916720" y="187920"/>
              <a:ext cx="2878200" cy="68796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Методы воспит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2057"/>
            <p:cNvSpPr/>
            <p:nvPr/>
          </p:nvSpPr>
          <p:spPr>
            <a:xfrm>
              <a:off x="323280" y="1112040"/>
              <a:ext cx="2484360" cy="61704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Методы формирова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созна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2058"/>
            <p:cNvSpPr/>
            <p:nvPr/>
          </p:nvSpPr>
          <p:spPr>
            <a:xfrm>
              <a:off x="3057480" y="1052280"/>
              <a:ext cx="2593800" cy="79272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Методы организаци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деятельност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и формирования опыта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повед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2059"/>
            <p:cNvSpPr/>
            <p:nvPr/>
          </p:nvSpPr>
          <p:spPr>
            <a:xfrm>
              <a:off x="6048000" y="1092600"/>
              <a:ext cx="2484360" cy="61704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Методы стимулирова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2070"/>
            <p:cNvSpPr/>
            <p:nvPr/>
          </p:nvSpPr>
          <p:spPr>
            <a:xfrm>
              <a:off x="250920" y="1915920"/>
              <a:ext cx="2484360" cy="36396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рассказ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2102"/>
            <p:cNvSpPr/>
            <p:nvPr/>
          </p:nvSpPr>
          <p:spPr>
            <a:xfrm>
              <a:off x="3057480" y="1915920"/>
              <a:ext cx="2484360" cy="36180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упражне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2104"/>
            <p:cNvSpPr/>
            <p:nvPr/>
          </p:nvSpPr>
          <p:spPr>
            <a:xfrm>
              <a:off x="6085800" y="1845000"/>
              <a:ext cx="2481120" cy="31932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соревнова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50920" y="2346480"/>
              <a:ext cx="2469960" cy="29160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объясне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085800" y="2275560"/>
              <a:ext cx="2466720" cy="29160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оощре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_s2070"/>
          <p:cNvSpPr/>
          <p:nvPr/>
        </p:nvSpPr>
        <p:spPr>
          <a:xfrm>
            <a:off x="324000" y="2708280"/>
            <a:ext cx="2447640" cy="28908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азъяс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_s2070"/>
          <p:cNvSpPr/>
          <p:nvPr/>
        </p:nvSpPr>
        <p:spPr>
          <a:xfrm>
            <a:off x="395280" y="3141720"/>
            <a:ext cx="2448000" cy="28872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Этическая бесе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_s2070"/>
          <p:cNvSpPr/>
          <p:nvPr/>
        </p:nvSpPr>
        <p:spPr>
          <a:xfrm>
            <a:off x="395280" y="3573360"/>
            <a:ext cx="2448000" cy="28908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вещ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_s2070"/>
          <p:cNvSpPr/>
          <p:nvPr/>
        </p:nvSpPr>
        <p:spPr>
          <a:xfrm>
            <a:off x="395280" y="3933720"/>
            <a:ext cx="2448000" cy="28908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нструкта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_s2070"/>
          <p:cNvSpPr/>
          <p:nvPr/>
        </p:nvSpPr>
        <p:spPr>
          <a:xfrm>
            <a:off x="395280" y="5084640"/>
            <a:ext cx="2448000" cy="28908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_s2070"/>
          <p:cNvSpPr/>
          <p:nvPr/>
        </p:nvSpPr>
        <p:spPr>
          <a:xfrm>
            <a:off x="395280" y="4653000"/>
            <a:ext cx="2448000" cy="28872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окла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_s2070"/>
          <p:cNvSpPr/>
          <p:nvPr/>
        </p:nvSpPr>
        <p:spPr>
          <a:xfrm>
            <a:off x="395280" y="4292640"/>
            <a:ext cx="2448000" cy="28872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испу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_s2070"/>
          <p:cNvSpPr/>
          <p:nvPr/>
        </p:nvSpPr>
        <p:spPr>
          <a:xfrm>
            <a:off x="3203640" y="2349360"/>
            <a:ext cx="2448000" cy="28908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иу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_s2070"/>
          <p:cNvSpPr/>
          <p:nvPr/>
        </p:nvSpPr>
        <p:spPr>
          <a:xfrm>
            <a:off x="3203640" y="2708280"/>
            <a:ext cx="2448000" cy="28908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ру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_s2070"/>
          <p:cNvSpPr/>
          <p:nvPr/>
        </p:nvSpPr>
        <p:spPr>
          <a:xfrm>
            <a:off x="3203640" y="3429000"/>
            <a:ext cx="2448000" cy="28908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бщественное м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_s2070"/>
          <p:cNvSpPr/>
          <p:nvPr/>
        </p:nvSpPr>
        <p:spPr>
          <a:xfrm>
            <a:off x="3203640" y="3068640"/>
            <a:ext cx="2448000" cy="28908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едагогическое треб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_s2070"/>
          <p:cNvSpPr/>
          <p:nvPr/>
        </p:nvSpPr>
        <p:spPr>
          <a:xfrm>
            <a:off x="3203640" y="3789360"/>
            <a:ext cx="2448000" cy="28908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оспитывающие ситу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_s2070"/>
          <p:cNvSpPr/>
          <p:nvPr/>
        </p:nvSpPr>
        <p:spPr>
          <a:xfrm>
            <a:off x="6156360" y="2708280"/>
            <a:ext cx="2449440" cy="28908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каз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036000" y="825120"/>
            <a:ext cx="216000" cy="1161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Методы формирования сознания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едназначены для того, что передавать информацию от учителя к   учащемуся и обрат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ознани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ак знание и понимание - это основа мировоззрения, поведения, отношений. Среди этой группы методов центральное место занимает метод убежд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етод убеждени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это путь воздействия на знание школьника для разъяснения фактов и явлений общественной или личной жизни, формирования взглядов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н является ведущим в воспитательной работе. Этот метод служит для формирования взглядов, которых в сознании учащегося, в его  раньше не имелось (или они не были закреплены), или для актуализации имеющихся знаний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11280" y="277920"/>
            <a:ext cx="853272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етоды организации деятельности и формирования поведения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064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5640" y="1411200"/>
            <a:ext cx="7775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Метод упражнений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это метод управления деятельностью школьников при помощи разнообразных и повторяющихся дел, где каждый выполняет определенные поручения (задани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 помощью этого метода организуется деятельность </a:t>
            </a:r>
            <a:r>
              <a:rPr b="0" lang="en-US" sz="2000" spc="-1" strike="noStrike" u="sng">
                <a:solidFill>
                  <a:srgbClr val="990033"/>
                </a:solidFill>
                <a:uFillTx/>
                <a:latin typeface="Times New Roman"/>
                <a:hlinkClick r:id="rId1"/>
              </a:rPr>
              <a:t>воспитуемы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и стимулируются позитивные ее мотивы (различные виды заданий на индивидуальную и групповую деятельность в виде поручений, требований, состязания, показа образцов и примера, создание ситуаций успеха). Этот метод способствует формированию сознания и поведения.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Метод упражнени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в воспитании реализуется через поручения. Поручения (практические задания) создают и расширяют опыт учащихся в различных видах деятельности. Приучение школьников к самостоятельному инициативному и добросовестному выполнению поручений, как показывает анализ педагогической практики, дело длительное и требующее неустанного внимания к н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4478400" y="2743200"/>
            <a:ext cx="1209600" cy="17146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-2763720" y="2743200"/>
            <a:ext cx="123804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тоды стимулирования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имулирующие познание и деятельность, используются в единстве с методами формирования сознания и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имулировать - значит побуждать, помогать наполнять смыслами, улучшать качество познавательной деятельности, создавать для нее благоприятные условия, в том числе и нравственные услов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 таким стимулирующим методам относятся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ощрение, порицание, наказание, создание ситуаций успеха, контроль, самоконтроль, оценка и самооценка и д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042920" y="20808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процессе воспитания необходимо побудить ребенка к осуществлению самовоспит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1280" y="1605960"/>
            <a:ext cx="8532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амовоспитани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- это процесс усвоения человеком опыта предшествующих поколений посредством внутренних душевных факторов, обеспечивающих развитие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это деятельность человека, направленная на изменение своей личности в соответствии с сознательно поставленными целями, сложившимися идеалами и убеждениями. Самовоспитание предполагает определенный уровень развития личности, ее самосознания, способности к ее анализу при сознательном сопоставлении своих поступков с поступками других люд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амообразовани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это система внутренней самоорганизации не усвоению опыта поколений, направленной на собственное развит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амообучени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- это процесс непосредственного получения человеком опыта поколений посредством собственных устремлений и самим выбранных сред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понятиях "самовоспитание", "самообразование", "самообучение " педагогика описывает внутренний духовный мир человека, его способность самостоятельно развивать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042560" y="1989000"/>
            <a:ext cx="770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4360" y="1261800"/>
            <a:ext cx="7991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деляют высокий и низкий уровни самовоспитуемости, саморазвиваемости и самообучаем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ысокий уровен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 инициатива без толчков и стимулов извне, самостоятельная постановка целей саморазвития, построение программы и ее стратегий, самопрогнозирование, перспективное целеполагание, внутренняя устойчивость и цельность. Построение новых смыслов (смыслообразование) в трудных условиях. Повседневная </a:t>
            </a:r>
            <a:r>
              <a:rPr b="1" lang="ru-RU" sz="1800" spc="-1" strike="noStrike">
                <a:solidFill>
                  <a:srgbClr val="1f4799"/>
                </a:solidFill>
                <a:latin typeface="Times New Roman"/>
              </a:rPr>
              <a:t>рефлекс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Владение приемами мобилизации и расслаблени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Низкий уровен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 отсутствие потребности и способности самому что-то делать для своего развития (что может сочетаться с высокой дисциплиной как исполнителя). Отсутствие внутреннего смысла и стержня существа личности. Отсутствие интереса к самоанализу. Напряженность и комплексы в учебной работ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1280" y="115920"/>
            <a:ext cx="8208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Самовоспитани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существляется в процессе самоуправления, которое строится на основе сформулированных человеком целей, программы действий, контроля за выполнением программы, оценки полученных результатов, самокоррек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06:34:13Z</dcterms:created>
  <dc:creator>User</dc:creator>
  <dc:description/>
  <dc:language>en-US</dc:language>
  <cp:lastModifiedBy>Пользователь</cp:lastModifiedBy>
  <dcterms:modified xsi:type="dcterms:W3CDTF">2011-02-14T14:06:50Z</dcterms:modified>
  <cp:revision>6</cp:revision>
  <dc:subject/>
  <dc:title>Слайд 1</dc:title>
</cp:coreProperties>
</file>