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D9A6-92ED-44AD-94BE-EDE76D65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B433-CA73-4B0C-851C-5EDD1E35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11D1-25A0-46DB-ACE8-58BEA99E1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C85F-DEA1-4C43-8D6A-ADEA204A6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D8CB-8ADB-4C61-8CD3-65C2A6AC4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08E9-B124-44DA-97A5-03E95BD2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0455-EFA1-4864-8FCA-C8D5FFEF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F67C-FF10-49D4-94A3-A38D67F8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D3A7-517C-4842-8E53-8E5CE37E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64CF-5624-4573-845F-0193F1D5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0B3E-B5AC-470D-8F59-6796C486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0221-07D6-408D-8D5A-9D8EEE6A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B88A-3C49-40D7-9217-BC825699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A873-E425-450A-9704-92CCDFAE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CD18-E61D-4726-A23A-44087ED5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926D-7FD6-434C-B875-BC2A2DA2F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9B6B-0543-469C-B84E-B9B22C4DD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35F12-0974-4160-AB04-2DF6E05DC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E47A8-D232-40AB-9B9B-ED1FAACF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8822C-05E0-45C8-8229-2DDE5C62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753C0-A5D6-4319-9037-3FDDB920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ABB3F-5820-4459-8C3B-19AC9891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4AD4-F6FA-416B-A04E-8A85557F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65913-64AD-4348-A90D-1DBAC863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88B72-3EA6-4F23-B904-504EA80A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7D9ED-DCEF-4FD0-A030-F8456213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91F24-E234-4C96-877D-1F9814F3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70D72-6E79-46A4-AC7A-A1BC12FD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A15AB-38EF-4C96-B906-D59BFDF94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987E9-387C-40FC-8B75-5B09BD328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F2E5E-D64A-4918-A1B6-B948AD60D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BCF65-676B-4736-BE92-DE693482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376AA-8A43-4A16-8B4F-CC6C1497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065C-4487-43AD-B5A5-D7B08150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2330B-07D5-4F9F-A495-92E1AF52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E0580-37ED-410C-B6B6-A66F06DA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B22A1-F4A7-437E-B5A5-B99146EE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E5707-CEE6-46BE-AD64-2889F418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0FD39-7E4C-4740-9896-97AC24AF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3291C-30D9-496B-8135-8508D85E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BF842-7A89-40DA-ACF7-49DBC1A0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9F787-16F8-4D93-920F-2162AFA5A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68546-BFEB-4CDE-B4D4-12C1D810D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83723-51AE-4D86-9169-AC3101540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0A53-7F5B-4C30-991E-CBFDBADC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0B7E8-5363-4FE7-913C-DE7E6741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45CDE-9838-4B2D-BE0C-71AB812E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6F166-0B1D-47CE-BC14-DC57C747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A9C85-05AA-4790-915A-08AF153E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AFCC7-BCF8-457F-AC56-344057E6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54202-9755-4D10-A7B5-164D6FBC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46D21-2723-456B-8B20-4E36C302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5C642-0818-42D1-A98C-4D18F4F1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E74AE-80B8-431F-BEB2-AF767684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FC497-2ACF-493A-9D08-EDA788B0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4D44-7293-4B4A-B34F-A44B2785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88168-66CB-4866-AF0B-5FBEF318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A2EA0-80F5-4A28-BFF9-FC529260A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40F82-4501-4F79-A76D-033F7C43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E46A9-A9BC-48E2-9845-59D8C5D9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F3073-A634-48E5-98DD-9A84B396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29D4A-D3BA-4008-816C-F2B526C7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939A4-2EDC-4BCA-9853-9626682C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612A3-5A95-4DC6-B7D5-1C945BE5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8AC0E-F9D6-4933-9E43-3448557F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48DB0-9DE0-458D-95AF-3F6020C1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D0E5-CA37-4174-9C3B-1FEC4DA1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51A89-68CC-455F-9218-89FB0D40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0C275-8A25-461B-93A7-7EA9ACA31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9F734-797F-4573-8194-7DD6C01E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25E67-3505-4251-A664-5496E381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63248-603B-4477-80AA-CD5525AD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A99BC-E394-4F5D-86D0-0D150EE8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F9DA3-082D-4D5D-B88A-29C2694C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B3267-EE99-4349-AB43-BC67247A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E1132-5B44-466F-A12C-8FB44F44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AA4E0-9050-4859-863D-40B45BD4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18D8-C80E-477A-ABFB-513785A8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41703-67C8-4992-AE58-360812E4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74CE7-10BF-4D15-B1CE-D55925A7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83481-B2C1-4123-8103-66BF97C5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A9DEE-A2A4-489E-A9FD-DDB288F4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A061E-D84A-4046-9C9A-E00DD73A5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CA37-3443-415A-9099-764C0D4A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E6A3-43AC-4EFA-ADF8-1073A673EAA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CAE2-C4CF-4D61-8E0F-010DDB9F8D5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DCB6-7E9C-48C6-AF9E-2B8C1A912DC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8BF2-17CA-454C-AAF2-219C9492CC6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6ACB-BF1C-49B9-A40E-1C47454F245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7C9A-1F43-488A-8A96-0E2A2925390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3DF1-7CE2-49BC-9FB8-CAA5A05D28D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AUSATIVE FORM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causative form ÑÐ°Ð±Ð»Ð¸ÑÐ° Ñ Ð¿ÑÐ¸Ð¼ÐµÑÐ°Ð¼Ð¸"/>
          <p:cNvPicPr/>
          <p:nvPr/>
        </p:nvPicPr>
        <p:blipFill>
          <a:blip r:embed="rId1"/>
          <a:srcRect l="0" t="39805" r="0" b="0"/>
          <a:stretch/>
        </p:blipFill>
        <p:spPr>
          <a:xfrm>
            <a:off x="357120" y="388800"/>
            <a:ext cx="878688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ассивная форм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Содержимое 2"/>
          <p:cNvSpPr/>
          <p:nvPr/>
        </p:nvSpPr>
        <p:spPr>
          <a:xfrm>
            <a:off x="1000080" y="4929120"/>
            <a:ext cx="81439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e has had her boyfriend propose her.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ень Джейн сделал ей предлож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e has got her boyfriend to propose her.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ейн удалось сподвигнуть своего парня сделать ей предлож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714240" y="1285560"/>
            <a:ext cx="8220240" cy="9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ассивной форме есть разница между каузативными глаголам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Содержимое 2"/>
          <p:cNvSpPr/>
          <p:nvPr/>
        </p:nvSpPr>
        <p:spPr>
          <a:xfrm>
            <a:off x="571680" y="2214720"/>
            <a:ext cx="857232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мы уже отмечали выше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пользуется при передаче ответственности, 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огда нам удается побудить человека что-то сделать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Содержимое 2"/>
          <p:cNvSpPr/>
          <p:nvPr/>
        </p:nvSpPr>
        <p:spPr>
          <a:xfrm>
            <a:off x="571680" y="3500280"/>
            <a:ext cx="857232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частую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ывает на результа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ожет означать, что действие уже выполнено, в то время как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ольше акцентирует н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е убежд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ассивная форм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6" name="Содержимое 2"/>
          <p:cNvSpPr/>
          <p:nvPr/>
        </p:nvSpPr>
        <p:spPr>
          <a:xfrm>
            <a:off x="1000080" y="1214280"/>
            <a:ext cx="8143920" cy="16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e has had her boyfriend propose her.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ень Джейн сделал ей предлож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e has got her boyfriend to propose her.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ейн удалось сподвигнуть своего парня сделать ей предлож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Содержимое 2"/>
          <p:cNvSpPr/>
          <p:nvPr/>
        </p:nvSpPr>
        <p:spPr>
          <a:xfrm>
            <a:off x="1000080" y="3500280"/>
            <a:ext cx="80010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ы используе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e Infinitiv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з частицы to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сл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де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Infinitiv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 частицей t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28440" y="4000320"/>
            <a:ext cx="780084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Каузатив описывает ситуацию, когда мы находим третьих лиц, которые выполнят какую-либо работу вместо нас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928440" y="500040"/>
            <a:ext cx="77295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то такое каузативная форм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wash my car every Saturday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Я мою машину каждую суббот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have my car wash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every Saturday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Мою машину моют каждую суббот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52480" y="28548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ausative form (to cause – 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буждать)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600" y="1523880"/>
            <a:ext cx="6637320" cy="16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have my car washe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every Saturda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Мою машину моют каждую суббот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000080" y="4071960"/>
            <a:ext cx="79344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кого рода предложениях подлежащее не является непосредственным исполнителем, оно выступает в качестве инициатора, является причиной, что действие будет совершено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Формы каузатив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142640" y="1523880"/>
            <a:ext cx="35002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а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особенностью является то, что исполнитель действия, как правило, будет обозначен – в предложении будет указано, кто конкретно выполняет работ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ивна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ент делается на самом действии, исполнитель либо понятен из контекста, либо эта информация не важна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ктивная форм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920"/>
            <a:ext cx="7499520" cy="18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have my legal representative sign all the agreement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Все соглашения подписывает мой юр.представител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Содержимое 2"/>
          <p:cNvSpPr/>
          <p:nvPr/>
        </p:nvSpPr>
        <p:spPr>
          <a:xfrm>
            <a:off x="428760" y="3286080"/>
            <a:ext cx="8715240" cy="18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ая форма образуется по схем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ежащее + каузативный глагол + исполнитель + инфини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ject  + have/ get/ let/ make/ help  + person    + 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Содержимое 2"/>
          <p:cNvSpPr/>
          <p:nvPr/>
        </p:nvSpPr>
        <p:spPr>
          <a:xfrm>
            <a:off x="1143000" y="5214960"/>
            <a:ext cx="728676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ли исполнителя будет выступать лицо, которое будет выполнять действ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аузативные глагол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000080" y="1447920"/>
            <a:ext cx="814392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ктивной форме их 5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, get, make, let, help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Содержимое 2"/>
          <p:cNvSpPr/>
          <p:nvPr/>
        </p:nvSpPr>
        <p:spPr>
          <a:xfrm>
            <a:off x="642960" y="1928880"/>
            <a:ext cx="850104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ся, когда мы перекладываем ответственность за выполнение действия на кого-то другого, переадресуем задачу (в большинстве случаев речь идёт о предоставлении нам каких-либо услуг, как правило на платной, выгодной основ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одержимое 2"/>
          <p:cNvSpPr/>
          <p:nvPr/>
        </p:nvSpPr>
        <p:spPr>
          <a:xfrm>
            <a:off x="642960" y="3857760"/>
            <a:ext cx="850104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ся, когда мы побуждаем кого-то к действию, пытаясь его убедить, сподвигнуть или каким-то образом вдохновить на его выполнение. Иногда он также может означать, что мы хитростью вынудили кого-то сделать то, что нам ну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Содержимое 2"/>
          <p:cNvSpPr/>
          <p:nvPr/>
        </p:nvSpPr>
        <p:spPr>
          <a:xfrm>
            <a:off x="642960" y="5786280"/>
            <a:ext cx="850104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daughter hates working in the garden. I can nev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wa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plants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аузативные глагол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Содержимое 2"/>
          <p:cNvSpPr/>
          <p:nvPr/>
        </p:nvSpPr>
        <p:spPr>
          <a:xfrm>
            <a:off x="642960" y="1285920"/>
            <a:ext cx="85010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ает разрешение на выполнение какой-либо зада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lways let my children watch some cartoons before going to bed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сегда разрешаю детям посмотреть немного мультиков перед сном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Содержимое 2"/>
          <p:cNvSpPr/>
          <p:nvPr/>
        </p:nvSpPr>
        <p:spPr>
          <a:xfrm>
            <a:off x="642960" y="3143160"/>
            <a:ext cx="85010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ся для приказов и распоряжений, имеет значение застав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made me act this way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заставила меня так поступ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Содержимое 2"/>
          <p:cNvSpPr/>
          <p:nvPr/>
        </p:nvSpPr>
        <p:spPr>
          <a:xfrm>
            <a:off x="642960" y="5000760"/>
            <a:ext cx="850104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чь кому-либо сделать что-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e helped me to clean the room. –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ейн помогла мне прибраться в комна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ассивная форм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Содержимое 2"/>
          <p:cNvSpPr/>
          <p:nvPr/>
        </p:nvSpPr>
        <p:spPr>
          <a:xfrm>
            <a:off x="571680" y="2857680"/>
            <a:ext cx="857232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ивная форма образуется по схем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ежащее + каузативный глагол + дополнение + 3я форма глаго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ject  +         have/ get  +           object    +       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Содержимое 2"/>
          <p:cNvSpPr/>
          <p:nvPr/>
        </p:nvSpPr>
        <p:spPr>
          <a:xfrm>
            <a:off x="1143000" y="4357800"/>
            <a:ext cx="72867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has flowers in her yard watered three times a week –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ы в ее дворе поливают три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а в нед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714240" y="1447560"/>
            <a:ext cx="8220240" cy="12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ассивной форм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ен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ла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сполнитель либо понятен из контекста, либо эта информация вообще не важн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Содержимое 2"/>
          <p:cNvSpPr/>
          <p:nvPr/>
        </p:nvSpPr>
        <p:spPr>
          <a:xfrm>
            <a:off x="571680" y="5286240"/>
            <a:ext cx="85723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, подобно активному каузативу, подлежащее (в нашем примере “Она”) не сама выполняет действие, а кто-то делает это за 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ассивная форм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85520" y="1142640"/>
            <a:ext cx="8219880" cy="12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ивный каузативный оборот может быть использован во всех видовременных формах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Picture 2" descr="causative form ÑÐ°Ð±Ð»Ð¸ÑÐ° Ñ Ð¿ÑÐ¸Ð¼ÐµÑÐ°Ð¼Ð¸"/>
          <p:cNvPicPr/>
          <p:nvPr/>
        </p:nvPicPr>
        <p:blipFill>
          <a:blip r:embed="rId1"/>
          <a:srcRect l="0" t="0" r="0" b="61097"/>
          <a:stretch/>
        </p:blipFill>
        <p:spPr>
          <a:xfrm>
            <a:off x="285840" y="2286000"/>
            <a:ext cx="86677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6T09:24:40Z</dcterms:created>
  <dc:creator>VR</dc:creator>
  <dc:description/>
  <dc:language>en-US</dc:language>
  <cp:lastModifiedBy>1</cp:lastModifiedBy>
  <dcterms:modified xsi:type="dcterms:W3CDTF">2019-12-17T19:20:12Z</dcterms:modified>
  <cp:revision>25</cp:revision>
  <dc:subject/>
  <dc:title>CAUSATIVE FORM</dc:title>
</cp:coreProperties>
</file>