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694-797A-4B3C-8493-967A9F6B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8AD-C402-47DE-8DDD-7974B43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66E-AE8D-419C-B8CF-15B76A46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D88-7286-431E-8BF6-0BA56FE5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39D-61AA-405F-A0A8-1CFCAFF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6FF-54ED-44A8-9943-28EED26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AEC-B183-4898-8D44-FC23B859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CD6-FAFE-4006-95EC-056FC297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4E5-694F-4389-8476-972E599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30D-B366-4A84-8CEB-FAD8F03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871-D9A2-420A-BAED-558D081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BBB-ED06-4DE5-A2FC-2FFE371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C932-700C-4C0C-83A9-57A872F7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Действительные и страдательные причас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337000">
            <a:off x="533160" y="464832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1120000">
            <a:off x="765000" y="52578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20316000">
            <a:off x="5257440" y="4572000"/>
            <a:ext cx="3200400" cy="189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0836800">
            <a:off x="5943240" y="51811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19320" y="152280"/>
            <a:ext cx="70866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Источник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мара Самойлова «Творческие и восстановленные диктан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Сведения об автор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полнила студентка факультета филологии, группы РЛа-16-1, Топоровская Анаст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590560" cy="253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514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9900cc"/>
                </a:solidFill>
                <a:latin typeface="Arial"/>
              </a:rPr>
              <a:t>Действительные причас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обозначают признак по действию, которое выполняется самим предметом 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звенящий колокольч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9900cc"/>
                </a:solidFill>
                <a:latin typeface="Arial"/>
              </a:rPr>
              <a:t>Страдательные причаст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бозначают признак по действию, которое направлено на определяемый предме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скошенная мамой трав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0726400">
            <a:off x="2743200" y="4800600"/>
            <a:ext cx="3048120" cy="180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4720" y="54100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Инструк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лайде будут появляться картинки. Ваша задача: придумать по два словосочетания к каждой карти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С действительным причас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Со страдательным причас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746784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228600" y="601992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3400" y="175212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cc"/>
                </a:solidFill>
                <a:latin typeface="Arial"/>
              </a:rPr>
              <a:t>1)Растущая на улице 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cc"/>
                </a:solidFill>
                <a:latin typeface="Arial"/>
              </a:rPr>
              <a:t>2)Роза, подаренная м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60760" cy="4648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0631600">
            <a:off x="5638320" y="4724280"/>
            <a:ext cx="2971800" cy="17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8440" y="525780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Поеха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7057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586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18:01:14Z</dcterms:created>
  <dc:creator>Анастасия Топоровская</dc:creator>
  <dc:description/>
  <dc:language>en-US</dc:language>
  <cp:lastModifiedBy>123</cp:lastModifiedBy>
  <dcterms:modified xsi:type="dcterms:W3CDTF">2019-12-18T07:49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