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DB7-24D8-4D39-89AD-7E0B6C75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5C1-5E21-4A93-81B0-CF605AE1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68080-61A9-4546-8019-FCC50BE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BB8C0-B076-4926-8F64-B15A98C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5333-9B07-490E-9F35-A571FC4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A76F6-49C5-4BE1-9BAD-98309DF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0DDBA-508C-4879-8D90-1E25BA6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2C895-3148-408A-89C6-FFA86EEA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0E919-6B5B-41F0-BA66-5B0350B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2CE7A-775F-4E6D-8A07-7DB475E0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FE94-6BDE-4BD1-8E39-47E34505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D9873-5927-48BD-9EDE-EAFA519D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9D5-DD2E-465D-8C31-A2BCBD0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8E45A-83EF-4B63-8CCE-AD98F14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38865-24B1-4B76-A1E6-8CECF009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8F0B-B1E7-4BD0-8614-92848CF6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4D5BB-1BF6-4702-92C6-B24FDC3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DB6E-8FF5-4F92-910E-B04D9A03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10271-CD73-4C0B-BE39-60CD6CC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01EB1-E531-47D8-B7E4-A164319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766E7-FDEA-409B-9E85-BE666EB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549E-9E41-4014-9480-96EE94A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48B25-0C65-41A9-89CF-8B1A2411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D01-F977-4758-A74C-D217D2A6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6B323-5214-4A37-8519-B76F0D31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24784-94B7-4E81-8C8B-1CB38381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71C52-90F0-4890-8E26-48F581C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4C632-C489-4286-A69B-16CDCEF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1BEBA-11C6-4EC7-9246-43ABCAF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A655-BCF3-4EE4-A29D-D9633EDB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B33F3-0DFF-4BB0-A402-18196187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99F7-92E2-4AF1-A464-BDF152F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37BD-C19D-48AD-8EB9-B63F6B9E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DD1C-A2D1-4332-8275-D37004D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E7F-46D9-41AD-B91B-8E2479CA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654D-A394-4466-B14D-08ACF5C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6757F-5355-4E7C-BCDA-C132C09D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28778-DB6D-45F3-B686-C731982D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0D2FD-E2BC-46C4-8C60-34148DF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654E0-A755-49DF-9633-9E00501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25F0A-26E1-4DE1-B323-8311C14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D38F3-EA6B-4A48-8D84-53AB6EC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3DBBE-62D7-451B-90FA-C080C20F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D21C-2559-4503-A722-D9DA7AF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D110D-B17A-4F40-B0B1-49EFD94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A27C-7112-41E0-B2D5-F31F2A5D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CC10-30E8-4FA7-A496-6BDE9B6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08675-A8A2-4CA8-81D8-CAA27D9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A27CD-99D0-4694-B3C1-A2BFF00F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A9A2-3D6D-4A4A-A517-3A1CB450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360B7-97A3-403A-AFDE-A2DFAABA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20802-9F86-401E-9B49-0A1476D7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106B4-8B6B-4380-B29F-B936B09C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BD4D2-B7A8-4F6F-853D-13C6B401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8908F-D704-4DC8-9CFB-3787225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348C0-1BC1-4A85-8BC4-6B9FBC28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73A-D530-4CDE-A654-EB9819F3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B58E9-45F0-4A01-A1BD-72BDD28D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46433-5A6C-4FCD-AA1F-5DC9901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38DF2-D9C8-4820-84CA-9C6ADF8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DE6E0-0B0B-40D4-9601-98DB78D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C6A17-F08C-4F3D-89A3-69DFEBC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9624A-266B-46E8-B4F7-45AD1D6A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C7224-6F5C-43AB-A200-6FCAB07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D23E6-D97E-4024-8E7D-9318FC6A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F55A8-52EB-441E-B05E-B15AB21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72B83-C576-493A-BC72-2B0FB31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1D4-C672-4BA6-891B-EDD6B70A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EB31E-56A8-4C5A-803D-09697EA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0896C-F363-4D0B-BFF5-270E4E9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41509-0C0B-498D-AACF-24428B8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56653-C941-4C79-8BFC-781C750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35462-5BCA-416B-9377-0FEC7F6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62372-22BF-4730-A78C-2B1676B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94B4F-6B24-4F0B-973E-4688C6BD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3A121-4D34-47AB-A714-C4C828F1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DB786-D8C2-4C49-8C9B-F8648549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6CDC7-63F4-46B4-B7F4-0AFDA38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F8D9-DE61-4A3D-957F-5EA7AF2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D34A0-AE3A-4377-96BE-5897BDED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E8F0E-37D8-426D-B154-A29FF99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16597-92D0-4190-86AB-24FA2C1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FF6E0-BFFC-42DA-94E0-EFA8D12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9C2AF-BFEC-4BB4-99D4-FC364B7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5B313-5D50-4619-8933-6E26924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32DB6-F9D9-4F19-BA9F-BEDEFB8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08577-5CD4-49F9-B18C-2784A21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FC63A-36A3-467F-9FFA-0C0EFED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7B5A9-1EF0-40F1-88E6-32A52DD5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DB19-C2EA-4E0F-A58A-5D3C055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C3322-52D9-4702-AEF1-2685305F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9ACCC-7603-48B6-BE54-C9BE94E1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708E4-39B7-4C33-8043-97D91C46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361F4-0200-4DA9-BEFE-7B889BD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52C92-24AE-40FC-AD4D-65D2A64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B5061-4E02-4ABD-8D8D-5502E20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4A72B-3EDF-4762-A5C5-AD5F506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C8BA3-D205-4EF5-A754-9624DE3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EF2E8-853B-451C-A57A-4662B14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44EDB-5323-4A1F-A4E3-6FF93D1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E26-413D-4F27-A1F5-3471B1A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0A0F4-5FC6-4579-91DE-EC1A14A1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62E04-0021-4492-9CCD-7167413A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018AA-6CDD-4A3F-90CD-23765D3E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DE567-E2CD-436C-B37C-7C446721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322BB-E0EF-45CB-80C3-1F72E685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8E2A6-A2E0-4690-8C90-027262DA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882A6-DCE2-4BA1-B951-1A0A3412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D5174-F468-4762-B833-DA6D148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0B5EA-D00D-488A-87D5-BB37402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47C2C-6AFF-41F1-823D-A0047BDD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BEA-89F0-4403-A612-DAA12FF1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1DBB-F399-48D3-9E90-E6E6153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D354C-9894-44D4-BD23-96A027C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E5E63-BE18-4E6B-9A10-0D36C43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DD60A-DF13-490C-B24B-FE645C42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D4D8B-37E1-4932-B9C4-FC735BB5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D7E69-FC05-46EE-98E8-AAE18382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56BE1-50ED-42EE-A0AB-20B181BA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E67B9-FD4C-4B1B-B26B-6C51867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DBB59-BE39-475B-9C84-387766C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56E81-5246-42ED-8E86-579760E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9D823-B72A-4F52-8E40-ECEAA2F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6478-EA72-4731-870A-536C02E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A645B-94C0-41A1-B67E-0B1FAA5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0F808-6C4B-4B0E-B20C-75263E8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C48A0-7385-4E26-99C0-05A77AD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FBE10-23F3-46BE-8160-3B6ED4C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0CE38-1D12-4C3D-91F8-5644217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806B8-1306-4119-8F8D-D8494DF8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D8779-2476-47E0-94B3-56296CD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4D009-5DF7-443F-92B7-9DB36354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E55FB-7F11-49F6-8F66-6C31C2D0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5251B-BA28-4204-9EF7-5D98CB6E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DD75-6699-451A-94A6-76B1CC4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577E8-B5A0-4389-96C7-85B01AB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BF1BB-20DB-476F-9ADD-37E94E0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698BE-BA1A-4F8E-AB83-44CFBC00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6B409-A533-4E69-A325-A5029B63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6C136-A569-4A41-9566-6E1FCFF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35615-99C6-4636-88E6-32662FB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E53A5-B514-4C96-848A-BC54B99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78D84-66E2-46A3-B278-55F0CCC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DA197-873E-4339-BECF-B37022C1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FBA1-5B92-4E5D-AF50-54540D43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A58C-5A98-46E7-BA8A-27FBC109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9B8E-8292-4FBE-9EB5-2A36E692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0585-98F5-4F35-A1FF-3FBA673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140C-F2D4-4316-A5C7-FF2AD85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C798-2703-4DFC-AAF3-22219E4B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A65F-1787-426B-8A93-E4EB7EE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8E0-DF72-49A5-8274-0228866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4BBB-FDD5-4193-99B6-2A4011A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0383-680F-44BA-A50B-B6CC0EFE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C104-EDBB-415A-8AF4-0CDE16C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3D3B-CBF6-45D9-BE06-18B814EB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A056-0E28-47A6-9D08-BDAEAB5A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9A15-EADA-475D-9E04-3E3E29B7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7F42-D4E9-48F8-9710-5182342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8275-8C3A-4238-8518-5C65DC5E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1421-5435-4E7B-9DA1-3C8298B7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920B-B4A2-4E9B-BCFB-A01A5BC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D05-AF4E-4EE3-BB53-25AEFCCF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6046-18AC-4721-AE9F-9DEB13F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6C82-79BE-4EDA-B02F-E73CCD2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768A-DF0E-45C0-9EDA-987FBC93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67FE-C451-4E1D-8DA2-3113248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8DA0-754C-4ED5-9485-6F89BC7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2491-1433-4E98-9603-3B17CA1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B5D0-5A87-4656-A1EE-FE79767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5E52-F79D-4E89-A595-7EFBBF08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44EC-D9A0-4D41-8AD0-4CBA583A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26D6-39A0-4DC4-8BCB-EDDD9004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75C-22D1-4ACB-97DA-0EC804B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CB7E-3636-43E2-A7E5-BF97A58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D858-014D-4251-8905-4050510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BA59-D903-4EA1-8205-79BEC9A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626C-CC81-459B-9573-040DF49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264A-8E9E-49D1-82EC-FBB5ED8B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506F-CB95-41C2-951D-57FCEA7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9B92E-6DD6-4038-B01E-AAD3FFD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59B4-083B-4B68-BBD2-3D24C27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9A03-5373-461E-A97F-54141B0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D360-20AF-4405-8E2E-3C48E587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A11-0F6B-411C-B652-17BD869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B30F-F4A2-42BE-A774-6902DDF1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45BC-E970-4862-88D4-B49233D7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2768-9F6C-49D1-9EA6-0AFF57F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F8CB-0446-449A-8F8F-6F413B19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D844-7A7B-49CF-BB8E-A062302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F992B-A5B5-438E-98F8-196C0CD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D1D2-895D-4A8C-BF4A-2FF42A2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068C-6CE2-4989-82F1-F18A007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DC48-DABC-41AF-BBD2-978C0CB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EAA3-1FBA-4C5E-93BE-A6D14EF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B67-4FB7-40DA-BFFE-43A93D4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8A481-6D65-4537-AF55-FFA135F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953C-1882-4F7C-A764-4840D4E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A823-3368-4673-ADB0-BE13D392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E7B9-42FC-416C-8373-ECB6E874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93D4-6078-46AC-BA1C-98FF277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EBBB7-07E3-4D18-8A99-2FABD41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24D15-3C6B-4177-9734-20E09B07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0C024-F13C-4F01-BEEC-DA422AA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2B6D9-E4FE-4CEB-90A1-996E6951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8A06-18E2-4B93-BFEF-220EE85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983-D5CC-48A2-AE67-20EADA9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BA4F-8823-439F-8E0C-81D7F32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C2BCF-D58B-4BD8-9CC5-F37D159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D41EC-6594-4099-A54A-AC3828E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9C3B-4425-490C-B852-0A1F2570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6771-A805-4573-97CF-5A976B3E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0683C-C5F9-424C-A1A2-8D331D1D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763D-C004-4477-830D-63B758DC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FE8C-23C8-4960-A430-78E7539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291E-64E9-4CB3-912E-8A9493E4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7E63-99CC-455F-AD4C-99FDF520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C50-70B3-4361-B35B-DAF0A21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67DD-1AB1-4F5A-BAC8-BA69D03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1A63-3A8B-4A5E-9F91-23C6C9C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DF84A-9B84-4F63-BA85-615AD07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D9B9D-F8C6-49C6-B478-21610FB1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E97D-68E1-45E9-B7FD-167CDB64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E0BD-CB4F-4167-990B-6206928C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3BBC-5B8E-4492-B242-839F7F00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9E46-013C-4C28-A570-B5BF8282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49F8A-608C-45FB-8A44-26543CE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6E415-1684-43D5-B5E8-3ADD9914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FFBE-BB17-436F-AECB-0D206A3C01DB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28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BA6-61DF-405D-911D-F76BA9692A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5A59-5C86-492C-9FF2-713AE5648B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523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11EB-C0E7-4404-8458-8EB0A2F659C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71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301A-F646-46EE-814B-4BB8CC5B78C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619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9CAC-2A5B-49E1-AD41-8B0D367543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667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F72-F40C-4118-A28F-FE5AD31342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0B4-31EA-49C3-AD7B-48954145105B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158-E88D-4F1C-A039-9F8FFA6F104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5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F00-26CD-43CB-93DB-99D28C732196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C8A1-50BB-4CA9-980C-3CB7B18C14D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127-38A1-4156-BA28-12B6B753B4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007-0A26-4333-AEB8-D4DD80C878E2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82B-0BDC-441A-9257-2578C2477993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2788-5143-40D3-914E-175FF9C98CE1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36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D023-702A-4818-A9B7-93219B1BE84A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4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BF5-741A-4430-8FCF-370097BF65D4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32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0D0A-42F2-40C1-BA55-036883707DB4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0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2229-87BB-4930-9FFC-699CF3C00192}" type="slidenum">
              <a:rPr b="0" lang="ru-RU" sz="1000" spc="-1" strike="noStrike">
                <a:solidFill>
                  <a:srgbClr val="c6e7fc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 rot="19140000">
            <a:off x="182520" y="1279080"/>
            <a:ext cx="6788160" cy="1719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УНИЦИПАЛЬНОЕ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ДОШКОЛЬНОЕ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ОБРАЗОВАТЕЛЬНОЕ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УЧРЕЖДЕНИЕ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lang="ru-RU" sz="2000" spc="-1" strike="noStrike">
                <a:solidFill>
                  <a:srgbClr val="00b050"/>
                </a:solidFill>
                <a:latin typeface="Candara"/>
              </a:rPr>
              <a:t>ДЕТСКИЙ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andara"/>
              </a:rPr>
              <a:t>САД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andara"/>
              </a:rPr>
              <a:t>КОМБИНИРОВАННОГО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andara"/>
              </a:rPr>
              <a:t>ВИДА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andara"/>
              </a:rPr>
              <a:t>№ </a:t>
            </a:r>
            <a:r>
              <a:rPr b="1" lang="ru-RU" sz="2000" spc="-1" strike="noStrike">
                <a:solidFill>
                  <a:srgbClr val="00b050"/>
                </a:solidFill>
                <a:latin typeface="Candara"/>
              </a:rPr>
              <a:t>176</a:t>
            </a:r>
            <a:r>
              <a:rPr b="1" lang="ru-RU" sz="1800" spc="-1" strike="noStrike">
                <a:solidFill>
                  <a:srgbClr val="00b050"/>
                </a:solidFill>
                <a:latin typeface="Candara"/>
              </a:rPr>
              <a:t>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«</a:t>
            </a:r>
            <a:r>
              <a:rPr b="1" lang="ru-RU" sz="3200" spc="-1" strike="noStrike">
                <a:solidFill>
                  <a:srgbClr val="f96a1b"/>
                </a:solidFill>
                <a:latin typeface="Candara"/>
              </a:rPr>
              <a:t>СОЛНЫШКО</a:t>
            </a: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 rot="19140000">
            <a:off x="1297800" y="2437920"/>
            <a:ext cx="6512040" cy="5940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87" name="Рисунок 8" descr="http://dg54.mycdn.me/getImage?photoId=541363493680&amp;photoType=0"/>
          <p:cNvPicPr/>
          <p:nvPr/>
        </p:nvPicPr>
        <p:blipFill>
          <a:blip r:embed="rId1"/>
          <a:stretch/>
        </p:blipFill>
        <p:spPr>
          <a:xfrm>
            <a:off x="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" descr="http://img.gorod.lv/images/news_item/pic/255078/original/168043749123f72dcfed5a0037.jpg"/>
          <p:cNvPicPr/>
          <p:nvPr/>
        </p:nvPicPr>
        <p:blipFill>
          <a:blip r:embed="rId2"/>
          <a:stretch/>
        </p:blipFill>
        <p:spPr>
          <a:xfrm>
            <a:off x="3929040" y="3500280"/>
            <a:ext cx="5214960" cy="3357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Заголовок 2" descr=""/>
          <p:cNvPicPr/>
          <p:nvPr/>
        </p:nvPicPr>
        <p:blipFill>
          <a:blip r:embed="rId1"/>
          <a:stretch/>
        </p:blipFill>
        <p:spPr>
          <a:xfrm>
            <a:off x="231840" y="328680"/>
            <a:ext cx="8521560" cy="2322360"/>
          </a:xfrm>
          <a:prstGeom prst="rect">
            <a:avLst/>
          </a:prstGeom>
          <a:ln w="0">
            <a:noFill/>
          </a:ln>
        </p:spPr>
      </p:pic>
      <p:pic>
        <p:nvPicPr>
          <p:cNvPr id="890" name="Содержимое 3" descr="http://sarinform.com/img/lenta/35969_1414149675.jpg"/>
          <p:cNvPicPr/>
          <p:nvPr/>
        </p:nvPicPr>
        <p:blipFill>
          <a:blip r:embed="rId2"/>
          <a:stretch/>
        </p:blipFill>
        <p:spPr>
          <a:xfrm>
            <a:off x="1000080" y="2571840"/>
            <a:ext cx="7286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447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месте с папой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ой папа и я – неразлучные друзья!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92" name="Содержимое 4" descr="http://www.kidlantis.com/wp-content/uploads/2010/01/Hasbro-Giraffalaff-Limbo.jpg"/>
          <p:cNvPicPr/>
          <p:nvPr/>
        </p:nvPicPr>
        <p:blipFill>
          <a:blip r:embed="rId1"/>
          <a:stretch/>
        </p:blipFill>
        <p:spPr>
          <a:xfrm>
            <a:off x="214200" y="1719360"/>
            <a:ext cx="8715600" cy="4924440"/>
          </a:xfrm>
          <a:prstGeom prst="rect">
            <a:avLst/>
          </a:prstGeom>
          <a:ln w="0">
            <a:noFill/>
          </a:ln>
        </p:spPr>
      </p:pic>
      <p:pic>
        <p:nvPicPr>
          <p:cNvPr id="893" name="Содержимое 4" descr="http://www.kidlantis.com/wp-content/uploads/2010/01/Hasbro-Giraffalaff-Limbo.jpg"/>
          <p:cNvPicPr/>
          <p:nvPr/>
        </p:nvPicPr>
        <p:blipFill>
          <a:blip r:embed="rId2"/>
          <a:stretch/>
        </p:blipFill>
        <p:spPr>
          <a:xfrm>
            <a:off x="214200" y="1714680"/>
            <a:ext cx="8715600" cy="4924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месте с мамой: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очке родной, любимой дорогой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95" name="Содержимое 3" descr="http://www.profimages.ru/upload/iblock/796/000043375_vsok.jpg"/>
          <p:cNvPicPr/>
          <p:nvPr/>
        </p:nvPicPr>
        <p:blipFill>
          <a:blip r:embed="rId1"/>
          <a:stretch/>
        </p:blipFill>
        <p:spPr>
          <a:xfrm>
            <a:off x="500040" y="2143080"/>
            <a:ext cx="8072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па, мама, брат и я –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амая счастливая семья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97" name="Содержимое 3" descr="http://vladmedicina.ru/files/news2/2239.jpg"/>
          <p:cNvPicPr/>
          <p:nvPr/>
        </p:nvPicPr>
        <p:blipFill>
          <a:blip r:embed="rId1"/>
          <a:stretch/>
        </p:blipFill>
        <p:spPr>
          <a:xfrm>
            <a:off x="785880" y="1785960"/>
            <a:ext cx="75722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14200" y="333360"/>
            <a:ext cx="8715600" cy="1881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 счастье в детях!</a:t>
            </a:r>
            <a:br>
              <a:rPr sz="6000"/>
            </a:br>
            <a:br>
              <a:rPr sz="2000"/>
            </a:br>
            <a:br>
              <a:rPr sz="2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Содержимое 4" descr="https://im3-tub-ru.yandex.net/i?id=57bc212c9a4f99a7adbd0ddcb9c9a0d5&amp;n=33&amp;h=170"/>
          <p:cNvPicPr/>
          <p:nvPr/>
        </p:nvPicPr>
        <p:blipFill>
          <a:blip r:embed="rId1"/>
          <a:stretch/>
        </p:blipFill>
        <p:spPr>
          <a:xfrm>
            <a:off x="214200" y="2214720"/>
            <a:ext cx="8715600" cy="4286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а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педагог дополнительного образования</a:t>
            </a:r>
            <a:br>
              <a:rPr sz="2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ляничева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Вера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Содержимое 3" descr="F:\Синдиткат 27.09.12день дош.раб\101MSDCF\DSC00363.JPG"/>
          <p:cNvPicPr/>
          <p:nvPr/>
        </p:nvPicPr>
        <p:blipFill>
          <a:blip r:embed="rId1"/>
          <a:stretch/>
        </p:blipFill>
        <p:spPr>
          <a:xfrm>
            <a:off x="5357880" y="2714760"/>
            <a:ext cx="3571920" cy="3786120"/>
          </a:xfrm>
          <a:prstGeom prst="rect">
            <a:avLst/>
          </a:prstGeom>
          <a:ln w="0">
            <a:noFill/>
          </a:ln>
        </p:spPr>
      </p:pic>
      <p:pic>
        <p:nvPicPr>
          <p:cNvPr id="902" name="Рисунок 4" descr="http://icewallpapers.ru/_ph/14/2/566172294.jpg"/>
          <p:cNvPicPr/>
          <p:nvPr/>
        </p:nvPicPr>
        <p:blipFill>
          <a:blip r:embed="rId2"/>
          <a:stretch/>
        </p:blipFill>
        <p:spPr>
          <a:xfrm>
            <a:off x="857160" y="4286160"/>
            <a:ext cx="3214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8:21:28Z</dcterms:created>
  <dc:creator>111</dc:creator>
  <dc:description/>
  <dc:language>en-US</dc:language>
  <cp:lastModifiedBy>Вера</cp:lastModifiedBy>
  <cp:lastPrinted>2014-04-11T08:20:44Z</cp:lastPrinted>
  <dcterms:modified xsi:type="dcterms:W3CDTF">2015-07-18T16:36:20Z</dcterms:modified>
  <cp:revision>94</cp:revision>
  <dc:subject/>
  <dc:title>Презентация PowerPoint</dc:title>
</cp:coreProperties>
</file>