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media/image26.png" ContentType="image/png"/>
  <Override PartName="/ppt/media/image14.png" ContentType="image/png"/>
  <Override PartName="/ppt/media/image25.jpeg" ContentType="image/jpe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ABA0-5D9E-4FA0-9413-6375C9CF72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222A-D810-4550-A020-19E19F8740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E0F5-9D5A-419C-AA51-B80D36BBC2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можно давать по мини-групп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2660-4B2D-4FAF-89CE-D13EC8C395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8E41-6D34-4371-93F5-BCDFBE51CD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19D8-11A8-43EF-B1CA-7A6F8CAEDD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ение строк – автоматически после первого щелчка мыши (с задержкой для чтения стро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7D52-A678-4073-8BE5-7EB1C99CF4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15D8-E563-4237-9A01-50DC713AFC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717C-57E7-44D1-93C6-05D51A57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D162-7F54-4A9A-9DB5-5E6028C8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9D01-EE8B-474C-AFDA-E53AD8E3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46A8-2452-40B4-8524-9CD91125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CEE-C0C2-44E0-8A85-4DDD32A8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5BF8-A09E-463F-AC2D-04772152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778-7439-418A-9AE4-DFFDA970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64D5-237D-4390-BA09-D43F4A05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CE14-E8A0-4FD5-8AF5-E21CF2D5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54FF-A1A4-4E43-860A-1D5A6BBC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1780-D36F-4608-9FE6-8C783B65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42EA-F149-4E21-9E56-AF383279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F2B9-84B3-44EC-995F-4B29D01A15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2997360"/>
            <a:ext cx="7772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ff"/>
                </a:solidFill>
                <a:latin typeface="Monotype Corsiva"/>
              </a:rPr>
              <a:t>Мораль и нравственность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8800"/>
            </a:b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24640" y="5229360"/>
            <a:ext cx="55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подаватель : Лавренюк Н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8678880" y="501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ТЕРИЙ  МОРАЛЬНОГО 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428760" y="121428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ЖЕ РАЗЛИЧИТЬ ДОБРО И ЗЛО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3"/>
          <p:cNvSpPr/>
          <p:nvPr/>
        </p:nvSpPr>
        <p:spPr>
          <a:xfrm>
            <a:off x="500040" y="1714680"/>
            <a:ext cx="8001000" cy="47145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ЛИЧИЕ УВАЖЕНИЯ К ЧЕЛОВЕЧЕСКОМУ ДОСТОИНСТВУ В РЕАЛЬНЫХ ДЕЛАХ И ПОСТУПКАХ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– ОСНОВНОЙ КРИТЕРИЙ МОРАЛИ, ПО КОТОРОМУ  МОЖНО РАЗЛИЧАТЬ   ДОБРО И  З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ТО  ГЛАВНЫЙ ПРИНЦИП МОРАЛИ </a:t>
            </a:r>
            <a:r>
              <a:rPr b="1" i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  ГУМАНИЗМ</a:t>
            </a: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2143080" y="285840"/>
            <a:ext cx="5286600" cy="64296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Прямоугольник 2" descr=""/>
          <p:cNvPicPr/>
          <p:nvPr/>
        </p:nvPicPr>
        <p:blipFill>
          <a:blip r:embed="rId1"/>
          <a:stretch/>
        </p:blipFill>
        <p:spPr>
          <a:xfrm>
            <a:off x="2139840" y="274680"/>
            <a:ext cx="5199120" cy="108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285840" y="928800"/>
          <a:ext cx="8572320" cy="5425920"/>
        </p:xfrm>
        <a:graphic>
          <a:graphicData uri="http://schemas.openxmlformats.org/drawingml/2006/table">
            <a:tbl>
              <a:tblPr/>
              <a:tblGrid>
                <a:gridCol w="2857320"/>
                <a:gridCol w="2857680"/>
                <a:gridCol w="2857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Когда мальчик был маленький, люди говорил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У этого ребёнка жадная мать: она никогда не даст ему даже конфетки, не разделив её попола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Когда мальчик вырос, люди говорил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У этого парня счастливая мать: он никогда не съест куска, не разделив его с ней попола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Лежало на пути бревн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ешало путникам он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дин сказа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—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Нехорошо! 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каз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 знай себе пошё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торой взгляну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отом вздохну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 то брев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ерешагну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А третий путник промолча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н с виду бы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 хил и ма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н мол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кинул полушуб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 в стор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Бревно убра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Зайчиха, сидя у пеньк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чила шустрого сынк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— </a:t>
                      </a: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Будь сме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е хвастай и не ври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Чужой капусты не бери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е жми при встреч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олчьих лап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е обижай того, кто слаб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е смейся над чужой бедой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 голодным поделись едой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00000" y="549360"/>
          <a:ext cx="7315200" cy="1368360"/>
        </p:xfrm>
        <a:graphic>
          <a:graphicData uri="http://schemas.openxmlformats.org/drawingml/2006/table">
            <a:tbl>
              <a:tblPr/>
              <a:tblGrid>
                <a:gridCol w="2438640"/>
                <a:gridCol w="2438280"/>
                <a:gridCol w="243828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ЦЕНИ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ЕГУЛИРО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ОСПИТЫ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Прямоугольник 2" descr=""/>
          <p:cNvPicPr/>
          <p:nvPr/>
        </p:nvPicPr>
        <p:blipFill>
          <a:blip r:embed="rId1"/>
          <a:stretch/>
        </p:blipFill>
        <p:spPr>
          <a:xfrm>
            <a:off x="841320" y="2206800"/>
            <a:ext cx="7559640" cy="197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403280" y="4365720"/>
          <a:ext cx="6096240" cy="6588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Отличие морали  от пр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268280"/>
          <a:ext cx="8229600" cy="4994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жает мнение обще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жает волю государства, государственный подход к оценке общественных явле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ируются  обществом        (людь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навливаются и фиксируются государств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ествуют как свод неписаных правил в виде поучений и прит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ируются  в письменном виде в юридических акт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оценки поведения используют критерии « честно-нечестно», «нравственно-ненравствен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оценки поведения используют  критерии « правомерно-неправомерно», «законно-незаконно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ять или нет , решает сам  челове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ы для исполнения все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ъявляет требования к поступкам,мыслям,чувств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улирует только поступки и действия челове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Мораль и пра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600200"/>
          <a:ext cx="8229600" cy="4417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 для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 вырабатывае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 закреплено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законах государ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письменного  закреп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вы последствия нарушени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тупает юридическая ответств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енное осуждение , критика «угрызения совест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яза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регулир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Служат для  регулирования и оценки поступков обществ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642960" y="642960"/>
            <a:ext cx="2214720" cy="107172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4" descr=""/>
          <p:cNvPicPr/>
          <p:nvPr/>
        </p:nvPicPr>
        <p:blipFill>
          <a:blip r:embed="rId1"/>
          <a:stretch/>
        </p:blipFill>
        <p:spPr>
          <a:xfrm>
            <a:off x="853920" y="689040"/>
            <a:ext cx="1865520" cy="10476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5"/>
          <p:cNvSpPr/>
          <p:nvPr/>
        </p:nvSpPr>
        <p:spPr>
          <a:xfrm>
            <a:off x="3286080" y="571680"/>
            <a:ext cx="2143080" cy="121428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Прямоугольник 6" descr=""/>
          <p:cNvPicPr/>
          <p:nvPr/>
        </p:nvPicPr>
        <p:blipFill>
          <a:blip r:embed="rId2"/>
          <a:stretch/>
        </p:blipFill>
        <p:spPr>
          <a:xfrm>
            <a:off x="3206880" y="695160"/>
            <a:ext cx="2273040" cy="10368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7"/>
          <p:cNvSpPr/>
          <p:nvPr/>
        </p:nvSpPr>
        <p:spPr>
          <a:xfrm>
            <a:off x="5643720" y="500040"/>
            <a:ext cx="2928960" cy="150012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8" descr=""/>
          <p:cNvPicPr/>
          <p:nvPr/>
        </p:nvPicPr>
        <p:blipFill>
          <a:blip r:embed="rId3"/>
          <a:stretch/>
        </p:blipFill>
        <p:spPr>
          <a:xfrm>
            <a:off x="5376960" y="615960"/>
            <a:ext cx="3200400" cy="15732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9"/>
          <p:cNvSpPr/>
          <p:nvPr/>
        </p:nvSpPr>
        <p:spPr>
          <a:xfrm>
            <a:off x="684360" y="2421000"/>
            <a:ext cx="2214360" cy="121428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10" descr=""/>
          <p:cNvPicPr/>
          <p:nvPr/>
        </p:nvPicPr>
        <p:blipFill>
          <a:blip r:embed="rId4"/>
          <a:stretch/>
        </p:blipFill>
        <p:spPr>
          <a:xfrm>
            <a:off x="920880" y="2395440"/>
            <a:ext cx="2133360" cy="144468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1"/>
          <p:cNvSpPr/>
          <p:nvPr/>
        </p:nvSpPr>
        <p:spPr>
          <a:xfrm>
            <a:off x="5572080" y="2428920"/>
            <a:ext cx="3103560" cy="121428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12" descr=""/>
          <p:cNvPicPr/>
          <p:nvPr/>
        </p:nvPicPr>
        <p:blipFill>
          <a:blip r:embed="rId5"/>
          <a:stretch/>
        </p:blipFill>
        <p:spPr>
          <a:xfrm>
            <a:off x="5278320" y="2822400"/>
            <a:ext cx="3206880" cy="895680"/>
          </a:xfrm>
          <a:prstGeom prst="rect">
            <a:avLst/>
          </a:prstGeom>
          <a:ln w="0">
            <a:noFill/>
          </a:ln>
        </p:spPr>
      </p:pic>
      <p:sp>
        <p:nvSpPr>
          <p:cNvPr id="92" name="Овал 13"/>
          <p:cNvSpPr/>
          <p:nvPr/>
        </p:nvSpPr>
        <p:spPr>
          <a:xfrm>
            <a:off x="3357720" y="4357800"/>
            <a:ext cx="2357280" cy="1428480"/>
          </a:xfrm>
          <a:prstGeom prst="ellipse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14" descr=""/>
          <p:cNvPicPr/>
          <p:nvPr/>
        </p:nvPicPr>
        <p:blipFill>
          <a:blip r:embed="rId6"/>
          <a:stretch/>
        </p:blipFill>
        <p:spPr>
          <a:xfrm>
            <a:off x="3554280" y="4705200"/>
            <a:ext cx="2035440" cy="671760"/>
          </a:xfrm>
          <a:prstGeom prst="rect">
            <a:avLst/>
          </a:prstGeom>
          <a:ln w="0">
            <a:noFill/>
          </a:ln>
        </p:spPr>
      </p:pic>
      <p:cxnSp>
        <p:nvCxnSpPr>
          <p:cNvPr id="94" name="Прямая со стрелкой 16"/>
          <p:cNvCxnSpPr/>
          <p:nvPr/>
        </p:nvCxnSpPr>
        <p:spPr>
          <a:xfrm flipV="1">
            <a:off x="4500720" y="2071080"/>
            <a:ext cx="72000" cy="2143800"/>
          </a:xfrm>
          <a:prstGeom prst="straightConnector1">
            <a:avLst/>
          </a:prstGeom>
          <a:ln w="9360">
            <a:solidFill>
              <a:srgbClr val="fafaf1"/>
            </a:solidFill>
            <a:miter/>
            <a:tailEnd len="med" type="arrow" w="med"/>
          </a:ln>
        </p:spPr>
      </p:cxnSp>
      <p:cxnSp>
        <p:nvCxnSpPr>
          <p:cNvPr id="95" name="Прямая со стрелкой 18"/>
          <p:cNvCxnSpPr>
            <a:stCxn id="92" idx="0"/>
          </p:cNvCxnSpPr>
          <p:nvPr/>
        </p:nvCxnSpPr>
        <p:spPr>
          <a:xfrm flipV="1">
            <a:off x="4534560" y="1785600"/>
            <a:ext cx="108360" cy="2572560"/>
          </a:xfrm>
          <a:prstGeom prst="straightConnector1">
            <a:avLst/>
          </a:prstGeom>
          <a:ln w="9360">
            <a:solidFill>
              <a:srgbClr val="fafaf1"/>
            </a:solidFill>
            <a:miter/>
            <a:tailEnd len="med" type="arrow" w="med"/>
          </a:ln>
        </p:spPr>
      </p:cxnSp>
      <p:cxnSp>
        <p:nvCxnSpPr>
          <p:cNvPr id="96" name="Прямая со стрелкой 20"/>
          <p:cNvCxnSpPr/>
          <p:nvPr/>
        </p:nvCxnSpPr>
        <p:spPr>
          <a:xfrm flipV="1">
            <a:off x="4356720" y="1999440"/>
            <a:ext cx="143640" cy="2072520"/>
          </a:xfrm>
          <a:prstGeom prst="straightConnector1">
            <a:avLst/>
          </a:prstGeom>
          <a:ln w="9360">
            <a:solidFill>
              <a:srgbClr val="fafaf1"/>
            </a:solidFill>
            <a:miter/>
            <a:tailEnd len="med" type="arrow" w="med"/>
          </a:ln>
        </p:spPr>
      </p:cxnSp>
      <p:cxnSp>
        <p:nvCxnSpPr>
          <p:cNvPr id="97" name="Прямая со стрелкой 24"/>
          <p:cNvCxnSpPr/>
          <p:nvPr/>
        </p:nvCxnSpPr>
        <p:spPr>
          <a:xfrm flipV="1">
            <a:off x="4356720" y="1856880"/>
            <a:ext cx="214920" cy="2501280"/>
          </a:xfrm>
          <a:prstGeom prst="straightConnector1">
            <a:avLst/>
          </a:prstGeom>
          <a:ln w="9360">
            <a:solidFill>
              <a:srgbClr val="fafaf1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8" name="Соединительная линия уступом 28"/>
          <p:cNvCxnSpPr/>
          <p:nvPr/>
        </p:nvCxnSpPr>
        <p:spPr>
          <a:xfrm flipV="1" rot="16200000">
            <a:off x="3357000" y="3142800"/>
            <a:ext cx="1000800" cy="857880"/>
          </a:xfrm>
          <a:prstGeom prst="bentConnector3">
            <a:avLst>
              <a:gd name="adj1" fmla="val 49982"/>
            </a:avLst>
          </a:prstGeom>
          <a:ln w="9360">
            <a:solidFill>
              <a:srgbClr val="fafaf1"/>
            </a:solidFill>
            <a:miter/>
            <a:tailEnd len="med" type="arrow" w="med"/>
          </a:ln>
        </p:spPr>
      </p:cxnSp>
      <p:cxnSp>
        <p:nvCxnSpPr>
          <p:cNvPr id="99" name="Прямая со стрелкой 31"/>
          <p:cNvCxnSpPr>
            <a:stCxn id="88" idx="3"/>
            <a:endCxn id="92" idx="0"/>
          </p:cNvCxnSpPr>
          <p:nvPr/>
        </p:nvCxnSpPr>
        <p:spPr>
          <a:xfrm>
            <a:off x="2898360" y="3027240"/>
            <a:ext cx="1639080" cy="133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0" name="Прямая со стрелкой 34"/>
          <p:cNvCxnSpPr>
            <a:endCxn id="92" idx="0"/>
          </p:cNvCxnSpPr>
          <p:nvPr/>
        </p:nvCxnSpPr>
        <p:spPr>
          <a:xfrm>
            <a:off x="2500200" y="1785960"/>
            <a:ext cx="2036160" cy="2572560"/>
          </a:xfrm>
          <a:prstGeom prst="straightConnector1">
            <a:avLst/>
          </a:prstGeom>
          <a:ln w="9360">
            <a:solidFill>
              <a:srgbClr val="fafaf1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1" name="Прямая со стрелкой 37"/>
          <p:cNvCxnSpPr>
            <a:endCxn id="92" idx="0"/>
          </p:cNvCxnSpPr>
          <p:nvPr/>
        </p:nvCxnSpPr>
        <p:spPr>
          <a:xfrm>
            <a:off x="4357800" y="1857240"/>
            <a:ext cx="178200" cy="2501280"/>
          </a:xfrm>
          <a:prstGeom prst="straightConnector1">
            <a:avLst/>
          </a:prstGeom>
          <a:ln w="9360">
            <a:solidFill>
              <a:srgbClr val="fafaf1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2" name="Прямая со стрелкой 39"/>
          <p:cNvCxnSpPr/>
          <p:nvPr/>
        </p:nvCxnSpPr>
        <p:spPr>
          <a:xfrm>
            <a:off x="4500720" y="1785960"/>
            <a:ext cx="143280" cy="2572560"/>
          </a:xfrm>
          <a:prstGeom prst="straightConnector1">
            <a:avLst/>
          </a:prstGeom>
          <a:ln w="9360">
            <a:solidFill>
              <a:srgbClr val="fafaf1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3" name="Прямая со стрелкой 41"/>
          <p:cNvCxnSpPr>
            <a:stCxn id="84" idx="2"/>
            <a:endCxn id="92" idx="0"/>
          </p:cNvCxnSpPr>
          <p:nvPr/>
        </p:nvCxnSpPr>
        <p:spPr>
          <a:xfrm>
            <a:off x="4357800" y="1785960"/>
            <a:ext cx="178200" cy="2572560"/>
          </a:xfrm>
          <a:prstGeom prst="straightConnector1">
            <a:avLst/>
          </a:prstGeom>
          <a:ln w="9360">
            <a:solidFill>
              <a:srgbClr val="fafaf1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4" name="Прямая со стрелкой 42"/>
          <p:cNvCxnSpPr/>
          <p:nvPr/>
        </p:nvCxnSpPr>
        <p:spPr>
          <a:xfrm>
            <a:off x="4213800" y="1785600"/>
            <a:ext cx="321480" cy="253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Прямая со стрелкой 46"/>
          <p:cNvCxnSpPr>
            <a:endCxn id="92" idx="0"/>
          </p:cNvCxnSpPr>
          <p:nvPr/>
        </p:nvCxnSpPr>
        <p:spPr>
          <a:xfrm>
            <a:off x="2570760" y="1714680"/>
            <a:ext cx="1964520" cy="264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6" name="Прямая со стрелкой 49"/>
          <p:cNvCxnSpPr/>
          <p:nvPr/>
        </p:nvCxnSpPr>
        <p:spPr>
          <a:xfrm flipH="1">
            <a:off x="4536360" y="2928960"/>
            <a:ext cx="1035720" cy="139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7" name="Прямая со стрелкой 52"/>
          <p:cNvCxnSpPr/>
          <p:nvPr/>
        </p:nvCxnSpPr>
        <p:spPr>
          <a:xfrm flipH="1">
            <a:off x="4536360" y="1785600"/>
            <a:ext cx="1035720" cy="253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обро и з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олг и справедл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есть и достоинство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частье, совесть, сты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оральный иде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остоинство, добродетель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Нравственность-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    </a:t>
            </a: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практическая мора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70c0"/>
                </a:solidFill>
                <a:latin typeface="Arial"/>
              </a:rPr>
              <a:t>Критерии мор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3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Чем отличается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нравственность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от морали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0"/>
          <p:cNvSpPr/>
          <p:nvPr/>
        </p:nvSpPr>
        <p:spPr>
          <a:xfrm>
            <a:off x="4572000" y="5886360"/>
            <a:ext cx="4176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р сущ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250920" y="5886360"/>
            <a:ext cx="4176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р долж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4572000" y="1258920"/>
            <a:ext cx="417672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7030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ЭТО ЧАСТЬ ЖИЗНИ,ТЕСНО СВЯЗАННОЙ С ОБЫЧАЯМИ, ПРАКТИКОЙ  ПОВЕДЕНИЯ 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7030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посту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324000" y="1052640"/>
            <a:ext cx="417672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buClr>
                <a:srgbClr val="7030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ЭТО РАЗМЫШЛЕНИЯ  ЧЕЛОВЕКА. ФОРМУЛИРУЮТСЯ  ПРАВИЛА ПОВЕДЕНИЯ.  К МОРАЛИ  ОТНОСЯТСЯ  - ПРИНЦИП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ИДЕА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Н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572000" y="352440"/>
            <a:ext cx="4176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Нравственнос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95280" y="352440"/>
            <a:ext cx="4176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Морал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0" y="352440"/>
            <a:ext cx="835344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395280" y="1052640"/>
            <a:ext cx="8353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395280" y="6451560"/>
            <a:ext cx="8353440" cy="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3"/>
          <p:cNvSpPr/>
          <p:nvPr/>
        </p:nvSpPr>
        <p:spPr>
          <a:xfrm>
            <a:off x="0" y="352440"/>
            <a:ext cx="0" cy="588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4"/>
          <p:cNvSpPr/>
          <p:nvPr/>
        </p:nvSpPr>
        <p:spPr>
          <a:xfrm>
            <a:off x="4572000" y="404640"/>
            <a:ext cx="0" cy="604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5"/>
          <p:cNvSpPr/>
          <p:nvPr/>
        </p:nvSpPr>
        <p:spPr>
          <a:xfrm>
            <a:off x="9144000" y="352440"/>
            <a:ext cx="0" cy="588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395280" y="5884920"/>
            <a:ext cx="8353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СТВЕННОСТЬ. МОРА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285840" y="1268280"/>
            <a:ext cx="3000240" cy="2521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РАВСТВЕННОСТЬ  МОЖЕТ БЫТЬ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ДОБРОЙ  И ЗЛ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 С ВОЛКАМИ ЖИТЬ, ПО ВОЛЧЬИ  ВЫ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трелка вправо 3"/>
          <p:cNvSpPr/>
          <p:nvPr/>
        </p:nvSpPr>
        <p:spPr>
          <a:xfrm>
            <a:off x="3714840" y="22860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Прямоугольник 4"/>
          <p:cNvGrpSpPr/>
          <p:nvPr/>
        </p:nvGrpSpPr>
        <p:grpSpPr>
          <a:xfrm>
            <a:off x="5052960" y="1122480"/>
            <a:ext cx="3610080" cy="2608200"/>
            <a:chOff x="5052960" y="1122480"/>
            <a:chExt cx="3610080" cy="2608200"/>
          </a:xfrm>
        </p:grpSpPr>
        <p:pic>
          <p:nvPicPr>
            <p:cNvPr id="128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5052960" y="1122480"/>
              <a:ext cx="3610080" cy="26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072040" y="1143000"/>
              <a:ext cx="357192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ЛОЙ  НРАВСТВЕННОСТИ  ПРОТИВОСТОИТ 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- МОРАЛЬ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МОРАЛЬ НАЧИНАЕТСЯ  ТАМ, ГДЕ ОДИН  ЧЕЛОВЕК  ПОЗАБОТИЛСЯ  О ДРУГО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Это  суть нравственного челове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Прямоугольник 5"/>
          <p:cNvSpPr/>
          <p:nvPr/>
        </p:nvSpPr>
        <p:spPr>
          <a:xfrm>
            <a:off x="1357200" y="3571920"/>
            <a:ext cx="6500880" cy="2857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ЛОВЕК  ОБЛАДАЕТ СВОБОДОЙ ВЫБОРА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МЕНИЕ  ПОСТУПАТЬ В СООТВЕТСТВИИ  С ДОБРОЙ НРАВСТВЕН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ОГИЕ  УЧЕНЫЕ  СЧИТАЮТ  СМЫСЛОМ 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АЯ  ТОЧКА ЗРЕНИЯ- ЧТО НЕТ  ДЕЛЕНИЯ  НРАВСТВЕННОСТИ НА ДОБРУЮ И ЗЛУЮ,А НРАВСТВЕННОСТЬ  ТОЛЬКО ДОБР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ТЬЯ ТОЧКА ЗРЕНИЯ-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ЧТО НЕТ  ЧЕТКО ВЫРАЖЕННЫХ  МОРАЛЬНЫХ НОРМ.  ОНИ  МЕН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7" descr=""/>
          <p:cNvPicPr/>
          <p:nvPr/>
        </p:nvPicPr>
        <p:blipFill>
          <a:blip r:embed="rId4"/>
          <a:stretch/>
        </p:blipFill>
        <p:spPr>
          <a:xfrm>
            <a:off x="7858080" y="115920"/>
            <a:ext cx="9144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Garamond"/>
              </a:rPr>
              <a:t> </a:t>
            </a:r>
            <a:r>
              <a:rPr b="1" i="1" lang="ru-RU" sz="3600" spc="-1" strike="noStrike">
                <a:solidFill>
                  <a:srgbClr val="00b0f0"/>
                </a:solidFill>
                <a:latin typeface="Garamond"/>
              </a:rPr>
              <a:t>«Проверяйте свои поступки сознанием: не причиняете ли вы зла, неприятностей, неудобств людям своими поступками. Делайте так, чтобы людям, которые окружают вас, было хорошо»</a:t>
            </a:r>
            <a:br>
              <a:rPr sz="3600"/>
            </a:br>
            <a:br>
              <a:rPr sz="3600"/>
            </a:br>
            <a:r>
              <a:rPr b="0" i="1" lang="ru-RU" sz="3200" spc="-1" strike="noStrike">
                <a:solidFill>
                  <a:srgbClr val="00b0f0"/>
                </a:solidFill>
                <a:latin typeface="Arial"/>
              </a:rPr>
              <a:t>                       </a:t>
            </a:r>
            <a:r>
              <a:rPr b="1" i="1" lang="ru-RU" sz="3200" spc="-1" strike="noStrike">
                <a:solidFill>
                  <a:srgbClr val="00b0f0"/>
                </a:solidFill>
                <a:latin typeface="Arial Black"/>
              </a:rPr>
              <a:t>В. А. 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f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Злая и добрая нравств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мульфильм добро и зло.mp4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848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9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Book Antiqua"/>
              </a:rPr>
              <a:t>МОРАЛЬНАЯ ОТВЕТСТВЕННОСТЬ- ЭТО СПОСОБНОСТЬ ПРЕДВИДЕТЬ  ПОСЛЕДСТВИЯ  ПОСТУП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притча о яблоке.mp4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848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5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Моральный выбо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5"/>
          <p:cNvSpPr/>
          <p:nvPr/>
        </p:nvSpPr>
        <p:spPr>
          <a:xfrm>
            <a:off x="2928960" y="1643040"/>
            <a:ext cx="2928960" cy="78588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Прямоугольник 6" descr=""/>
          <p:cNvPicPr/>
          <p:nvPr/>
        </p:nvPicPr>
        <p:blipFill>
          <a:blip r:embed="rId1"/>
          <a:stretch/>
        </p:blipFill>
        <p:spPr>
          <a:xfrm>
            <a:off x="3292560" y="1755720"/>
            <a:ext cx="2230200" cy="66348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7"/>
          <p:cNvSpPr/>
          <p:nvPr/>
        </p:nvSpPr>
        <p:spPr>
          <a:xfrm>
            <a:off x="1000080" y="2428920"/>
            <a:ext cx="2286000" cy="100008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Прямоугольник 8" descr=""/>
          <p:cNvPicPr/>
          <p:nvPr/>
        </p:nvPicPr>
        <p:blipFill>
          <a:blip r:embed="rId2"/>
          <a:stretch/>
        </p:blipFill>
        <p:spPr>
          <a:xfrm>
            <a:off x="1206360" y="2743200"/>
            <a:ext cx="2103480" cy="79848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9"/>
          <p:cNvSpPr/>
          <p:nvPr/>
        </p:nvSpPr>
        <p:spPr>
          <a:xfrm>
            <a:off x="4857840" y="2428920"/>
            <a:ext cx="3857400" cy="107136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Прямоугольник 10" descr=""/>
          <p:cNvPicPr/>
          <p:nvPr/>
        </p:nvPicPr>
        <p:blipFill>
          <a:blip r:embed="rId3"/>
          <a:stretch/>
        </p:blipFill>
        <p:spPr>
          <a:xfrm>
            <a:off x="5065560" y="2401920"/>
            <a:ext cx="3584880" cy="126828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11" descr=""/>
          <p:cNvPicPr/>
          <p:nvPr/>
        </p:nvPicPr>
        <p:blipFill>
          <a:blip r:embed="rId4"/>
          <a:stretch/>
        </p:blipFill>
        <p:spPr>
          <a:xfrm>
            <a:off x="3638520" y="3035160"/>
            <a:ext cx="884160" cy="628920"/>
          </a:xfrm>
          <a:prstGeom prst="rect">
            <a:avLst/>
          </a:prstGeom>
          <a:ln w="0">
            <a:noFill/>
          </a:ln>
        </p:spPr>
      </p:pic>
      <p:sp>
        <p:nvSpPr>
          <p:cNvPr id="144" name="Дуга 13"/>
          <p:cNvSpPr/>
          <p:nvPr/>
        </p:nvSpPr>
        <p:spPr>
          <a:xfrm flipV="1">
            <a:off x="1714680" y="1213200"/>
            <a:ext cx="5286240" cy="1143000"/>
          </a:xfrm>
          <a:prstGeom prst="pie">
            <a:avLst/>
          </a:prstGeom>
          <a:noFill/>
          <a:ln w="936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Прямоугольник 14" descr=""/>
          <p:cNvPicPr/>
          <p:nvPr/>
        </p:nvPicPr>
        <p:blipFill>
          <a:blip r:embed="rId5"/>
          <a:stretch/>
        </p:blipFill>
        <p:spPr>
          <a:xfrm>
            <a:off x="1517760" y="3981600"/>
            <a:ext cx="621180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естики-нол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143080" y="1214280"/>
          <a:ext cx="4896000" cy="3673800"/>
        </p:xfrm>
        <a:graphic>
          <a:graphicData uri="http://schemas.openxmlformats.org/drawingml/2006/table">
            <a:tbl>
              <a:tblPr/>
              <a:tblGrid>
                <a:gridCol w="1631880"/>
                <a:gridCol w="1632240"/>
                <a:gridCol w="1631880"/>
              </a:tblGrid>
              <a:tr h="149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108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Прямоугольник 3" descr=""/>
          <p:cNvPicPr/>
          <p:nvPr/>
        </p:nvPicPr>
        <p:blipFill>
          <a:blip r:embed="rId1"/>
          <a:stretch/>
        </p:blipFill>
        <p:spPr>
          <a:xfrm>
            <a:off x="1517760" y="4638600"/>
            <a:ext cx="610848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ыбирая между добром и злом человек делает моральный выб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Быть моральным это значит отвечать за свои поступки, совершать добрые дел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Мораль представляет собой нормы, установленные государст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Высоконравственным считают человека честного, воспитанного, почтительного к старшим, ответственного за свои поступки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Нравственные поступки требуют наград, слова благодар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Золотое правило нравственности учит нас относиться к людям так, как хотим мы, что бы относились к н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Мораль и право регулируют поведение человека в обществ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Нарушение моральных норм наказывается общественным мн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Выполнение норм морали обязате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229600" cy="3268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ВЫ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"/>
          <p:cNvSpPr/>
          <p:nvPr/>
        </p:nvSpPr>
        <p:spPr>
          <a:xfrm>
            <a:off x="357120" y="1214280"/>
            <a:ext cx="8501040" cy="1643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НРАВСТВЕННОСТЬ –  ЭТО САМА ЖИЗНЬ. ИЗ НРАВСТВЕННОСТИ  ПОСТЕПЕННО ВЫРАСТАЕТ  МОРАЛЬ СУЩЕСТВУЮТ  САМЫЕ РАЗЛИЧНЫЕ  ВЗГЛЯДЫ НА НРАВ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Прямоугольник 4"/>
          <p:cNvGrpSpPr/>
          <p:nvPr/>
        </p:nvGrpSpPr>
        <p:grpSpPr>
          <a:xfrm>
            <a:off x="523800" y="2981160"/>
            <a:ext cx="8175600" cy="1103400"/>
            <a:chOff x="523800" y="2981160"/>
            <a:chExt cx="8175600" cy="1103400"/>
          </a:xfrm>
        </p:grpSpPr>
        <p:pic>
          <p:nvPicPr>
            <p:cNvPr id="156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523800" y="2981160"/>
              <a:ext cx="8175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39640" y="2997360"/>
              <a:ext cx="814392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ОРАЛЬНАЯ ОТВЕТСТВЕННОСТЬ- ЭТО СПОСОБНОСТЬ ПРЕДВИДЕТЬ  ПОСЛЕДСТВИЯ  ПОСТУПК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Прямоугольник 5"/>
          <p:cNvSpPr/>
          <p:nvPr/>
        </p:nvSpPr>
        <p:spPr>
          <a:xfrm>
            <a:off x="611280" y="4286160"/>
            <a:ext cx="8215200" cy="1714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РОЦЕССЕ  РАЗВИТИЯ  ЧЕЛОВЕЧЕСТВ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БОТАЛО  ОБЩЕЧЕЛОВЕЧЕСКИЕ  ЦЕННОСТИ  И ИДЕАЛЫ. КАЖДЫЙ ЧЕЛОВЕК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ДОЛЖЕН ПОСТУПАТЬ  ТАК,ЧТОБ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И ДЕЙСТВИЯ МОГЛИ СТАТЬ  ОБРАЗЦЕМ ДЛЯ ВС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85920" y="404280"/>
            <a:ext cx="6202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ремя  эти  понятия  не  стёр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ужно  только  поднять  верхний  пла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  дымящейся  кровью  у  гор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Чувства  вечные  хлынут  из 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ыне  присно,  во  веки  веков,  стари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  цена  есть  цена,  и  вина  есть  ви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  всегда   хорошо,  если  честь  спасена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Если  духом  надёжно  прикрыта  сп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Чистоту,  простоту  мы  у  древних  бер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аги,  сказки  из  прошлого  тащ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отому,  что  добро  остаётся  доб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 прошлом,  будущем  и  настоящ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  Высоцк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Баллада о времени»</a:t>
            </a:r>
            <a:r>
              <a:rPr b="0" lang="ru-RU" sz="2000" spc="-1" strike="noStrike" baseline="-2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6481800" y="476280"/>
            <a:ext cx="2193840" cy="3384360"/>
          </a:xfrm>
          <a:prstGeom prst="rect">
            <a:avLst/>
          </a:prstGeom>
          <a:ln w="88920">
            <a:solidFill>
              <a:srgbClr val="996633"/>
            </a:solidFill>
            <a:miter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500"/>
                            </p:stCondLst>
                            <p:childTnLst>
                              <p:par>
                                <p:cTn id="162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8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1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4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80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3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Users\лавр\Downloads\открытый урок.jpg"/>
          <p:cNvPicPr/>
          <p:nvPr/>
        </p:nvPicPr>
        <p:blipFill>
          <a:blip r:embed="rId1"/>
          <a:stretch/>
        </p:blipFill>
        <p:spPr>
          <a:xfrm>
            <a:off x="3635280" y="260280"/>
            <a:ext cx="5059440" cy="626436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4" descr=""/>
          <p:cNvPicPr/>
          <p:nvPr/>
        </p:nvPicPr>
        <p:blipFill>
          <a:blip r:embed="rId2"/>
          <a:stretch/>
        </p:blipFill>
        <p:spPr>
          <a:xfrm>
            <a:off x="171360" y="1047600"/>
            <a:ext cx="332748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сс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вобода – делай что хочешь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вобода означает ответственность. Вот почему большинство людей боится свободы» (Б.Шо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равственность не упала. Нравственность изменила позицию» (К. Сломинь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Arial"/>
                <a:ea typeface="SimSun-ExtB"/>
              </a:rPr>
              <a:t>Право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истема   общеобязательных правил поведения, установленных государств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ствознание: учебник для 11 кл. общеобразовательных учреждений: профильный уровень / под ред. Л.Н.Боголюбова. – М.: Просвещение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ствознание. Практикум. 11 класс: пособие для общеобразовательных учреждений: профильный уровень/ под ред. Л.Н.Боголюбова. – М.: Просвещение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рокина Е.Н. Поурочные разработки по обществознанию. Профильный уровень: 11 класс. - М.: ВАКО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 иллюстрац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childlib.ru/dep-resourses/Lihachev-zapovedi.ht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rus.1september.ru/2001/44/1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estb.msn.com/i/6A/3E376EE7F65287F1E7B9505A68D9FE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img.photo.tut.ua/uzhgorod/593/16531/oldpaper236204.jp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ете ли в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Что такое мора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ризнаки задачи мор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равственные (моральные) ц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Золотое правило нрав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Отличие морали от пр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цель нашего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Узнаем что такое мораль, для чего она существует, каковы ее признаки, что представляет собой нравственный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996633"/>
                </a:solidFill>
                <a:latin typeface="Monotype Corsiva"/>
              </a:rPr>
              <a:t>Мораль 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33"/>
                </a:solidFill>
                <a:latin typeface="Segoe UI"/>
                <a:ea typeface="Segoe UI"/>
              </a:rPr>
              <a:t>Правила поведения людей и принятие  в обществе  взгляды на </a:t>
            </a:r>
            <a:r>
              <a:rPr b="0" i="1" lang="ru-RU" sz="3600" spc="-1" strike="noStrike">
                <a:solidFill>
                  <a:srgbClr val="ff0000"/>
                </a:solidFill>
                <a:latin typeface="Segoe UI"/>
                <a:ea typeface="Segoe UI"/>
              </a:rPr>
              <a:t>добро</a:t>
            </a:r>
            <a:r>
              <a:rPr b="0" i="1" lang="ru-RU" sz="3600" spc="-1" strike="noStrike">
                <a:solidFill>
                  <a:srgbClr val="996633"/>
                </a:solidFill>
                <a:latin typeface="Segoe UI"/>
                <a:ea typeface="Segoe UI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Segoe UI"/>
                <a:ea typeface="Segoe UI"/>
              </a:rPr>
              <a:t>и зло</a:t>
            </a:r>
            <a:r>
              <a:rPr b="0" i="1" lang="ru-RU" sz="3600" spc="-1" strike="noStrike">
                <a:solidFill>
                  <a:srgbClr val="996633"/>
                </a:solidFill>
                <a:latin typeface="Segoe UI"/>
                <a:ea typeface="Segoe UI"/>
              </a:rPr>
              <a:t>, честь и совесть , долг и справедливо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613080" y="189000"/>
            <a:ext cx="6419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ЧТО ТАКОЕ ДОБР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"/>
          <p:cNvSpPr/>
          <p:nvPr/>
        </p:nvSpPr>
        <p:spPr>
          <a:xfrm>
            <a:off x="428760" y="2286000"/>
            <a:ext cx="2357280" cy="2286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Б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право 3"/>
          <p:cNvSpPr/>
          <p:nvPr/>
        </p:nvSpPr>
        <p:spPr>
          <a:xfrm>
            <a:off x="2928960" y="3143160"/>
            <a:ext cx="906480" cy="484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4643280" y="981000"/>
            <a:ext cx="3857760" cy="537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ПОНЯТИЕ ДОБРА- ФИЛОСОФЫ ОПРЕДЕЛЯЮТ КАК СТРЕМЛЕНИЕ ЧЕЛОВЕКА К ЧЕЛОВЕЧНОСТИ, К ГУМАНИЗ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ДОБРО-  ЭТО СПРАВЕДЛИВ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МИЛОСЕРДИЕ, ЛЮБОВЬ К БЛИЖНЕМ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О ЧТО ОПРЕДЕЛЯЕТ ЧЕЛОВЕКА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БРОГ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АШИ ПРИМ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Скругленный прямоугольник 4"/>
          <p:cNvSpPr/>
          <p:nvPr/>
        </p:nvSpPr>
        <p:spPr>
          <a:xfrm>
            <a:off x="250920" y="981000"/>
            <a:ext cx="324144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ИЕ  МОРАЛИСТЫ   ДРЕВНОСТИ: ИИСУС ХРИСТОС. МОИСЕЙ, МУХАММЕД, КОНФУЦИЙ  СМЫСЛ МОРАЛИ  СВОДИЛИ  К СЛЕДУЮЩЕМУ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право 5"/>
          <p:cNvSpPr/>
          <p:nvPr/>
        </p:nvSpPr>
        <p:spPr>
          <a:xfrm>
            <a:off x="3564000" y="2349360"/>
            <a:ext cx="720720" cy="38736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4284720" y="476280"/>
            <a:ext cx="4608360" cy="338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СНОВНОЙ СМЫСЛ МОРАЛИ 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ЗОЛОТОМ ПРАВИЛ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ТАК ВО ВСЕМ , КАК ХОТИТЕ, ЧТОБЫ С ВАМИ ПОСТУПАЛИ ЛЮДИ, ТАК  ПОСТУПАЙТЕ  И ВЫ С НИМИ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179280" y="3860640"/>
            <a:ext cx="8640720" cy="237672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ПОЛУЧАЕМ  ОТВЕТ НА ВОПРОС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ЧЕМ НУЖНА МОРАЛЬ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ТОБЫ НАУЧИТЬ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АК ОТНОСИТЬСЯ  К ЛЮДЯМ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600" spc="-1" strike="noStrike">
                <a:solidFill>
                  <a:srgbClr val="996633"/>
                </a:solidFill>
                <a:latin typeface="Monotype Corsiva"/>
              </a:rPr>
              <a:t>Мораль -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одобренных общественным мнением норм, определяющих отношения людей в социум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обязанности друг перед другом и перед общ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2"/>
          <p:cNvSpPr/>
          <p:nvPr/>
        </p:nvSpPr>
        <p:spPr>
          <a:xfrm>
            <a:off x="755640" y="765000"/>
            <a:ext cx="7488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Ы УЖЕ ЗНАЕМ СЛОВА: ДОБРО И ЗЛО.. ЗОЛОТОЕ  ПРАВИЛО МОР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 КАКУЮ ВЛАСТЬ ИМЕЮТ ЭТИ ПОНЯТИЯ  НАД ЛЮДЬМИ?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ЭТО И  ЕСТЬ  ГЛАВНАЯ ПРОБЛЕМА УРО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2:23:29Z</dcterms:created>
  <dc:creator>Оля</dc:creator>
  <dc:description/>
  <dc:language>en-US</dc:language>
  <cp:lastModifiedBy>Егор</cp:lastModifiedBy>
  <dcterms:modified xsi:type="dcterms:W3CDTF">2016-11-06T20:12:42Z</dcterms:modified>
  <cp:revision>110</cp:revision>
  <dc:subject/>
  <dc:title>Мораль и нравственность</dc:title>
</cp:coreProperties>
</file>