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A70-5ECC-404F-859F-D1785FC8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B27-D916-4281-B03A-7CC2932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9EE-E276-4AE8-AC93-BB921C77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CF7-12C5-4A5F-830C-B0809B70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34D9-8D8B-4AED-B6BF-BD2E56B7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3E42-9EED-4A18-AFFF-1F55449C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8F9E-0844-4488-ADC2-30C144E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68BE-30B9-49A6-860C-FF2DB480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3F36-C1D7-46FC-8EA2-3F7A3655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5F7E-37EF-4A6C-9432-8A962B6B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CCD6-C162-4902-A2BC-25E8807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219-199C-41B5-8033-934FB4BC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D987-2534-4855-BC3A-C9082FF7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A025-D0A7-46B2-A2A5-21E27006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858F-F1F3-4CBA-99AB-2F78712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823D-F0B7-49CC-A915-A6C461DD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8FE7-58D0-4647-B4EA-6AEB1C68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DD5-D12B-48FA-BD18-0FE7FCEA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416-C0E2-40FD-BF28-C4415CB4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9FE-F87E-43CA-A5A2-AA515C89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B28-1D65-4DF5-8D92-D488A87E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C41-0779-4D1D-B998-772C5C5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4E4-5B5A-4C0E-86C7-51BBBEA5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B1C-1DBF-4F09-AC39-5DB981C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4767-A9F4-4DFF-A01E-EA41D8BDC53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08C5-5B6C-46DE-A581-26B846B2AB4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1841400"/>
            <a:ext cx="82422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4200" y="2142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4320" indent="-3409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сударственный служащий Ковалев А.Н., отвечающий за распределение бесплатно предоставляемых медикаментов пациентам, часть медикаментов отправлял в частные аптеки для их дальнейшей реализации по высоким цена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4320" indent="-3409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4320" indent="-3409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Растрата – кража ресурсов людьми, облаченными властью или контролем над какими-либо ценностями. Растрата государственных средств – материальный  урон бюджету государства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5712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 algn="just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ственникам больного Овчинникова О.Р. главврач недвусмысленно говорит, что ему требуется экстренная операция, но в общей очереди операцию придется «ждать очень долго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 algn="just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Вымогательство – принуждение человека заплатить деньги или предоставить другие ценности в обмен на действие или бездейств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2876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just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дская администрация в течении долгого периода затягивает решение вопроса с земельным участком по заявлению предпринимателя  Соловьева С.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 algn="just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Волокита – форма вымогательства, когда дело специально затягивается с целью получения взятки, посл.: недоверие к органам власти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ытова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упция порождается взаимодействием рядовых граждан и чиновни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лова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упция возникает при взаимодействии власти и бизне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ррупция верховной влас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носится к политическому руководству и верховным судам в демократических систем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28760" y="6426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Не подмажешь, не поедешь"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ымогательство, взятниче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Рука руку моет"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групповая запланированная деятельность в подку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Загребать жар чужими руками"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сознательное соучастие в мошенничестве и афер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Видит око, да зуб неймет"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езрезультативность действий борьбы с корруп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упц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честная, продаж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манывает, грабит, подкуп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о всегда быть чест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 давайте и не берите взят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давайте гласности случаи корруп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менить существующую систему и создать законы, которые бы защищали активных граждан, выступающих против коррупци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писать об известных вам случаях коррупции в местные газеты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принимать участие во многочисленных кампаниях, акциях по борьбе с коррупци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изучать данное явление на урока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знакомиться с антикоррупционными  мероприятиями и методами борьбы с коррупци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633240" y="1335240"/>
            <a:ext cx="8077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37960" y="268200"/>
            <a:ext cx="87598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взятка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подкуп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обман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мошенничество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вымогательство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84120" y="1663560"/>
            <a:ext cx="8979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706320" y="1122480"/>
            <a:ext cx="83217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8760" y="7142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огласно Российскому законодательству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ррупц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это злоупотребление служебным положением, дача и получение взятки, коммерческий подкуп, или иное незаконное использование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изкая заработная пла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знание закон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желание легкой нажи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частая сменяемость лиц на различных должностя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стабильность в стран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ррупция как привыч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изкий уровень жизни насе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езработи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201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00040" y="1928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высить зарплату и не только чиновникам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делать стабильным социальный пакет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писать четкие законы об уголовной ответственности за взятки, вымогательство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а обычные россияне, у которых эти взятки вымогают, должны научиться их не давать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естно и добросовестно выполнять свою работу, свои должностные обязанност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водить встречи, менять сознание людей, ориентировать их на положительные поступ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429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нарушении правил дорожного движения в нетрезвом виде, водитель Иванов И.И. заплатил сотруднику ГИБДД, который вместо того, чтобы заполнить протокол, взял деньги и отпустил Иванов И.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Взятка, риск ДТП, падение авторитета ГИБДД, недоверие к ГИБДД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3T09:49:26Z</dcterms:created>
  <dc:creator>катёнок</dc:creator>
  <dc:description/>
  <dc:language>en-US</dc:language>
  <cp:lastModifiedBy>преподаватель</cp:lastModifiedBy>
  <dcterms:modified xsi:type="dcterms:W3CDTF">2003-05-04T20:18:16Z</dcterms:modified>
  <cp:revision>12</cp:revision>
  <dc:subject/>
  <dc:title>Мы против коррупции!</dc:title>
</cp:coreProperties>
</file>