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4C015-EC91-4BA4-B5B5-FC08E3B0EF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13928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6E4A9-D819-40B6-9E29-BD0F328E38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6664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3928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166640" y="413928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46DCC-9E8D-46BD-ACC5-90EB142F98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904840" y="160776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52480" y="160776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13928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904840" y="413928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352480" y="413928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3ACF8-EDCE-45FC-B49C-2D46EB766D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B6C38-C738-4F47-819E-283FDC3F02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0E522-5FB2-4C57-8A46-D8A43E4B75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CEBB7-081B-4889-B118-E3F22DDF5E8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166640" y="160776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C9FEE-B9E3-436B-94BE-38A16F999D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E2BD4-DF6C-4B50-80F6-08AC6001EF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3186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9F33D-0A31-449A-9946-4A11AF4C7F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66640" y="160776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13928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354E0-FD13-48B6-B10C-F8795E913C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B6074-5901-425E-92E5-43B6B87A92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6664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166640" y="413928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D00EC-C71B-49C4-B67E-AFC6C4DAED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6664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3928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D42B7-D29B-4B8C-A5C9-8E0FC4A9CF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13928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3C145-57C7-4471-A8F2-F0887693DF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3928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166640" y="413928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128AA-2AFE-4EE0-97B9-D4AF711A2A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904840" y="160776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52480" y="160776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13928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2904840" y="413928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352480" y="413928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1D573-831D-446A-8168-3D91B5C8D8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19A67-1DE7-4C06-AB91-A259A46378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166640" y="160776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A85F3-8641-4808-B663-EDCD14CADC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A5E06-0BF2-4116-9604-906EC972A1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3186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37940-E353-4E55-95BD-E3C44B2D5D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776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13928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B9137-DF3E-4D6D-8768-7B0B186434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16664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66640" y="413928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D8DB0-3E96-4A0B-842B-493AB7D862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166640" y="160776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3928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74023-F87F-4ED5-8384-07613C6C7E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e9e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365280" y="0"/>
            <a:ext cx="510516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ef9ef"/>
                </a:solidFill>
                <a:latin typeface="Trebuchet MS Bold"/>
              </a:rPr>
              <a:t>Click to edit the title text format</a:t>
            </a:r>
            <a:endParaRPr b="0" lang="en-US" sz="42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54120" y="3538080"/>
            <a:ext cx="5113080" cy="11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178200" algn="r">
              <a:spcBef>
                <a:spcPts val="601"/>
              </a:spcBef>
              <a:buClr>
                <a:srgbClr val="6b6b6b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356400" algn="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534600" algn="r">
              <a:spcBef>
                <a:spcPts val="601"/>
              </a:spcBef>
              <a:buClr>
                <a:srgbClr val="6b6b6b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713160" algn="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713160" algn="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713160" algn="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308440" y="6630840"/>
            <a:ext cx="1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  <a:ea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0F94-A656-45D4-A123-13BEBEF58437}" type="slidenum">
              <a:rPr b="0" lang="en-US" sz="1100" spc="-1" strike="noStrike">
                <a:solidFill>
                  <a:srgbClr val="ffffff"/>
                </a:solidFill>
                <a:latin typeface="Trebuchet MS"/>
                <a:ea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ef9ef"/>
                </a:solidFill>
                <a:latin typeface="Trebuchet MS Bold"/>
              </a:rPr>
              <a:t>Click to edit the title text format</a:t>
            </a: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482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2072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9669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41280" indent="-228600">
              <a:spcBef>
                <a:spcPts val="601"/>
              </a:spcBef>
              <a:buClr>
                <a:srgbClr val="f9b639"/>
              </a:buClr>
              <a:buSzPct val="69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41280" indent="-228600">
              <a:spcBef>
                <a:spcPts val="601"/>
              </a:spcBef>
              <a:buClr>
                <a:srgbClr val="000000"/>
              </a:buClr>
              <a:buSzPct val="69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41280" indent="-228600">
              <a:spcBef>
                <a:spcPts val="601"/>
              </a:spcBef>
              <a:buClr>
                <a:srgbClr val="000000"/>
              </a:buClr>
              <a:buSzPct val="69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679800" y="6630840"/>
            <a:ext cx="1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  <a:ea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9998-7980-4F9A-B88C-171050096B50}" type="slidenum">
              <a:rPr b="0" lang="en-US" sz="1100" spc="-1" strike="noStrike">
                <a:solidFill>
                  <a:srgbClr val="b13f9a"/>
                </a:solidFill>
                <a:latin typeface="Trebuchet MS"/>
                <a:ea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e9e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666880" y="0"/>
            <a:ext cx="6489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8308440" y="6630840"/>
            <a:ext cx="1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8F31-F967-4DBD-B2EC-4BA6A8B683C6}" type="slidenum">
              <a:rPr b="0" lang="en-US" sz="1100" spc="-1" strike="noStrike">
                <a:solidFill>
                  <a:srgbClr val="ffffff"/>
                </a:solidFill>
                <a:latin typeface="Trebuchet MS"/>
                <a:ea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080" y="528480"/>
            <a:ext cx="683928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ef9ef"/>
                </a:solidFill>
                <a:latin typeface="Trebuchet MS"/>
                <a:ea typeface="Trebuchet MS"/>
              </a:rPr>
              <a:t> </a:t>
            </a:r>
            <a:br>
              <a:rPr sz="3700"/>
            </a:br>
            <a:r>
              <a:rPr b="0" lang="en-US" sz="3200" spc="-1" strike="noStrike">
                <a:solidFill>
                  <a:srgbClr val="fef9ef"/>
                </a:solidFill>
                <a:latin typeface="Times New Roman Italic"/>
                <a:ea typeface="Times New Roman Italic"/>
              </a:rPr>
              <a:t>ВЫПУСКНАЯ РАБОТА</a:t>
            </a:r>
            <a:br>
              <a:rPr sz="3200"/>
            </a:br>
            <a:r>
              <a:rPr b="0" lang="en-US" sz="3200" spc="-1" strike="noStrike">
                <a:solidFill>
                  <a:srgbClr val="fef9ef"/>
                </a:solidFill>
                <a:latin typeface="Times New Roman Italic"/>
                <a:ea typeface="Times New Roman Italic"/>
              </a:rPr>
              <a:t>по теории и методике обучения иностранным языкам</a:t>
            </a:r>
            <a:br>
              <a:rPr sz="3200"/>
            </a:br>
            <a:r>
              <a:rPr b="0" lang="en-US" sz="3200" spc="-1" strike="noStrike">
                <a:solidFill>
                  <a:srgbClr val="fef9ef"/>
                </a:solidFill>
                <a:latin typeface="Times New Roman Italic"/>
                <a:ea typeface="Times New Roman Italic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fef9ef"/>
                </a:solidFill>
                <a:latin typeface="Times New Roman Italic"/>
                <a:ea typeface="Times New Roman Italic"/>
              </a:rPr>
              <a:t>«Игровые моменты при обучении английской грамматики».</a:t>
            </a:r>
            <a:br>
              <a:rPr sz="3200"/>
            </a:br>
            <a:r>
              <a:rPr b="0" lang="en-US" sz="3200" spc="-1" strike="noStrike">
                <a:solidFill>
                  <a:srgbClr val="fef9ef"/>
                </a:solidFill>
                <a:latin typeface="Trebuchet MS"/>
                <a:ea typeface="Trebuchet MS"/>
              </a:rPr>
              <a:t> 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1900" spc="-1" strike="noStrike">
                <a:solidFill>
                  <a:srgbClr val="fef9ef"/>
                </a:solidFill>
                <a:latin typeface="Trebuchet MS"/>
                <a:ea typeface="Trebuchet MS"/>
              </a:rPr>
              <a:t>Автор работы:</a:t>
            </a:r>
            <a:br>
              <a:rPr sz="1900"/>
            </a:br>
            <a:r>
              <a:rPr b="0" lang="en-US" sz="1900" spc="-1" strike="noStrike">
                <a:solidFill>
                  <a:srgbClr val="fef9ef"/>
                </a:solidFill>
                <a:latin typeface="Trebuchet MS"/>
                <a:ea typeface="Trebuchet MS"/>
              </a:rPr>
              <a:t>Васильева Татьяна Петровна</a:t>
            </a:r>
            <a:br>
              <a:rPr sz="3200"/>
            </a:br>
            <a:r>
              <a:rPr b="0" lang="en-US" sz="3700" spc="-1" strike="noStrike">
                <a:solidFill>
                  <a:srgbClr val="fef9ef"/>
                </a:solidFill>
                <a:latin typeface="Trebuchet MS"/>
                <a:ea typeface="Trebuchet MS"/>
              </a:rPr>
              <a:t> </a:t>
            </a:r>
            <a:br>
              <a:rPr sz="3700"/>
            </a:br>
            <a:endParaRPr b="0" lang="en-US" sz="3700" spc="-1" strike="noStrike">
              <a:solidFill>
                <a:srgbClr val="fef9ef"/>
              </a:solidFill>
              <a:latin typeface="Trebuchet MS Bol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153280" y="0"/>
            <a:ext cx="1003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Роль и функция учебной игры на уроках английского язык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позволяет преподавателю организовать деятельность учащихся, сделать ее более активной, заинтересовать их в изучении предмета и в поиске дополнительных средств для получения информации – то есть создать мотивацию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153280" y="0"/>
            <a:ext cx="1003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Роль и функции учебной игры на уроках английского язык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дает детям возможность раскрыть свои возможности в непосредственной обстановке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ая активность помогает снять не только трудности морфологического и синтаксического характера, она одновременно направлена на преодоление трудностей речевого общения.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способствует развитию таких качеств как самостоятельность и инициативность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153280" y="0"/>
            <a:ext cx="1003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Специфика и структура игры в процессе обучения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специфика игры заключается в том, что “учебные задачи выступают перед учащимися не в явном виде, а маскируются. Играя, ребенок не ставит перед собой учебной задачи, но в результате он чему-то научается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-это речевое упражнение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153280" y="0"/>
            <a:ext cx="1003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Требование к игре и условия её проведен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Мотивация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-психологическая готовность учащихся к такого рода деятельности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сообразность игр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153280" y="0"/>
            <a:ext cx="1003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Классификация игр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матические игры;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для обучения чтению;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для обучения аудированию;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для обучения говорению;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шанные игры.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153280" y="0"/>
            <a:ext cx="1003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Игровой метод при изучении грамматик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построение на знакомой лексике (в случае необходимости незнакомые слова записываются заранее на доске, чтобы не нарушать коммуникации;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отражение наиболее типичного случая употребления грамматического явления;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в содержание должно быть включено только одно грамматическое явление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примеры должны соответствовать тому материалу, который будет в упражнениях (согласно традиционной методике)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153280" y="0"/>
            <a:ext cx="1003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Игры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1. Модальные глаголы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2. Глагол «to be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Hide-and-Seek in a picture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4.</a:t>
            </a:r>
            <a:r>
              <a:rPr b="0" lang="en-US" sz="21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«Что было вчера?»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5.«Что ты делаешь?»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6. What is there in the box?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Describe the pict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0" lang="en-US" sz="1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Заучи рифмовк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9.</a:t>
            </a:r>
            <a:r>
              <a:rPr b="0" lang="en-US" sz="1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Исправь ошибку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0. Игра: Найди пропажу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153280" y="0"/>
            <a:ext cx="1003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Урок- игр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153280" y="0"/>
            <a:ext cx="1003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Заключени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8153280" y="0"/>
            <a:ext cx="1003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список литературы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153280" y="0"/>
            <a:ext cx="1003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ef9ef"/>
                </a:solidFill>
                <a:latin typeface="Trebuchet MS"/>
                <a:ea typeface="Trebuchet MS"/>
              </a:rPr>
              <a:t>Содержание</a:t>
            </a: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7760"/>
            <a:ext cx="749772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4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ВВЕДЕНИЕ………………………….…………………………………...………………………………..……3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Глава 1.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Традиционный подход к обучению грамматике……………………….……5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1.1. Обучение грамматической стороне речи как важнейшей составляющей коммуникативной компетенции……………………………………..…………………………………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1.2. Понятие «грамматика» и проблема роли и объема грамматики в курсе ИЯ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Глава 2.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Игра как средство обучения иностранному языку………………………….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2.1.Сущность игры………………………………………………………………………………………………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2.2. Роль и функции учебной игры на уроках английского языка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2.3. Специфика и структура игры в процессе обучения………………..…………………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2.4. Требования к игре и условиям её проведения. …………………..……………………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2.5  Классификация игр. Языковые игры……………………………………………………………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ЗАКЛЮЧЕНИЕ…………………………………………………………….…………………..…..….………….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СПИСОК ИСПОЛЬЗОВАННЫХ ИСТОЧНИКОВ ………………..............................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153280" y="0"/>
            <a:ext cx="1003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риложени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8153280" y="0"/>
            <a:ext cx="1003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8153280" y="0"/>
            <a:ext cx="1003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153280" y="0"/>
            <a:ext cx="1003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153280" y="0"/>
            <a:ext cx="1003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153280" y="0"/>
            <a:ext cx="1003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"/>
          <p:cNvSpPr/>
          <p:nvPr/>
        </p:nvSpPr>
        <p:spPr>
          <a:xfrm>
            <a:off x="2331720" y="2222640"/>
            <a:ext cx="178632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96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Введени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"/>
          <p:cNvSpPr/>
          <p:nvPr/>
        </p:nvSpPr>
        <p:spPr>
          <a:xfrm>
            <a:off x="1628640" y="2844720"/>
            <a:ext cx="44323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" tIns="0" bIns="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- интерес к изучению языка: приближает речевую деятельность к естественным нормам, помогает развивать навыки общения, способствует эффективной отработке языкового материала, обеспечивает практическую направленность обучения.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153280" y="0"/>
            <a:ext cx="1003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Цели и задачи исследовани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анализ повышения эффективности изучения грамматического материал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выделить особенности использования игровых моментов в обучении английскому языку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153280" y="0"/>
            <a:ext cx="1003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Традиионный подход к обучению грамматики предпологает  формирование чисто языковых  навыков (лексических, фонетических, грамматических), речевой деятельности, развитие  умений и навыко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153280" y="0"/>
            <a:ext cx="1003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любому языку проводилось посредством грамматики, как правило, построенной по образцу латинской. Грамматика изучалась как особый предмет и как самоцель.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153280" y="0"/>
            <a:ext cx="1003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960" tIns="38160" bIns="38160" anchor="t">
            <a:normAutofit/>
          </a:bodyPr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рамматика» обозначает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0" algn="just">
              <a:lnSpc>
                <a:spcPct val="100000"/>
              </a:lnSpc>
              <a:buNone/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грамматический строй языка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0" algn="just">
              <a:lnSpc>
                <a:spcPct val="150000"/>
              </a:lnSpc>
              <a:buNone/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раздел языкознания, изучающий такой строй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0" algn="just">
              <a:lnSpc>
                <a:spcPct val="150000"/>
              </a:lnSpc>
              <a:buNone/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совокупность правил изменения слов, их соединений в сочетания, предложения (иногда тексты)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0" algn="just">
              <a:lnSpc>
                <a:spcPct val="150000"/>
              </a:lnSpc>
              <a:buNone/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учебник, содержащий описание прави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153280" y="0"/>
            <a:ext cx="1003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Проблема обучения грамматическим навыка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еся как бы употребляют в речи языковые структуры, но не осознают их грамматической информации, а, следовательно, не всегда точно понимают их значение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153280" y="0"/>
            <a:ext cx="1003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ef9ef"/>
              </a:solidFill>
              <a:latin typeface="Trebuchet MS Bol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Игра как одно из средств обучения грамматики иностранному языку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Сущность игры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Нужна ли игра на уроке английского язык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Т</dc:creator>
  <dc:description/>
  <dc:language>en-US</dc:language>
  <cp:lastModifiedBy/>
  <cp:revision>0</cp:revision>
  <dc:subject/>
  <dc:title>  ВЫПУСКНАЯ РАБОТА по теории и методике обучения иностранным языкам   «Игровые моменты при обучении английской грамматики».     Автор работы: Васильева Татьяна Петровна   </dc:title>
</cp:coreProperties>
</file>