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D0C5D-0A2F-439A-A2F8-AD836C2F27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3186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ef9ef"/>
              </a:solidFill>
              <a:latin typeface="Trebuchet MS 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776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13928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AFCF3-F9F2-49B5-8CEA-1C69EC7BF8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3186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ef9ef"/>
              </a:solidFill>
              <a:latin typeface="Trebuchet MS 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776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166640" y="160776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13928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166640" y="413928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8F796-484F-4B31-999D-5414970008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186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ef9ef"/>
              </a:solidFill>
              <a:latin typeface="Trebuchet MS 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776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904840" y="160776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52480" y="160776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13928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2904840" y="413928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352480" y="413928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FA852-7E4B-4705-BB4E-EE5CF44C17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0BF4F3-7E93-491E-99CE-BACF5C4643F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3186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ef9ef"/>
              </a:solidFill>
              <a:latin typeface="Trebuchet MS Bol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776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0E8030-A1B6-4BE9-BF39-02744B3E6F8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186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ef9ef"/>
              </a:solidFill>
              <a:latin typeface="Trebuchet MS Bol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776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43EC10-22EC-40DF-A536-A6D017C421B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186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ef9ef"/>
              </a:solidFill>
              <a:latin typeface="Trebuchet MS Bol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776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166640" y="160776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9BA233-1059-4370-A3ED-581F2BA8F55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186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ef9ef"/>
              </a:solidFill>
              <a:latin typeface="Trebuchet MS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FDA5AD-66E8-48F6-BD89-80BB6616F1C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3186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EAA791-EDFF-4285-B30C-C93D4265087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186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ef9ef"/>
              </a:solidFill>
              <a:latin typeface="Trebuchet MS Bol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776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166640" y="160776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413928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2D615C-D85D-4762-81B1-8840F82B25E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186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ef9ef"/>
              </a:solidFill>
              <a:latin typeface="Trebuchet MS 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776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A8C0B-9512-4CA9-81FE-8B0CCC4868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186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ef9ef"/>
              </a:solidFill>
              <a:latin typeface="Trebuchet MS Bol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776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166640" y="160776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166640" y="413928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72F44-63C8-4B46-9CCC-E9292CA1FEB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186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ef9ef"/>
              </a:solidFill>
              <a:latin typeface="Trebuchet MS 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776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166640" y="160776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3928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9F4F55-CC81-4AB5-8AFC-B4C052F84CC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186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ef9ef"/>
              </a:solidFill>
              <a:latin typeface="Trebuchet MS Bol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776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413928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B1AF98-1590-44D5-BD1B-B19C48A884E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186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ef9ef"/>
              </a:solidFill>
              <a:latin typeface="Trebuchet MS Bol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776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776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13928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166640" y="413928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7630C-16DD-4986-BBFF-86D1D26EBE5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186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ef9ef"/>
              </a:solidFill>
              <a:latin typeface="Trebuchet MS Bol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776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904840" y="160776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52480" y="160776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413928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2904840" y="413928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352480" y="413928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559CFE-1011-4E10-8A53-58086112C4E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186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ef9ef"/>
              </a:solidFill>
              <a:latin typeface="Trebuchet MS 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776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3FCEA-A5FA-4201-8D28-8753EDA116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186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ef9ef"/>
              </a:solidFill>
              <a:latin typeface="Trebuchet MS 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776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166640" y="160776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8D978-AFB4-4DE6-AC26-787AA9FCE4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186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ef9ef"/>
              </a:solidFill>
              <a:latin typeface="Trebuchet MS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99951-D08C-4A52-9662-7113DEA680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3186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56CAB-DBE9-4B82-9921-95C4B61639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186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ef9ef"/>
              </a:solidFill>
              <a:latin typeface="Trebuchet MS 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776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776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13928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7616A-72C0-47C8-A76F-8C5742A5A6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186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ef9ef"/>
              </a:solidFill>
              <a:latin typeface="Trebuchet MS 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776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166640" y="160776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166640" y="413928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E46BD-66B5-4177-A7AD-BDC0C8B677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3186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ef9ef"/>
              </a:solidFill>
              <a:latin typeface="Trebuchet MS 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776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166640" y="160776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13928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9F14C-13D4-49EE-8033-1FF62FD391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e9e9e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365280" y="0"/>
            <a:ext cx="5105160" cy="34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ef9ef"/>
                </a:solidFill>
                <a:latin typeface="Trebuchet MS Bold"/>
              </a:rPr>
              <a:t>Click to edit the title text format</a:t>
            </a:r>
            <a:endParaRPr b="0" lang="en-US" sz="4200" spc="-1" strike="noStrike">
              <a:solidFill>
                <a:srgbClr val="fef9ef"/>
              </a:solidFill>
              <a:latin typeface="Trebuchet MS 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354120" y="3538080"/>
            <a:ext cx="5113080" cy="110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9000"/>
          </a:bodyPr>
          <a:p>
            <a:pPr indent="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178200" algn="r">
              <a:spcBef>
                <a:spcPts val="601"/>
              </a:spcBef>
              <a:buClr>
                <a:srgbClr val="6b6b6b"/>
              </a:buClr>
              <a:buFont typeface="Trebuchet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356400" algn="r"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534600" algn="r">
              <a:spcBef>
                <a:spcPts val="601"/>
              </a:spcBef>
              <a:buClr>
                <a:srgbClr val="6b6b6b"/>
              </a:buClr>
              <a:buFont typeface="Trebuchet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713160" algn="r"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713160" algn="r"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713160" algn="r"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308440" y="6630840"/>
            <a:ext cx="15876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rebuchet MS"/>
                <a:ea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F19EF-AF66-4E16-9E93-5727F6FEA33B}" type="slidenum">
              <a:rPr b="0" lang="en-US" sz="1100" spc="-1" strike="noStrike">
                <a:solidFill>
                  <a:srgbClr val="ffffff"/>
                </a:solidFill>
                <a:latin typeface="Trebuchet MS"/>
                <a:ea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3186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ef9ef"/>
                </a:solidFill>
                <a:latin typeface="Trebuchet MS Bold"/>
              </a:rPr>
              <a:t>Click to edit the title text format</a:t>
            </a:r>
            <a:endParaRPr b="0" lang="en-US" sz="3800" spc="-1" strike="noStrike">
              <a:solidFill>
                <a:srgbClr val="fef9ef"/>
              </a:solidFill>
              <a:latin typeface="Trebuchet MS Bold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776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482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2072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9669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41280" indent="-228600">
              <a:spcBef>
                <a:spcPts val="601"/>
              </a:spcBef>
              <a:buClr>
                <a:srgbClr val="f9b639"/>
              </a:buClr>
              <a:buSzPct val="69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41280" indent="-228600">
              <a:spcBef>
                <a:spcPts val="601"/>
              </a:spcBef>
              <a:buClr>
                <a:srgbClr val="000000"/>
              </a:buClr>
              <a:buSzPct val="69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41280" indent="-228600">
              <a:spcBef>
                <a:spcPts val="601"/>
              </a:spcBef>
              <a:buClr>
                <a:srgbClr val="000000"/>
              </a:buClr>
              <a:buSzPct val="69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6679800" y="6630840"/>
            <a:ext cx="15876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  <a:ea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B9693-0C91-4678-9FD0-84D0B6E6546C}" type="slidenum">
              <a:rPr b="0" lang="en-US" sz="1100" spc="-1" strike="noStrike">
                <a:solidFill>
                  <a:srgbClr val="b13f9a"/>
                </a:solidFill>
                <a:latin typeface="Trebuchet MS"/>
                <a:ea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e9e9e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666880" y="0"/>
            <a:ext cx="64897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8308440" y="6630840"/>
            <a:ext cx="15876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10D56-8A6E-47EB-8D21-68E6C4F2034E}" type="slidenum">
              <a:rPr b="0" lang="en-US" sz="1100" spc="-1" strike="noStrike">
                <a:solidFill>
                  <a:srgbClr val="ffffff"/>
                </a:solidFill>
                <a:latin typeface="Trebuchet MS"/>
                <a:ea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6080" y="528480"/>
            <a:ext cx="683928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ef9ef"/>
                </a:solidFill>
                <a:latin typeface="Trebuchet MS"/>
                <a:ea typeface="Trebuchet MS"/>
              </a:rPr>
              <a:t> </a:t>
            </a:r>
            <a:br>
              <a:rPr sz="3700"/>
            </a:br>
            <a:r>
              <a:rPr b="0" lang="en-US" sz="3200" spc="-1" strike="noStrike">
                <a:solidFill>
                  <a:srgbClr val="fef9ef"/>
                </a:solidFill>
                <a:latin typeface="Times New Roman Italic"/>
                <a:ea typeface="Times New Roman Italic"/>
              </a:rPr>
              <a:t>ВЫПУСКНАЯ РАБОТА</a:t>
            </a:r>
            <a:br>
              <a:rPr sz="3200"/>
            </a:br>
            <a:r>
              <a:rPr b="0" lang="en-US" sz="3200" spc="-1" strike="noStrike">
                <a:solidFill>
                  <a:srgbClr val="fef9ef"/>
                </a:solidFill>
                <a:latin typeface="Times New Roman Italic"/>
                <a:ea typeface="Times New Roman Italic"/>
              </a:rPr>
              <a:t>по теории и методике обучения иностранным языкам</a:t>
            </a:r>
            <a:br>
              <a:rPr sz="3200"/>
            </a:br>
            <a:r>
              <a:rPr b="0" lang="en-US" sz="3200" spc="-1" strike="noStrike">
                <a:solidFill>
                  <a:srgbClr val="fef9ef"/>
                </a:solidFill>
                <a:latin typeface="Times New Roman Italic"/>
                <a:ea typeface="Times New Roman Italic"/>
              </a:rPr>
              <a:t> </a:t>
            </a:r>
            <a:br>
              <a:rPr sz="3200"/>
            </a:br>
            <a:r>
              <a:rPr b="0" lang="en-US" sz="3200" spc="-1" strike="noStrike">
                <a:solidFill>
                  <a:srgbClr val="fef9ef"/>
                </a:solidFill>
                <a:latin typeface="Times New Roman Italic"/>
                <a:ea typeface="Times New Roman Italic"/>
              </a:rPr>
              <a:t>«Игровые моменты при обучении английской грамматики».</a:t>
            </a:r>
            <a:br>
              <a:rPr sz="3200"/>
            </a:br>
            <a:r>
              <a:rPr b="0" lang="en-US" sz="3200" spc="-1" strike="noStrike">
                <a:solidFill>
                  <a:srgbClr val="fef9ef"/>
                </a:solidFill>
                <a:latin typeface="Trebuchet MS"/>
                <a:ea typeface="Trebuchet MS"/>
              </a:rPr>
              <a:t> 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1900" spc="-1" strike="noStrike">
                <a:solidFill>
                  <a:srgbClr val="fef9ef"/>
                </a:solidFill>
                <a:latin typeface="Trebuchet MS"/>
                <a:ea typeface="Trebuchet MS"/>
              </a:rPr>
              <a:t>Автор работы:</a:t>
            </a:r>
            <a:br>
              <a:rPr sz="1900"/>
            </a:br>
            <a:r>
              <a:rPr b="0" lang="en-US" sz="1900" spc="-1" strike="noStrike">
                <a:solidFill>
                  <a:srgbClr val="fef9ef"/>
                </a:solidFill>
                <a:latin typeface="Trebuchet MS"/>
                <a:ea typeface="Trebuchet MS"/>
              </a:rPr>
              <a:t>Васильева Татьяна Петровна</a:t>
            </a:r>
            <a:br>
              <a:rPr sz="3200"/>
            </a:br>
            <a:r>
              <a:rPr b="0" lang="en-US" sz="3700" spc="-1" strike="noStrike">
                <a:solidFill>
                  <a:srgbClr val="fef9ef"/>
                </a:solidFill>
                <a:latin typeface="Trebuchet MS"/>
                <a:ea typeface="Trebuchet MS"/>
              </a:rPr>
              <a:t> </a:t>
            </a:r>
            <a:br>
              <a:rPr sz="3700"/>
            </a:br>
            <a:endParaRPr b="0" lang="en-US" sz="3700" spc="-1" strike="noStrike">
              <a:solidFill>
                <a:srgbClr val="fef9ef"/>
              </a:solidFill>
              <a:latin typeface="Trebuchet MS Bol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8153280" y="0"/>
            <a:ext cx="10033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186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ef9ef"/>
              </a:solidFill>
              <a:latin typeface="Trebuchet MS Bol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776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35080" indent="-2350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Роль и функция учебной игры на уроках английского языка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35080" indent="-2350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 позволяет преподавателю организовать деятельность учащихся, сделать ее более активной, заинтересовать их в изучении предмета и в поиске дополнительных средств для получения информации – то есть создать мотивацию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8153280" y="0"/>
            <a:ext cx="10033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186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ef9ef"/>
              </a:solidFill>
              <a:latin typeface="Trebuchet MS Bol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776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35080" indent="-2350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Роль и функции учебной игры на уроках английского языка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35080" indent="-2350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 дает детям возможность раскрыть свои возможности в непосредственной обстановке.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35080" indent="-2350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овая активность помогает снять не только трудности морфологического и синтаксического характера, она одновременно направлена на преодоление трудностей речевого общения.</a:t>
            </a:r>
            <a:endParaRPr b="0" lang="en-US" sz="2300" spc="-1" strike="noStrike">
              <a:solidFill>
                <a:srgbClr val="000000"/>
              </a:solidFill>
              <a:latin typeface="Trebuchet MS"/>
            </a:endParaRPr>
          </a:p>
          <a:p>
            <a:pPr marL="235080" indent="-2350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 способствует развитию таких качеств как самостоятельность и инициативность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8153280" y="0"/>
            <a:ext cx="10033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186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ef9ef"/>
              </a:solidFill>
              <a:latin typeface="Trebuchet MS Bol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776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35080" indent="-2350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rebuchet MS"/>
              </a:rPr>
              <a:t>Специфика и структура игры в процессе обучения</a:t>
            </a:r>
            <a:endParaRPr b="0" lang="en-US" sz="2300" spc="-1" strike="noStrike">
              <a:solidFill>
                <a:srgbClr val="000000"/>
              </a:solidFill>
              <a:latin typeface="Trebuchet MS"/>
            </a:endParaRPr>
          </a:p>
          <a:p>
            <a:pPr marL="235080" indent="-2350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 специфика игры заключается в том, что “учебные задачи выступают перед учащимися не в явном виде, а маскируются. Играя, ребенок не ставит перед собой учебной задачи, но в результате он чему-то научается</a:t>
            </a:r>
            <a:endParaRPr b="0" lang="en-US" sz="2300" spc="-1" strike="noStrike">
              <a:solidFill>
                <a:srgbClr val="000000"/>
              </a:solidFill>
              <a:latin typeface="Trebuchet MS"/>
            </a:endParaRPr>
          </a:p>
          <a:p>
            <a:pPr marL="235080" indent="-2350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-это речевое упражнение</a:t>
            </a:r>
            <a:endParaRPr b="0" lang="en-US" sz="23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8153280" y="0"/>
            <a:ext cx="10033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186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ef9ef"/>
              </a:solidFill>
              <a:latin typeface="Trebuchet MS Bol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776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35080" indent="-2350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Требование к игре и условия её проведения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35080" indent="-2350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Мотивация</a:t>
            </a: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  <a:p>
            <a:pPr marL="235080" indent="-2350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иально-психологическая готовность учащихся к такого рода деятельности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35080" indent="-2350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есообразность игры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8153280" y="0"/>
            <a:ext cx="10033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186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ef9ef"/>
              </a:solidFill>
              <a:latin typeface="Trebuchet MS Bol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776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35080" indent="-2350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Классификация игр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35080" indent="-2350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мматические игры;</a:t>
            </a:r>
            <a:endParaRPr b="0" lang="en-US" sz="2700" spc="-1" strike="noStrike">
              <a:solidFill>
                <a:srgbClr val="000000"/>
              </a:solidFill>
              <a:latin typeface="Trebuchet MS"/>
            </a:endParaRPr>
          </a:p>
          <a:p>
            <a:pPr marL="235080" indent="-2350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ы для обучения чтению;</a:t>
            </a:r>
            <a:endParaRPr b="0" lang="en-US" sz="2700" spc="-1" strike="noStrike">
              <a:solidFill>
                <a:srgbClr val="000000"/>
              </a:solidFill>
              <a:latin typeface="Trebuchet MS"/>
            </a:endParaRPr>
          </a:p>
          <a:p>
            <a:pPr marL="235080" indent="-2350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ы для обучения аудированию;</a:t>
            </a:r>
            <a:endParaRPr b="0" lang="en-US" sz="2700" spc="-1" strike="noStrike">
              <a:solidFill>
                <a:srgbClr val="000000"/>
              </a:solidFill>
              <a:latin typeface="Trebuchet MS"/>
            </a:endParaRPr>
          </a:p>
          <a:p>
            <a:pPr marL="235080" indent="-2350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ы для обучения говорению;</a:t>
            </a:r>
            <a:endParaRPr b="0" lang="en-US" sz="2700" spc="-1" strike="noStrike">
              <a:solidFill>
                <a:srgbClr val="000000"/>
              </a:solidFill>
              <a:latin typeface="Trebuchet MS"/>
            </a:endParaRPr>
          </a:p>
          <a:p>
            <a:pPr marL="235080" indent="-2350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ешанные игры.</a:t>
            </a:r>
            <a:endParaRPr b="0" lang="en-US" sz="2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8153280" y="0"/>
            <a:ext cx="10033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186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ef9ef"/>
              </a:solidFill>
              <a:latin typeface="Trebuchet MS Bol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776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35080" indent="-2350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Игровой метод при изучении грамматики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35080" indent="-2350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построение на знакомой лексике (в случае необходимости незнакомые слова записываются заранее на доске, чтобы не нарушать коммуникации;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35080" indent="-2350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отражение наиболее типичного случая употребления грамматического явления;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35080" indent="-2350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в содержание должно быть включено только одно грамматическое явление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35080" indent="-2350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примеры должны соответствовать тому материалу, который будет в упражнениях (согласно традиционной методике)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153280" y="0"/>
            <a:ext cx="10033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186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ef9ef"/>
              </a:solidFill>
              <a:latin typeface="Trebuchet MS Bol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776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35080" indent="-2350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Игры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35080" indent="-2350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1. Модальные глаголы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35080" indent="-2350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2. Глагол «to be»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35080" indent="-2350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3</a:t>
            </a:r>
            <a:r>
              <a:rPr b="0" lang="en-US" sz="1400" spc="-1" strike="noStrike">
                <a:solidFill>
                  <a:srgbClr val="000000"/>
                </a:solidFill>
                <a:latin typeface="Times New Roman Bold Italic"/>
                <a:ea typeface="Times New Roman Bold Italic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Times New Roman Bold Italic"/>
                <a:ea typeface="Times New Roman Bold Italic"/>
              </a:rPr>
              <a:t>Hide-and-Seek in a picture 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235080" indent="-2350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4.</a:t>
            </a:r>
            <a:r>
              <a:rPr b="0" lang="en-US" sz="2100" spc="-1" strike="noStrike">
                <a:solidFill>
                  <a:srgbClr val="000000"/>
                </a:solidFill>
                <a:latin typeface="Times New Roman Bold Italic"/>
                <a:ea typeface="Times New Roman Bold Italic"/>
              </a:rPr>
              <a:t>«Что было вчера?»</a:t>
            </a: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  <a:p>
            <a:pPr marL="235080" indent="-2350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 Bold Italic"/>
                <a:ea typeface="Times New Roman Bold Italic"/>
              </a:rPr>
              <a:t>5.«Что ты делаешь?»</a:t>
            </a: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  <a:p>
            <a:pPr marL="235080" indent="-2350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 Bold Italic"/>
                <a:ea typeface="Times New Roman Bold Italic"/>
              </a:rPr>
              <a:t>6. What is there in the box?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35080" indent="-2350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 Bold Italic"/>
                <a:ea typeface="Times New Roman Bold Italic"/>
              </a:rPr>
              <a:t>7</a:t>
            </a:r>
            <a:r>
              <a:rPr b="0" lang="en-US" sz="1400" spc="-1" strike="noStrike">
                <a:solidFill>
                  <a:srgbClr val="000000"/>
                </a:solidFill>
                <a:latin typeface="Times New Roman Bold Italic"/>
                <a:ea typeface="Times New Roman Bold Ital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 Bold Italic"/>
                <a:ea typeface="Times New Roman Bold Italic"/>
              </a:rPr>
              <a:t>Describe the pictur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35080" indent="-2350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</a:t>
            </a:r>
            <a:r>
              <a:rPr b="0" lang="en-US" sz="1400" spc="-1" strike="noStrike">
                <a:solidFill>
                  <a:srgbClr val="000000"/>
                </a:solidFill>
                <a:latin typeface="Times New Roman Bold Italic"/>
                <a:ea typeface="Times New Roman Bold Italic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 Bold Italic"/>
                <a:ea typeface="Times New Roman Bold Italic"/>
              </a:rPr>
              <a:t>Заучи рифмовки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35080" indent="-2350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 Bold Italic"/>
                <a:ea typeface="Times New Roman Bold Italic"/>
              </a:rPr>
              <a:t>9.</a:t>
            </a:r>
            <a:r>
              <a:rPr b="0" lang="en-US" sz="1400" spc="-1" strike="noStrike">
                <a:solidFill>
                  <a:srgbClr val="000000"/>
                </a:solidFill>
                <a:latin typeface="Times New Roman Bold Italic"/>
                <a:ea typeface="Times New Roman Bold Italic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 Bold Italic"/>
                <a:ea typeface="Times New Roman Bold Italic"/>
              </a:rPr>
              <a:t>Исправь ошибку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235080" indent="-2350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 Bold Italic"/>
                <a:ea typeface="Times New Roman Bold Italic"/>
              </a:rPr>
              <a:t>1</a:t>
            </a:r>
            <a:r>
              <a:rPr b="0" lang="en-US" sz="2300" spc="-1" strike="noStrike">
                <a:solidFill>
                  <a:srgbClr val="000000"/>
                </a:solidFill>
                <a:latin typeface="Times New Roman Bold Italic"/>
                <a:ea typeface="Times New Roman Bold Italic"/>
              </a:rPr>
              <a:t>0. Игра: Найди пропажу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8153280" y="0"/>
            <a:ext cx="10033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186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ef9ef"/>
              </a:solidFill>
              <a:latin typeface="Trebuchet MS Bol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776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35080" indent="-2350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Урок- игра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8153280" y="0"/>
            <a:ext cx="10033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186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ef9ef"/>
              </a:solidFill>
              <a:latin typeface="Trebuchet MS Bol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776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35080" indent="-2350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Заключение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8153280" y="0"/>
            <a:ext cx="10033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186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ef9ef"/>
              </a:solidFill>
              <a:latin typeface="Trebuchet MS Bol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776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35080" indent="-2350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список литературы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8153280" y="0"/>
            <a:ext cx="10033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186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ef9ef"/>
                </a:solidFill>
                <a:latin typeface="Trebuchet MS"/>
                <a:ea typeface="Trebuchet MS"/>
              </a:rPr>
              <a:t>Содержание</a:t>
            </a:r>
            <a:endParaRPr b="0" lang="en-US" sz="3800" spc="-1" strike="noStrike">
              <a:solidFill>
                <a:srgbClr val="fef9ef"/>
              </a:solidFill>
              <a:latin typeface="Trebuchet MS Bol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607760"/>
            <a:ext cx="7497720" cy="484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94000"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ВВЕДЕНИЕ………………………….…………………………………...………………………………..……3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Глава 1.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Традиционный подход к обучению грамматике……………………….……5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1.1. Обучение грамматической стороне речи как важнейшей составляющей коммуникативной компетенции……………………………………..…………………………………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1.2. Понятие «грамматика» и проблема роли и объема грамматики в курсе ИЯ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Глава 2.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 Игра как средство обучения иностранному языку…………………………..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2.1.Сущность игры………………………………………………………………………………………………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2.2. Роль и функции учебной игры на уроках английского языка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2.3. Специфика и структура игры в процессе обучения………………..…………………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2.4. Требования к игре и условиям её проведения. …………………..……………………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2.5  Классификация игр. Языковые игры……………………………………………………………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ЗАКЛЮЧЕНИЕ…………………………………………………………….…………………..…..….………….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СПИСОК ИСПОЛЬЗОВАННЫХ ИСТОЧНИКОВ ………………..............................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8153280" y="0"/>
            <a:ext cx="10033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186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ef9ef"/>
              </a:solidFill>
              <a:latin typeface="Trebuchet MS Bol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776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35080" indent="-2350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Приложение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8153280" y="0"/>
            <a:ext cx="10033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186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ef9ef"/>
              </a:solidFill>
              <a:latin typeface="Trebuchet MS Bol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776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8153280" y="0"/>
            <a:ext cx="10033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186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ef9ef"/>
              </a:solidFill>
              <a:latin typeface="Trebuchet MS Bol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776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8153280" y="0"/>
            <a:ext cx="10033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186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ef9ef"/>
              </a:solidFill>
              <a:latin typeface="Trebuchet MS Bol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776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8153280" y="0"/>
            <a:ext cx="10033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186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ef9ef"/>
              </a:solidFill>
              <a:latin typeface="Trebuchet MS Bol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776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8153280" y="0"/>
            <a:ext cx="10033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186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ef9ef"/>
              </a:solidFill>
              <a:latin typeface="Trebuchet MS Bol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776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"/>
          <p:cNvSpPr/>
          <p:nvPr/>
        </p:nvSpPr>
        <p:spPr>
          <a:xfrm>
            <a:off x="2331720" y="2222640"/>
            <a:ext cx="178632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3960" tIns="0" bIns="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Введени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" name=""/>
          <p:cNvSpPr/>
          <p:nvPr/>
        </p:nvSpPr>
        <p:spPr>
          <a:xfrm>
            <a:off x="1628640" y="2844720"/>
            <a:ext cx="44323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60" tIns="0" bIns="0" anchor="t">
            <a:noAutofit/>
          </a:bodyPr>
          <a:p>
            <a:pPr algn="just">
              <a:lnSpc>
                <a:spcPct val="150000"/>
              </a:lnSpc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- интерес к изучению языка: приближает речевую деятельность к естественным нормам, помогает развивать навыки общения, способствует эффективной отработке языкового материала, обеспечивает практическую направленность обучения.</a:t>
            </a:r>
            <a:endParaRPr b="0" lang="en-US" sz="19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8153280" y="0"/>
            <a:ext cx="10033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186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ef9ef"/>
              </a:solidFill>
              <a:latin typeface="Trebuchet MS Bol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776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35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35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35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35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35080" indent="-2350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Цели и задачи исследования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35080" indent="-2350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анализ повышения эффективности изучения грамматического материала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35080" indent="-2350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выделить особенности использования игровых моментов в обучении английскому языку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8153280" y="0"/>
            <a:ext cx="10033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186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ef9ef"/>
              </a:solidFill>
              <a:latin typeface="Trebuchet MS Bol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776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35080" indent="-2350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Традиионный подход к обучению грамматики предпологает  формирование чисто языковых  навыков (лексических, фонетических, грамматических), речевой деятельности, развитие  умений и навыков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8153280" y="0"/>
            <a:ext cx="10033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186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ef9ef"/>
              </a:solidFill>
              <a:latin typeface="Trebuchet MS Bol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776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35080" indent="-2350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ение любому языку проводилось посредством грамматики, как правило, построенной по образцу латинской. Грамматика изучалась как особый предмет и как самоцель.</a:t>
            </a:r>
            <a:endParaRPr b="0" lang="en-US" sz="33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8153280" y="0"/>
            <a:ext cx="10033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186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ef9ef"/>
              </a:solidFill>
              <a:latin typeface="Trebuchet MS Bol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776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38160" rIns="3960" tIns="38160" bIns="38160" anchor="t">
            <a:normAutofit/>
          </a:bodyPr>
          <a:p>
            <a:pPr marL="235080" indent="-2350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грамматика» обозначает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35080" indent="0" algn="just">
              <a:lnSpc>
                <a:spcPct val="100000"/>
              </a:lnSpc>
              <a:buNone/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грамматический строй языка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35080" indent="0" algn="just">
              <a:lnSpc>
                <a:spcPct val="150000"/>
              </a:lnSpc>
              <a:buNone/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раздел языкознания, изучающий такой строй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35080" indent="0" algn="just">
              <a:lnSpc>
                <a:spcPct val="150000"/>
              </a:lnSpc>
              <a:buNone/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совокупность правил изменения слов, их соединений в сочетания, предложения (иногда тексты)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35080" indent="0" algn="just">
              <a:lnSpc>
                <a:spcPct val="150000"/>
              </a:lnSpc>
              <a:buNone/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учебник, содержащий описание правил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8153280" y="0"/>
            <a:ext cx="10033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186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ef9ef"/>
              </a:solidFill>
              <a:latin typeface="Trebuchet MS Bol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776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35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 marL="235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 marL="235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 marL="235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 marL="235080" indent="-2350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Проблема обучения грамматическим навыкам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35080" indent="-2350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щиеся как бы употребляют в речи языковые структуры, но не осознают их грамматической информации, а, следовательно, не всегда точно понимают их значение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8153280" y="0"/>
            <a:ext cx="10033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186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ef9ef"/>
              </a:solidFill>
              <a:latin typeface="Trebuchet MS Bol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776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35080" indent="-2350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Игра как одно из средств обучения грамматики иностранному языку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35080" indent="-2350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Сущность игры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35080" indent="-2350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Нужна ли игра на уроке английского языка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КОТ</dc:creator>
  <dc:description/>
  <dc:language>en-US</dc:language>
  <cp:lastModifiedBy/>
  <cp:revision>0</cp:revision>
  <dc:subject/>
  <dc:title>  ВЫПУСКНАЯ РАБОТА по теории и методике обучения иностранным языкам   «Игровые моменты при обучении английской грамматики».     Автор работы: Васильева Татьяна Петровна   </dc:title>
</cp:coreProperties>
</file>