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2A6-2A91-4EC0-B9F5-8293CFFB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F3D-9C9B-4CF1-8925-970ED703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C27-A1F3-4522-B27E-CB336ED6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707-2CDC-4F3A-B638-1EF7A7E0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A3AF-E5B1-4818-867E-2263E6D5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7ACD-FE2B-4164-B0CD-24CC700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DA53-86E7-4226-A235-6AFA55E4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9077-BBAB-4799-AFC7-B0D3012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37B3-AE15-4635-902E-7263178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93FC-8E92-492B-A30D-E34AF9D2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CDFF-29E5-4551-BB9A-B61D10C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0F4-D22B-4061-B992-855FC966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042E-85C1-4A24-B065-679CF05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C81-7B15-4521-88DC-9142416F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2727-CC5F-4721-92E2-658CD959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5727-0AE4-4045-A113-BBF70D02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0FA-1837-4E2E-8151-6561A8B9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7464-6F58-4635-BF50-158F3FA6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2844-C5B0-4B6E-9227-2549CF0D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70A4-B8DE-4347-B152-D696FF58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0C0B-3D02-4772-B0D4-DB971B4F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C211-0C51-4C0E-A402-F05DB00B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049-C631-4D16-B9D9-B23D24B4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76A1-4C55-469E-996A-3048B65C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5094-A00F-4FA8-B692-8B8FA86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9C5E-C8AB-46B4-B977-0C479AA5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83EC-6EE8-4B5C-BBC5-75232E19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F418-B296-4224-A9C3-62D2899B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CF6A-97D3-4AA3-9B41-849A888D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102E-BA38-44C3-AC1E-9D464677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6F8F-C7B8-4980-91F3-FC208045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734E-A06A-4CEE-A0B9-9FF864F6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3639-94D1-434A-ACC3-DF93E102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7D4-32EA-4C62-936C-2C7320A0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BE99-A369-4B0C-8E23-CE49B236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29A9-E017-42CA-888D-D6F21DF1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9799-3A51-48A9-B1BF-DC5D494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73B4-1E18-4AD0-AB12-AA99C88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8F2C-30AD-4547-B8DD-6B4C117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92D7-AE86-4C4E-BDB1-396B4FE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D09E-084C-4CC0-9625-DA9A644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9DE0-5468-4D89-BA06-82584006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43CBF-A6D5-4112-B0E9-F26EAA28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7546-F76B-4B5D-9F4F-2D6003F3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7A4-A013-4FB1-8421-C816E3D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0910-A096-4646-9D0E-2E23CB3F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0FC85-E4BC-4815-AAD8-5F262BB8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D8F1F-079E-4028-8ABA-ACFD2DCA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8AA86-1391-407E-92D5-E159FCDF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CC4D-94A8-4F8E-B14F-7C18FE4F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79F1-2A90-4805-AFEF-BC61272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B6D95-FE1D-4FE6-A793-5DC04070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FAB1-5354-46FB-83E2-9A04A6ED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7BF3-5D34-45BA-845E-632CEBE4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E219-FC30-4D75-B3C9-92BA2AF5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8F5-4DF9-4EC7-8BAE-9AE1F218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BA91-B5CF-44F4-8CB0-EB1FB2DB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905E9-7D21-4524-8445-5C4138C1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D13EA-7A62-4E6F-80D3-655DAB49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119C-F7F8-489B-9C74-4B2311A0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CB23-9E90-4ECB-963C-6BF4961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A0DEF-6A47-4D90-B988-6A770E21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6CF6-96A3-4F43-A797-1C1D93A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079BE-AABD-41F7-83C9-CA84D8D8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A731-B50F-4612-AA69-349B6D4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57AD-4FDC-4FA8-A42C-74CE7D9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6CC-470C-4C9D-B431-7C87872A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20AF-22AC-4643-9CBC-7CADF35B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05A3B-1988-4F22-B1BB-2F8CEA42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0C4CF-1029-48EC-85AE-F18083F6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79218-663B-4675-98D9-E1FACEA4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7DEB0-6909-4787-8DA9-6151016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0D61-DCEB-4FD8-9DA9-DECD11A3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FC23-4BA2-4124-88F3-9DE02850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64CEB-73C0-4ADA-B5D2-F6E98524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5A7DB-E523-4C3C-9582-9CA36C74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BCCF-C816-4544-B3E1-163E00D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196-2AD6-47B3-A8C1-96756916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53D5-7ADE-4001-A0C6-DE5950E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F0F6-1909-4F56-BDA0-1DF3F08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B81E-CEC2-4F1D-82E9-D76523B5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C3CF-4A7E-456C-AD4B-844DA8A9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8AE13-3162-443A-8050-C8A2DA19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964-221D-469C-8187-FF4CFC45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7CF4-3A67-47FA-A92C-CCB680FB73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9EF8-565B-4FD6-9A97-D34E0FEB63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896C-20D0-4841-9AA3-6009D06021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C3C1-29DD-4736-8640-D33C4B0BB1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1F2-989C-4A5B-9AB3-0559CF3E6C00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53B3-FBE9-419B-9C26-D99CC3B799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EC65-8C9C-4F7B-8161-9951AD33E4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4"/>
          <p:cNvSpPr/>
          <p:nvPr/>
        </p:nvSpPr>
        <p:spPr>
          <a:xfrm>
            <a:off x="2195640" y="2349360"/>
            <a:ext cx="4968720" cy="93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92520" y="691920"/>
            <a:ext cx="38894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M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ОУ «Прудковская средняя школа»</a:t>
            </a:r>
            <a:br>
              <a:rPr sz="1400"/>
            </a:b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471320" y="1484280"/>
            <a:ext cx="70009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РОЕКТ ПО ПРЕДМЕТУ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КРУЖАЮЩИЙ МИР»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ОЯ МАЛАЯ РОДИНА»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Ж ИЛЬЯ, 1 КЛАСС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РАБОТЫ: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КОВА ЛЮБОВЬ АЛЕКСЕЕВНА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 Г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3"/>
          <p:cNvSpPr/>
          <p:nvPr/>
        </p:nvSpPr>
        <p:spPr>
          <a:xfrm>
            <a:off x="539640" y="404640"/>
            <a:ext cx="8136000" cy="576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3429000"/>
            <a:ext cx="727884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ы гордимся именами известных уроженцев Починковской земли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Александр Трифонович Твардовский — советский поэт.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Лазарь Маркович Лисицкий (Эль Лисицкий)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 — советский художник и архитектор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Николай Михайлович Пржевальский — русский путешественник и натуралист 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Александр Иванович Максименков — советский футболист, полузащитник. Мастер спорта СССР международного класса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9" name="Picture 2" descr="ТвардовскийАлександрТрифонович.jpg"/>
          <p:cNvPicPr/>
          <p:nvPr/>
        </p:nvPicPr>
        <p:blipFill>
          <a:blip r:embed="rId2"/>
          <a:stretch/>
        </p:blipFill>
        <p:spPr>
          <a:xfrm>
            <a:off x="1463760" y="4478400"/>
            <a:ext cx="1176120" cy="155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Автопортрет (деталь). 1924 год."/>
          <p:cNvPicPr/>
          <p:nvPr/>
        </p:nvPicPr>
        <p:blipFill>
          <a:blip r:embed="rId3"/>
          <a:stretch/>
        </p:blipFill>
        <p:spPr>
          <a:xfrm>
            <a:off x="3059280" y="4473720"/>
            <a:ext cx="1081080" cy="1511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Пржевальский88.jpg"/>
          <p:cNvPicPr/>
          <p:nvPr/>
        </p:nvPicPr>
        <p:blipFill>
          <a:blip r:embed="rId4"/>
          <a:stretch/>
        </p:blipFill>
        <p:spPr>
          <a:xfrm>
            <a:off x="4478400" y="4389480"/>
            <a:ext cx="1679400" cy="1928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Максименков Александр Иванович.jpg"/>
          <p:cNvPicPr/>
          <p:nvPr/>
        </p:nvPicPr>
        <p:blipFill>
          <a:blip r:embed="rId5"/>
          <a:stretch/>
        </p:blipFill>
        <p:spPr>
          <a:xfrm>
            <a:off x="6481800" y="4410000"/>
            <a:ext cx="126360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2"/>
          <p:cNvSpPr/>
          <p:nvPr/>
        </p:nvSpPr>
        <p:spPr>
          <a:xfrm>
            <a:off x="395280" y="176040"/>
            <a:ext cx="8353440" cy="613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https://upload.wikimedia.org/wikipedia/commons/thumb/6/69/Tvardovskiy.JPG/250px-Tvardovskiy.JPG"/>
          <p:cNvPicPr/>
          <p:nvPr/>
        </p:nvPicPr>
        <p:blipFill>
          <a:blip r:embed="rId2"/>
          <a:stretch/>
        </p:blipFill>
        <p:spPr>
          <a:xfrm>
            <a:off x="919080" y="174600"/>
            <a:ext cx="1492200" cy="11224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44560" y="2224080"/>
            <a:ext cx="230328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одиться бы мне по заказу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У теплого моря в Крыму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А нет,— побережьем Кавказа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Ходить, как в родимом дому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 славить бы море и сушу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 привычном соседстве просто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 видеть и слышать их душу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рожденным сыновним чутьем…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одиться бы, что ли, на Волг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воими считать Жигул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 домик в рыбачьем поселк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Что с палубы видишь вдали…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одиться бы в сердце Урал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Чья слава доныне скрытн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Чтоб в песне моей прозвучала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 нежданною силой она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 Сибири, на Дальнем Восток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 краю молодых городов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 некоей там новостройке,—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езде я с охотой готов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одиться.</a:t>
            </a:r>
            <a:br>
              <a:rPr sz="1100"/>
            </a:br>
            <a:endParaRPr b="0" lang="en-US" sz="11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3076560" y="1346040"/>
            <a:ext cx="223200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дно не годится: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где ни случилось бы мн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гда бы не смог я родиться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родимой моей стороне —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недальней, отцами обжито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дедами с давних времен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овсем не такой знаменитой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одной из негромких сторон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ет ни жары парниковой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и знатных зимой холодов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и моря вблизи никакого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и горных, конечно, хребт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и рек полноты величавой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реки такие подряд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мельницу на два постав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з сил выбиваясь, вертят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5508720" y="1346040"/>
            <a:ext cx="273528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ичем сторона не богат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мне уже тем хорош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там наудачу когда-то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я народилась душ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в дальней дали зарубежной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 многом забыв на войн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 тоской и тревогою нежно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умал о той сторон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счастью великой, единой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ященной, как правды закон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таинству речи родимо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собственный лад приобще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 нею — из той незавидно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 многим статьям сторон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всю мою Родину видно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род с кремлевской сте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са ее, горы, столиц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рейде ее корабли…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сюду готов я родиться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 знаменем этой зем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только и прежде и нын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лей мне моя сторона —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 той по одной лишь причин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жизнь достается одн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2422440" y="5508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хотворение Александра Твардовского «Род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6"/>
          <p:cNvSpPr/>
          <p:nvPr/>
        </p:nvSpPr>
        <p:spPr>
          <a:xfrm>
            <a:off x="179280" y="189000"/>
            <a:ext cx="8753760" cy="611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90520" y="2491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Я люблю свою деревню Прудки – это моя Малая Родина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Я любуюсь прекрасной природой, дышу свежим воздухом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Играю с друзьями в тех местах, где прошло детство моего прадедушки и многих поколений моей семьи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Мы с братом учимся в школе, в которой учились наша бабушка, мама и другие близкие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Мне нравится жить в Прудках-это мое родное место!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1" name="Рисунок 2" descr=""/>
          <p:cNvPicPr/>
          <p:nvPr/>
        </p:nvPicPr>
        <p:blipFill>
          <a:blip r:embed="rId2"/>
          <a:stretch/>
        </p:blipFill>
        <p:spPr>
          <a:xfrm>
            <a:off x="5259240" y="476280"/>
            <a:ext cx="3673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280" y="2276280"/>
            <a:ext cx="7545240" cy="1944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Цель проекта: рассказать о своей малой родине и отношению к родным местам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Задачи: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-рассказать об истории деревни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-рассказать о известных земляках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-выразить с помощью стихов, чувства к малой родине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790560" y="658800"/>
            <a:ext cx="76341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00080" y="1483920"/>
            <a:ext cx="721512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 Light"/>
              </a:rPr>
              <a:t>С чего начинается Родина?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 Light"/>
              </a:rPr>
              <a:t>С того места где человек родился и вырос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alibri Light"/>
              </a:rPr>
              <a:t>Моя Малая Родина-деревня Прудки.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 Light"/>
              </a:rPr>
              <a:t>Она расположена в Починковском районе Смоленской области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 Light"/>
              </a:rPr>
              <a:t>Наша деревня -древний и живописный уголок Смоленщины.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0" name="Рисунок 3" descr=""/>
          <p:cNvPicPr/>
          <p:nvPr/>
        </p:nvPicPr>
        <p:blipFill>
          <a:blip r:embed="rId2"/>
          <a:stretch/>
        </p:blipFill>
        <p:spPr>
          <a:xfrm>
            <a:off x="2548080" y="3789360"/>
            <a:ext cx="4119480" cy="271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790560" y="658800"/>
            <a:ext cx="76341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0080" y="2133720"/>
            <a:ext cx="7215120" cy="48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Великую землю,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Любимую землю,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где мы родились и живем,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Мы Родиной светлой,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Мы Родиной нашей,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Arial"/>
                <a:ea typeface="Arial"/>
              </a:rPr>
              <a:t>Мы Родиной милой зовем.</a:t>
            </a:r>
            <a:br>
              <a:rPr sz="43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790560" y="692280"/>
            <a:ext cx="7632720" cy="487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10720" y="1988640"/>
            <a:ext cx="7215480" cy="27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деревни Прудки уходит в глубокое прошло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же в 5 веке нашей эры здесь располагалось большое поселени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ые называют такие поселения –городищами Тушемлинской культуры.</a:t>
            </a: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5" name="Picture 2" descr="http://sbiblio.com/BIBLIO/archive/sedov_stu/images/12_clip_image004.gif"/>
          <p:cNvPicPr/>
          <p:nvPr/>
        </p:nvPicPr>
        <p:blipFill>
          <a:blip r:embed="rId2"/>
          <a:srcRect l="0" t="0" r="0" b="9485"/>
          <a:stretch/>
        </p:blipFill>
        <p:spPr>
          <a:xfrm>
            <a:off x="2843280" y="3213000"/>
            <a:ext cx="3117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https://www.nashe.travel/media/filer_public_thumbnails/filer_public/d6/23/d6234a16-47bf-43c5-8b50-16b44ff664c5/grezy_smolenskogo_poozeria_4.jpg__1000x800_q85_subsampling-2_upscale.jpg"/>
          <p:cNvPicPr/>
          <p:nvPr/>
        </p:nvPicPr>
        <p:blipFill>
          <a:blip r:embed="rId1"/>
          <a:stretch/>
        </p:blipFill>
        <p:spPr>
          <a:xfrm>
            <a:off x="1619280" y="2852640"/>
            <a:ext cx="2479680" cy="3414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5133960" y="2851200"/>
            <a:ext cx="2604960" cy="34084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5480" y="1197000"/>
            <a:ext cx="60483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званию  нашей деревни более 500 лет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упоминается в 1503 году, как волость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уды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родный костюм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7-19 веков (современная территория Починковского района)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2" descr=""/>
          <p:cNvPicPr/>
          <p:nvPr/>
        </p:nvPicPr>
        <p:blipFill>
          <a:blip r:embed="rId1"/>
          <a:stretch/>
        </p:blipFill>
        <p:spPr>
          <a:xfrm>
            <a:off x="55440" y="404640"/>
            <a:ext cx="9025200" cy="5688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080" y="2598480"/>
            <a:ext cx="8820360" cy="12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ши предки занимались земледелием-выращивали рожь и лен, разводили скот, рыбачили, охотились, собирали ягоды и грибы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мели прясть и  ткать ,  хорошо владели кузнечным ремеслом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делали гончарную посуду из глины, умели строить избы, сооружать печи, плести корзины и сети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очиняли песни, сказки, пословицы.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324000" y="115920"/>
            <a:ext cx="8496000" cy="61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1" descr=""/>
          <p:cNvPicPr/>
          <p:nvPr/>
        </p:nvPicPr>
        <p:blipFill>
          <a:blip r:embed="rId2"/>
          <a:stretch/>
        </p:blipFill>
        <p:spPr>
          <a:xfrm>
            <a:off x="671400" y="115920"/>
            <a:ext cx="7801200" cy="619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3280" y="1483920"/>
            <a:ext cx="6634080" cy="44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Жители Прудков-трудолюбивые, открытые и добрые люди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У нас здороваются с прохожими, соседи  помогают друг другу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Многие Прудковцы помнят  не одно поколение семей,  живущих по- соседству, или на одной улице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 школе, сельском медицинском пункте, магазине, доме культуры, на почте - односельчане вежливы и доброжелательны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 деревне проходят субботники, праздники и концерты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зрослые воспитывают молодежь в духе уважения к истории родной деревни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Школьники ухаживают за мемориалом воинам-односельчанам, павшим в годы Великой Отечественной войны. За памятником мирным жителям, пострадавшим во время фашистской оккупации. В Прудках восстановлен храм св. Петра и Павла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 школах ведется краеведческая  работа.</a:t>
            </a:r>
            <a:br>
              <a:rPr sz="14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4"/>
          <p:cNvSpPr/>
          <p:nvPr/>
        </p:nvSpPr>
        <p:spPr>
          <a:xfrm>
            <a:off x="684360" y="115920"/>
            <a:ext cx="7708680" cy="615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2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907240" cy="44308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27704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Наша школа носит имя генерала-полковника авиац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вана Егоровича Корзунова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-Героя Советского Союза, участника Великой Отечественной войны, летчика бомбардировочной авиации, военачальника. Он выпускник Прудковской школы.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За годы войны он совершил 254 боевых вылета, потопив 25 вражеских кораблей, был ранен.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5T11:49:50Z</dcterms:created>
  <dc:creator>Катя</dc:creator>
  <dc:description/>
  <dc:language>en-US</dc:language>
  <cp:lastModifiedBy>админ</cp:lastModifiedBy>
  <cp:lastPrinted>2019-11-28T21:41:14Z</cp:lastPrinted>
  <dcterms:modified xsi:type="dcterms:W3CDTF">2019-12-18T18:02:27Z</dcterms:modified>
  <cp:revision>71</cp:revision>
  <dc:subject/>
  <dc:title>СОГБОУ «Починковская школа-интернат»</dc:title>
</cp:coreProperties>
</file>