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2539-3296-4029-8406-7738B339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1EFC-7523-4FB4-8788-6750653E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D44D-9B53-4BEF-BCC8-B587D7F8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E587-4514-47F5-A315-CA2FB352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8021-BF71-45F2-A3B8-D472CD8D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8E76-7556-4199-A7F5-2FAAAE51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8916-44C8-4ED3-ACA1-9532AF19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BE69-2872-406C-966B-1D2DD7F6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9778-36FF-48D3-88D4-AC464929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0D6C-3885-49EE-ADF7-4045CB48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4D56-FD2C-4D4E-8FC3-861D7E85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BA7B-6595-45ED-8BD3-E0B0DB91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A0EB-5D76-4479-8D64-1EF4A1E05D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260280"/>
            <a:ext cx="8013600" cy="58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«Рейтинговая система 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ак средство повышения активности обучающихся на уроках физической культуры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л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паков Евгений Максимович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физической культур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Кукнурская средняя общеобразовательная школа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нурского района Республики Марий Э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9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5" descr="Рисунок (23).jpg"/>
          <p:cNvPicPr/>
          <p:nvPr/>
        </p:nvPicPr>
        <p:blipFill>
          <a:blip r:embed="rId1"/>
          <a:stretch/>
        </p:blipFill>
        <p:spPr>
          <a:xfrm>
            <a:off x="179280" y="189000"/>
            <a:ext cx="87454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850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изкультурно-спортивный комплекс Г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4" descr="Рисунок (29).jpg"/>
          <p:cNvPicPr/>
          <p:nvPr/>
        </p:nvPicPr>
        <p:blipFill>
          <a:blip r:embed="rId1"/>
          <a:stretch/>
        </p:blipFill>
        <p:spPr>
          <a:xfrm>
            <a:off x="122400" y="1197000"/>
            <a:ext cx="8901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0010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тношение к своему здоров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42560" y="856800"/>
            <a:ext cx="9001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обучающимися домашнего зад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спортивных секц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ние тетради самоконтрол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уск  занятий и соревнова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личного спортивного инвентар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4" descr=""/>
          <p:cNvPicPr/>
          <p:nvPr/>
        </p:nvPicPr>
        <p:blipFill>
          <a:blip r:embed="rId1"/>
          <a:stretch/>
        </p:blipFill>
        <p:spPr>
          <a:xfrm>
            <a:off x="1332000" y="3860640"/>
            <a:ext cx="2714400" cy="2571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4" name="Picture 12" descr="D:\Евгений\Фото 1\Фото 05.03.12\IMG_2594.jpg"/>
          <p:cNvPicPr/>
          <p:nvPr/>
        </p:nvPicPr>
        <p:blipFill>
          <a:blip r:embed="rId2"/>
          <a:stretch/>
        </p:blipFill>
        <p:spPr>
          <a:xfrm>
            <a:off x="4500720" y="3933720"/>
            <a:ext cx="3558960" cy="2670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001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своение двигательных навык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42560" y="928440"/>
            <a:ext cx="88218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ёт в процессе уроков и формируется через активные формы обуче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портивных играх: интегрированные упражнения, комбинированные уроки, учебные задания в игр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ах гимнастики - комбинации на выбор из различных групп трудности. Для юношей атлетическая гимнастик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Documents and Settings\UserXP\Рабочий стол\Валентина\Фото\Сотовый\Фото-0098.jpg"/>
          <p:cNvPicPr/>
          <p:nvPr/>
        </p:nvPicPr>
        <p:blipFill>
          <a:blip r:embed="rId1"/>
          <a:stretch/>
        </p:blipFill>
        <p:spPr>
          <a:xfrm>
            <a:off x="4211640" y="3860640"/>
            <a:ext cx="3286080" cy="2703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8" name="Picture 5" descr="D:\Евгений\Фото 1\Фото 05.03.12\IMG_2388.jpg"/>
          <p:cNvPicPr/>
          <p:nvPr/>
        </p:nvPicPr>
        <p:blipFill>
          <a:blip r:embed="rId2"/>
          <a:stretch/>
        </p:blipFill>
        <p:spPr>
          <a:xfrm>
            <a:off x="1547640" y="3913200"/>
            <a:ext cx="2359080" cy="25844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обретение знаний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42920" y="928800"/>
            <a:ext cx="88581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проектов, рефератов, исследовательских раб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 стенгазет и бюллетеней здоровь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D:\Валентина\Фото\222\333\IMG_20190517_125750.jpg"/>
          <p:cNvPicPr/>
          <p:nvPr/>
        </p:nvPicPr>
        <p:blipFill>
          <a:blip r:embed="rId1"/>
          <a:stretch/>
        </p:blipFill>
        <p:spPr>
          <a:xfrm>
            <a:off x="611280" y="2997360"/>
            <a:ext cx="4093920" cy="3070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2"/>
          <a:stretch/>
        </p:blipFill>
        <p:spPr>
          <a:xfrm>
            <a:off x="4932360" y="2997360"/>
            <a:ext cx="40561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амостоятельное выполнение физических упражнений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оставить программу тренировки по коррекции своих недостатков, комплекса утренней зарядки, размин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3" descr="C:\Documents and Settings\UserXP\Рабочий стол\Валентина\Фото\фото валя\Фото-0260.jpg"/>
          <p:cNvPicPr/>
          <p:nvPr/>
        </p:nvPicPr>
        <p:blipFill>
          <a:blip r:embed="rId1"/>
          <a:stretch/>
        </p:blipFill>
        <p:spPr>
          <a:xfrm>
            <a:off x="4067280" y="3538440"/>
            <a:ext cx="4397400" cy="2733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6" name="Picture 8" descr="D:\Валентина\Фото\222\1575554468888.jpg"/>
          <p:cNvPicPr/>
          <p:nvPr/>
        </p:nvPicPr>
        <p:blipFill>
          <a:blip r:embed="rId2"/>
          <a:stretch/>
        </p:blipFill>
        <p:spPr>
          <a:xfrm>
            <a:off x="1619280" y="3443400"/>
            <a:ext cx="208908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етодическая практика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3640" y="928800"/>
            <a:ext cx="8351640" cy="20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разминки, тренировки, части урока, судейство соревнований, ведение и обработка  протоко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а для тех обучающихся, кто в дальнейшем хочет связать свою жизнь с физической культурой и спорт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6" descr="IMG_20190120_135541"/>
          <p:cNvPicPr/>
          <p:nvPr/>
        </p:nvPicPr>
        <p:blipFill>
          <a:blip r:embed="rId1"/>
          <a:stretch/>
        </p:blipFill>
        <p:spPr>
          <a:xfrm>
            <a:off x="5867280" y="3284640"/>
            <a:ext cx="2376720" cy="264312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pic>
        <p:nvPicPr>
          <p:cNvPr id="80" name="Picture 7" descr="IMG_20181206_123506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395280" y="3213000"/>
            <a:ext cx="4873680" cy="278460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рост результа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2560" y="856800"/>
            <a:ext cx="9001080" cy="9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учебного года при наблюдении  динамики прироста результатов ставится положительная оце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9" descr="D:\Евгений\Фото 1\Фото-соревнования\Фото-спорт\P1010038.JPG"/>
          <p:cNvPicPr/>
          <p:nvPr/>
        </p:nvPicPr>
        <p:blipFill>
          <a:blip r:embed="rId1"/>
          <a:stretch/>
        </p:blipFill>
        <p:spPr>
          <a:xfrm>
            <a:off x="539640" y="2421000"/>
            <a:ext cx="4869000" cy="3456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4" name="Picture 13" descr="D:\Евгений\Фото 1\Фото-лето 09,допризывная\P1030113.JPG"/>
          <p:cNvPicPr/>
          <p:nvPr/>
        </p:nvPicPr>
        <p:blipFill>
          <a:blip r:embed="rId2"/>
          <a:stretch/>
        </p:blipFill>
        <p:spPr>
          <a:xfrm>
            <a:off x="5724360" y="4365720"/>
            <a:ext cx="2768760" cy="2143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5" name="Picture 18" descr="D:\Евгений\Фото 1\2012\IMG_2344.jpg"/>
          <p:cNvPicPr/>
          <p:nvPr/>
        </p:nvPicPr>
        <p:blipFill>
          <a:blip r:embed="rId3"/>
          <a:stretch/>
        </p:blipFill>
        <p:spPr>
          <a:xfrm>
            <a:off x="5724360" y="1773360"/>
            <a:ext cx="2643480" cy="23684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ополнительные бал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42560" y="999720"/>
            <a:ext cx="90010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на районных, республиканских соревнованиях и спортивных праздниках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спортивных разрядов и рекордов школ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спортивных секц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 в организации соревнований и спортивных празд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D:\Валентина\Фото\презид.игры г.Й-Ола\2014-2015гг\DSCN0178.jpg"/>
          <p:cNvPicPr/>
          <p:nvPr/>
        </p:nvPicPr>
        <p:blipFill>
          <a:blip r:embed="rId1"/>
          <a:stretch/>
        </p:blipFill>
        <p:spPr>
          <a:xfrm>
            <a:off x="4716360" y="3716280"/>
            <a:ext cx="3932280" cy="2160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D:\Валентина\Фото\зима2015\IMG_7637.jpg"/>
          <p:cNvPicPr/>
          <p:nvPr/>
        </p:nvPicPr>
        <p:blipFill>
          <a:blip r:embed="rId2"/>
          <a:stretch/>
        </p:blipFill>
        <p:spPr>
          <a:xfrm>
            <a:off x="1258920" y="3284640"/>
            <a:ext cx="2808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ыводы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78920" y="714240"/>
            <a:ext cx="8713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й задачей уроков физкультуры по-прежнему остается  пропаганда здорового образа жизни, стремление к самоконтролю физического развития, возможность самореализоваться в выбранном виде спорта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системы рейтингового контроля физической подготовленности содействует повышению уровня развития физических качеств учащихся; росту посещаемости уроков физической культуры; повышению уровня успеваемости; усилению интереса учащихся к урокам физической культуры и к занятиям в спортивных секц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D:\Евгений\Фото 1\Фото-соревнования\Новая папка\P1000117.JPG"/>
          <p:cNvPicPr/>
          <p:nvPr/>
        </p:nvPicPr>
        <p:blipFill>
          <a:blip r:embed="rId1"/>
          <a:stretch/>
        </p:blipFill>
        <p:spPr>
          <a:xfrm>
            <a:off x="5003640" y="4653000"/>
            <a:ext cx="2448000" cy="1833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3" name="Picture 7" descr="D:\Евгений\Фото 1\Фото 05.03.12\IMG_2445.jpg"/>
          <p:cNvPicPr/>
          <p:nvPr/>
        </p:nvPicPr>
        <p:blipFill>
          <a:blip r:embed="rId2"/>
          <a:stretch/>
        </p:blipFill>
        <p:spPr>
          <a:xfrm>
            <a:off x="2340000" y="4653000"/>
            <a:ext cx="2087640" cy="1855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8786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br>
              <a:rPr sz="1400"/>
            </a:br>
            <a:br>
              <a:rPr sz="1400"/>
            </a:b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26920" y="836280"/>
            <a:ext cx="74901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ктуальнос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с большей объективностью оценивать знания и умения обучаю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двигательной активности детей на уроках физической культуры и вне школ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управления для процесса                              физического воспитания в контексте                             ухудшения здоровья детей, снижения уровня их  физической подготовлен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актическая значим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691920"/>
            <a:ext cx="87138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ключается в дальнейшей отработке системы рейтингового контроля на уроках физической культуры, что способствует оптимизации и увеличению двигательной активности, повышению уровня физической подготовленности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равнительный анализ позволяет сделать вывод, что применение рейтинга оживило уроки физкультуры и значительно улучшило все показател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анная система оценивания да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можность самому спланировать себе оценку и сравнить свои успехи с успехами товарищей по количеству набранных очков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метить для себя результаты, ради которых он с готовностью станет заниматься в школе и дома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бавление от страха перед выполнением норматива на оценку, ведь в данной системе нет двойк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имул к росту физической подготовк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ксации каждого маленького шага в продвижении учащихс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Тетрадь самоконтрол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2920" y="691920"/>
            <a:ext cx="87868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ы тетради: умение поставить перед собой задачу; физическое развитие; таблицы многоборий; индивидуальные графики; собственные программы тренировок; участие на соревнованиях; спортивная специализация; выполнение домашних зад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и ведение тетради повышает физкультурную грамотность детей, учат их анализу собственной деятельности, определению индивидуального прогресса, дают возможность создать базу данных для дальнейшего направления работ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Image0013"/>
          <p:cNvPicPr/>
          <p:nvPr/>
        </p:nvPicPr>
        <p:blipFill>
          <a:blip r:embed="rId1"/>
          <a:stretch/>
        </p:blipFill>
        <p:spPr>
          <a:xfrm>
            <a:off x="5651640" y="4365720"/>
            <a:ext cx="2952720" cy="2289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C:\Documents and Settings\UserXP\Рабочий стол\Валентина\Фото\Новая папка\Фото-0321.jpg"/>
          <p:cNvPicPr/>
          <p:nvPr/>
        </p:nvPicPr>
        <p:blipFill>
          <a:blip r:embed="rId2"/>
          <a:stretch/>
        </p:blipFill>
        <p:spPr>
          <a:xfrm>
            <a:off x="3492360" y="4292640"/>
            <a:ext cx="1086120" cy="21337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0" name="Picture 13" descr="C:\Documents and Settings\UserXP\Рабочий стол\Валентина\Фото\Новая папка\Фото-0319.jpg"/>
          <p:cNvPicPr/>
          <p:nvPr/>
        </p:nvPicPr>
        <p:blipFill>
          <a:blip r:embed="rId3"/>
          <a:stretch/>
        </p:blipFill>
        <p:spPr>
          <a:xfrm>
            <a:off x="971640" y="4653000"/>
            <a:ext cx="2214360" cy="17892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неурочные формы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42920" y="856800"/>
            <a:ext cx="885816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щение ребят к здоровому образу жизни возможно только в комплексе урочной и внеурочной форм рабо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2" descr="D:\Евгений\Фото 1\Фото-соревнования\Фото-спорт\P1030154.JPG"/>
          <p:cNvPicPr/>
          <p:nvPr/>
        </p:nvPicPr>
        <p:blipFill>
          <a:blip r:embed="rId1"/>
          <a:stretch/>
        </p:blipFill>
        <p:spPr>
          <a:xfrm>
            <a:off x="6300720" y="2349360"/>
            <a:ext cx="1928880" cy="2017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4" name="Picture 25" descr="19"/>
          <p:cNvPicPr/>
          <p:nvPr/>
        </p:nvPicPr>
        <p:blipFill>
          <a:blip r:embed="rId2"/>
          <a:stretch/>
        </p:blipFill>
        <p:spPr>
          <a:xfrm>
            <a:off x="395280" y="2421000"/>
            <a:ext cx="5513400" cy="350676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pic>
        <p:nvPicPr>
          <p:cNvPr id="105" name="Picture 10" descr="D:\Евгений\Фото 1\Фото-соревнования\Фото-спорт\P1010058.JPG"/>
          <p:cNvPicPr/>
          <p:nvPr/>
        </p:nvPicPr>
        <p:blipFill>
          <a:blip r:embed="rId3"/>
          <a:stretch/>
        </p:blipFill>
        <p:spPr>
          <a:xfrm>
            <a:off x="6300720" y="4581360"/>
            <a:ext cx="2374920" cy="17812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ы выбираем спо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9640" y="220500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1" descr="D:\Евгений\Фото 1\Фото-соревнования\Фото-спорт\P1010154.JPG"/>
          <p:cNvPicPr/>
          <p:nvPr/>
        </p:nvPicPr>
        <p:blipFill>
          <a:blip r:embed="rId1"/>
          <a:stretch/>
        </p:blipFill>
        <p:spPr>
          <a:xfrm>
            <a:off x="4305240" y="642960"/>
            <a:ext cx="4838760" cy="29289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D:\Евгений\Фото 1\Фото 05.03.12\IMG_2473.jpg"/>
          <p:cNvPicPr/>
          <p:nvPr/>
        </p:nvPicPr>
        <p:blipFill>
          <a:blip r:embed="rId2"/>
          <a:stretch/>
        </p:blipFill>
        <p:spPr>
          <a:xfrm>
            <a:off x="4714920" y="3857760"/>
            <a:ext cx="4178160" cy="27860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0" name="Picture 15" descr="D:\Евгений\Фото 1\Фото-лето 09,допризывная\P1030127.JPG"/>
          <p:cNvPicPr/>
          <p:nvPr/>
        </p:nvPicPr>
        <p:blipFill>
          <a:blip r:embed="rId3"/>
          <a:stretch/>
        </p:blipFill>
        <p:spPr>
          <a:xfrm>
            <a:off x="285840" y="642960"/>
            <a:ext cx="3857400" cy="28940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1" name="Picture 8" descr=""/>
          <p:cNvPicPr/>
          <p:nvPr/>
        </p:nvPicPr>
        <p:blipFill>
          <a:blip r:embed="rId4"/>
          <a:stretch/>
        </p:blipFill>
        <p:spPr>
          <a:xfrm>
            <a:off x="539640" y="3800520"/>
            <a:ext cx="3527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онкурс «Лучший спортсмен школ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42920" y="691920"/>
            <a:ext cx="88581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дин из рычагов активизации учебно-воспитательного процесса. Она помогает многим обучающимся утвердиться среди своих сверстников как лидеров, оставить свой след в истории школьного спор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грамму конкурса включены все виды соревновательной деятельности, которые проводятся в школе. Каждому участнику соревнований присуждается определённое количество призовых очков в зависимости от занятого места и рейтинга соревнований, а также очки за выполнение спортивных разрядов и установление рекордов школ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9" descr="Image0130"/>
          <p:cNvPicPr/>
          <p:nvPr/>
        </p:nvPicPr>
        <p:blipFill>
          <a:blip r:embed="rId1"/>
          <a:stretch/>
        </p:blipFill>
        <p:spPr>
          <a:xfrm>
            <a:off x="1187280" y="3068640"/>
            <a:ext cx="7382160" cy="3571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4" descr=""/>
          <p:cNvPicPr/>
          <p:nvPr/>
        </p:nvPicPr>
        <p:blipFill>
          <a:blip r:embed="rId1"/>
          <a:stretch/>
        </p:blipFill>
        <p:spPr>
          <a:xfrm>
            <a:off x="865080" y="676440"/>
            <a:ext cx="719316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Цели и зад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9280" y="692280"/>
            <a:ext cx="8715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систему контроля и самоконтроля в оценивании успеваемости обучающих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ействовать на внутренние процессы ученика, обогащать 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нять на новый, более высокий уровень процесс обуч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овить содержание работы, а значит повысить познавательный интерес к урокам физической культ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всего этого – развитие положительной мотивации к занятиям как на уроках, так и дом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42920" y="785520"/>
            <a:ext cx="8461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йтингов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зволяет вести систематический учет знаний и умений; требует систематической и последовательной работы; оценивает конкретные умения и навыки; настраивает на активную деятельность и ответственность учащихся за принимаемые решения по выбору заданий; приучает учащихся отвечать за свою подготов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выставляется в соответствии с набранными очками за сданные норматив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ейтинг-система </a:t>
            </a:r>
            <a:br>
              <a:rPr sz="2800"/>
            </a:b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42560" y="785880"/>
            <a:ext cx="9001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аспорт здоровь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тие физических качеств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тношение к своему здоровью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своение двигательных навыков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иобретение знани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мение самостоятельно выполнять физические упражне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Методическая практик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рирост результатов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Дополнительные баллы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аспорт здоров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4" descr="Image0012.JPG"/>
          <p:cNvPicPr/>
          <p:nvPr/>
        </p:nvPicPr>
        <p:blipFill>
          <a:blip r:embed="rId1"/>
          <a:stretch/>
        </p:blipFill>
        <p:spPr>
          <a:xfrm>
            <a:off x="324000" y="981000"/>
            <a:ext cx="83628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ндивидуальный листок здоров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Image0011.BMP"/>
          <p:cNvPicPr/>
          <p:nvPr/>
        </p:nvPicPr>
        <p:blipFill>
          <a:blip r:embed="rId1"/>
          <a:stretch/>
        </p:blipFill>
        <p:spPr>
          <a:xfrm>
            <a:off x="468360" y="714240"/>
            <a:ext cx="810432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звитие физических каче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3640" y="713880"/>
            <a:ext cx="856908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составы многоборий: «спортивное многоборье», «легкоатлетическое четырёхборье», «летний и зимний полиатлон», «силовое многоборье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требования переводятся в очки, по специально разработанной  таблице. По каждому многоборью необходимо набрать определённое количество очков, за что выставляется одна общая оценка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ой методике  оценка «2»  не выставляется. Если ученик не справляется с одним каким-то заданием, то добрать нужное количество очков может за счёт других упражнени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ранные очки влияют на ранжирование учеников в строю, на занятое место в конкурсе "Лучший спортсмен школы"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езультатам тестирования, ученику предлагается перечень физических упражнений, с помощью которых составляется индивидуальная программа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изическая подгото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2920" y="713880"/>
            <a:ext cx="8858160" cy="56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ующим тестированием отслеживается степень достижений учащихся. Даже незначительное улучшение показателей ребенка может быть оценено на «отлично», чем и создается ситуация успех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я диагностика проводится  два раза в течение учебного года, что позволяет отслеживать физическое состояние организма, поддерживать необходимую мотивацию на выполнение индивидуальных программ, своевременно вносить определенные корректив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яются сводные протокола по класс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тестирования используются при разработке учебного пл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езультатам проведенного мониторинга определяется уровень физической подготовленности уча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12-18T20:45:11Z</dcterms:modified>
  <cp:revision>373</cp:revision>
  <dc:subject/>
  <dc:title>Система контроля и самоконтроля </dc:title>
</cp:coreProperties>
</file>