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B61-B47F-4138-BA7D-8DAC18C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84F-75AA-4F8F-8C21-2046EBD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FF5-12F1-4F78-AF3B-79A85FFF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F30-A8D2-42FE-A290-FFF2652F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9A47-73CC-42F8-8B93-621EA34F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96E-8E94-41EE-907E-4A68C7F3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746C-50F8-4EE6-A805-5E670BE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400C-32D6-40BC-8AD1-3BAC02FF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DEB8-6D84-4AA3-8051-E4EFE812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531A-85F8-400D-BDD4-12C802C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68F6-4387-4533-8346-AFBD0E5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9E9-0F02-4078-94BB-9BF8CE67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B21-0257-4E24-B6DF-740015D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1D8-1C37-42B7-8B80-2888D27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0E3-3C06-4A49-8C18-19101A40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94F-1C77-49C6-9C27-D10D4D61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85FE-FB6B-45DD-9F85-6ADD78A2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6AAA-590C-4000-A3CA-EB741EE3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9B10-A33F-4C73-9A34-811EB5F2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5597-55A1-4B17-8B2C-5BF0591A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E90C-92B1-4933-8287-A15935AE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F7B2-F3F9-4B8E-B5AF-A22E06FB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D78-B399-4E77-8004-485B86A9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F479-E67C-4EA7-814D-C5F3A5E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B375-5E71-4748-9FC6-7441A320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705E-32E7-4FF0-BFC0-D4D8106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22EF-363E-48C9-BAEB-5C1A1EF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36E0-9811-490E-9EBF-92D58C15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D857-BA87-4485-9A2D-E28BFB33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FE09-DCD6-4C6E-A04F-35911A14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448D-37E9-4163-AB28-0D4ACF68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8C2C-F627-4C6D-909A-0534C51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FE5E-0CD6-4E5A-B709-363CE708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712-24F2-4C09-8C68-43616D4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37DE-9FAD-4AE0-B0E0-83091E5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197A-067C-4097-AE64-1827782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7100-7A56-484E-9E22-63FC746E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7180-10E8-42A7-940D-702F49E8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4C42-A50E-4E15-85BC-5015054D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FF21-4583-4DD8-89E0-D579D8A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483F-7101-4C69-B266-AC449FCE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F305-82E4-44B7-A60B-24C00708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83F1-2C8F-45EA-B4C8-9FA8DDEA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558F-B33C-45FB-9E94-D1EE4F4E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63F-1E22-4963-9858-CD3A3753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2E1B7-620F-4D9F-90FC-0A84314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4D9C-C144-4E9C-9E89-52E143F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481D-D0A1-4DB1-8A07-E6416AF2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6706-C32A-45A6-A6CC-BA5C4106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EAB4-BCB7-4CAD-A0D7-8F54943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4517-F28A-4295-A39E-1C7AFBB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B0DF-D0CD-4F7D-BB75-B67AA83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B2F9B-56D2-46A1-B60D-ACD63EAB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D13A-0D8D-4B84-ACD9-D8CE857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A5E9-5980-49A1-AA80-F226C5F8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173-0014-40F2-AD70-B57ED0B5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D74F-2331-46B6-A348-79ED5719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9A5-EA2F-4136-B54F-4CB08BA4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E93-F641-4D82-B14D-CEDCBE2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BE8-E05C-42C3-A396-CAAD4F3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962-C865-4F4A-9153-55E6853CDF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F62-AA16-49A0-8C1B-36C03532A6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78AF-F93B-42D1-B1F5-00AD6A21E86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FDD-046F-44E4-9AB4-8CE745AFE3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0E03-E487-4F01-8FC7-0268252460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ttp://tetyushy.ru/media/k2/items/cache/e1d9b6ba8f7dee4da056d9c87e0348d6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7"/>
          <p:cNvSpPr/>
          <p:nvPr/>
        </p:nvSpPr>
        <p:spPr>
          <a:xfrm>
            <a:off x="285840" y="2071800"/>
            <a:ext cx="8638920" cy="3214440"/>
          </a:xfrm>
          <a:prstGeom prst="rect">
            <a:avLst/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рода и творчеств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1 клас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кругленный прямоугольник 1"/>
          <p:cNvSpPr/>
          <p:nvPr/>
        </p:nvSpPr>
        <p:spPr>
          <a:xfrm>
            <a:off x="539640" y="620640"/>
            <a:ext cx="7920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 ДОСТИЖЕНИЯ 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Стрелка вправо 4"/>
          <p:cNvSpPr/>
          <p:nvPr/>
        </p:nvSpPr>
        <p:spPr>
          <a:xfrm>
            <a:off x="785880" y="1643040"/>
            <a:ext cx="3643200" cy="14288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удиовизуа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трелка вправо 5"/>
          <p:cNvSpPr/>
          <p:nvPr/>
        </p:nvSpPr>
        <p:spPr>
          <a:xfrm>
            <a:off x="1428840" y="2857680"/>
            <a:ext cx="3643200" cy="14284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лектронные образовательные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Стрелка вправо 6"/>
          <p:cNvSpPr/>
          <p:nvPr/>
        </p:nvSpPr>
        <p:spPr>
          <a:xfrm>
            <a:off x="2857680" y="4143240"/>
            <a:ext cx="3643200" cy="14288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гляд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Стрелка вправо 7"/>
          <p:cNvSpPr/>
          <p:nvPr/>
        </p:nvSpPr>
        <p:spPr>
          <a:xfrm>
            <a:off x="4929120" y="5429160"/>
            <a:ext cx="3643560" cy="14288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монстрацио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Скругленный прямоугольник 1"/>
          <p:cNvSpPr/>
          <p:nvPr/>
        </p:nvSpPr>
        <p:spPr>
          <a:xfrm>
            <a:off x="539640" y="620640"/>
            <a:ext cx="7920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ДОСТИЖЕНИЯ 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Стрелка вправо 4"/>
          <p:cNvSpPr/>
          <p:nvPr/>
        </p:nvSpPr>
        <p:spPr>
          <a:xfrm>
            <a:off x="571680" y="1357200"/>
            <a:ext cx="4643280" cy="17859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, наглядные, практичес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Стрелка вправо 5"/>
          <p:cNvSpPr/>
          <p:nvPr/>
        </p:nvSpPr>
        <p:spPr>
          <a:xfrm>
            <a:off x="785880" y="2857680"/>
            <a:ext cx="5500800" cy="207144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ые объяснительно-иллюстративные, поисковые, исследовательские,  проблем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трелка вправо 6"/>
          <p:cNvSpPr/>
          <p:nvPr/>
        </p:nvSpPr>
        <p:spPr>
          <a:xfrm>
            <a:off x="2786040" y="4357800"/>
            <a:ext cx="6143760" cy="22860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я, определенные поощрения в формировании мотивации, чувства ответственности, обязательств, интересов в овладении знаниями, умениями, навы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1"/>
          <p:cNvSpPr/>
          <p:nvPr/>
        </p:nvSpPr>
        <p:spPr>
          <a:xfrm>
            <a:off x="500040" y="642960"/>
            <a:ext cx="5175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СРОКАХ РЕАЛИЗАЦИИ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http://www.starhour.ru/upload/iblock/adc/adc64fb3c66e90d3290a6c06c4e42723.jpg"/>
          <p:cNvPicPr/>
          <p:nvPr/>
        </p:nvPicPr>
        <p:blipFill>
          <a:blip r:embed="rId1"/>
          <a:stretch/>
        </p:blipFill>
        <p:spPr>
          <a:xfrm>
            <a:off x="6072120" y="642960"/>
            <a:ext cx="2357640" cy="2705040"/>
          </a:xfrm>
          <a:prstGeom prst="rect">
            <a:avLst/>
          </a:prstGeom>
          <a:ln w="0">
            <a:noFill/>
          </a:ln>
        </p:spPr>
      </p:pic>
      <p:sp>
        <p:nvSpPr>
          <p:cNvPr id="250" name="Загнутый угол 5"/>
          <p:cNvSpPr/>
          <p:nvPr/>
        </p:nvSpPr>
        <p:spPr>
          <a:xfrm>
            <a:off x="571680" y="1928880"/>
            <a:ext cx="2571480" cy="7858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ОД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Загнутый угол 6"/>
          <p:cNvSpPr/>
          <p:nvPr/>
        </p:nvSpPr>
        <p:spPr>
          <a:xfrm>
            <a:off x="1785960" y="3643200"/>
            <a:ext cx="2571840" cy="7858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Загнутый угол 7"/>
          <p:cNvSpPr/>
          <p:nvPr/>
        </p:nvSpPr>
        <p:spPr>
          <a:xfrm>
            <a:off x="2714760" y="4500720"/>
            <a:ext cx="2571480" cy="785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Загнутый угол 8"/>
          <p:cNvSpPr/>
          <p:nvPr/>
        </p:nvSpPr>
        <p:spPr>
          <a:xfrm>
            <a:off x="1214280" y="2786040"/>
            <a:ext cx="2571840" cy="7858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АЗ В НЕДЕ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Выноска со стрелкой вправо 9"/>
          <p:cNvSpPr/>
          <p:nvPr/>
        </p:nvSpPr>
        <p:spPr>
          <a:xfrm>
            <a:off x="3929040" y="5286240"/>
            <a:ext cx="2143080" cy="11430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Капля 10"/>
          <p:cNvSpPr/>
          <p:nvPr/>
        </p:nvSpPr>
        <p:spPr>
          <a:xfrm>
            <a:off x="5929200" y="3429000"/>
            <a:ext cx="2928960" cy="3214800"/>
          </a:xfrm>
          <a:prstGeom prst="pie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занятий могут быть подведены в форме отчетной выставки – ярмарки творческих работ школьников с приглашением родителей детей, друзей, педаго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1"/>
          <p:cNvSpPr/>
          <p:nvPr/>
        </p:nvSpPr>
        <p:spPr>
          <a:xfrm>
            <a:off x="1928880" y="500040"/>
            <a:ext cx="51753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Схема 2" descr=""/>
          <p:cNvPicPr/>
          <p:nvPr/>
        </p:nvPicPr>
        <p:blipFill>
          <a:blip r:embed="rId1"/>
          <a:stretch/>
        </p:blipFill>
        <p:spPr>
          <a:xfrm>
            <a:off x="549360" y="1352520"/>
            <a:ext cx="8051760" cy="4872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Скругленный прямоугольник 1"/>
          <p:cNvSpPr/>
          <p:nvPr/>
        </p:nvSpPr>
        <p:spPr>
          <a:xfrm>
            <a:off x="1857240" y="500040"/>
            <a:ext cx="57470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НОЗИРУЕМ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Скругленный прямоугольник 3"/>
          <p:cNvSpPr/>
          <p:nvPr/>
        </p:nvSpPr>
        <p:spPr>
          <a:xfrm>
            <a:off x="571680" y="1428840"/>
            <a:ext cx="79293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ончанию 1 класса обучающие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овладеть умен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Скругленный прямоугольник 4"/>
          <p:cNvSpPr/>
          <p:nvPr/>
        </p:nvSpPr>
        <p:spPr>
          <a:xfrm>
            <a:off x="2286000" y="2428920"/>
            <a:ext cx="4714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ОСТ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кругленный прямоугольник 5"/>
          <p:cNvSpPr/>
          <p:nvPr/>
        </p:nvSpPr>
        <p:spPr>
          <a:xfrm>
            <a:off x="785880" y="3286080"/>
            <a:ext cx="7715160" cy="2643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жизненные ситуации с точки зрения собственных ощущений, оценивать конкретные поступки как хорошие или плох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ть и объяснять свои чувства и ощущения от изучаемых изделий ДП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пределять и объяснять общие для всех людей самые простые правила поведения, свои чувства и ощущения от увиденного, уметь рассужда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правильный выбор при совершении какого-либо поступ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4"/>
          <p:cNvSpPr/>
          <p:nvPr/>
        </p:nvSpPr>
        <p:spPr>
          <a:xfrm>
            <a:off x="2286000" y="500040"/>
            <a:ext cx="4714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кругленный прямоугольник 5"/>
          <p:cNvSpPr/>
          <p:nvPr/>
        </p:nvSpPr>
        <p:spPr>
          <a:xfrm>
            <a:off x="785880" y="5000760"/>
            <a:ext cx="771516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виды материалов, их свойства и наз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названия и назначения ручных инструментов и приспособлений, правила работы и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ую      последовательность     изготовления     несложных издел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Скругленный прямоугольник 6"/>
          <p:cNvSpPr/>
          <p:nvPr/>
        </p:nvSpPr>
        <p:spPr>
          <a:xfrm>
            <a:off x="2214720" y="4143240"/>
            <a:ext cx="4714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Скругленный прямоугольник 7"/>
          <p:cNvSpPr/>
          <p:nvPr/>
        </p:nvSpPr>
        <p:spPr>
          <a:xfrm>
            <a:off x="428760" y="1357200"/>
            <a:ext cx="8286480" cy="271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цель работы на занятии с помощью уч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аривать последовательность действ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 выбор материалов и инструментов для работы с помощью уч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ь   рабочее   место   и   выполнять   практическую   работу   по образц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шаблона выполнять контроль точности разметки дета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ть новое от уже известного с помощью уч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ывать новые знания из различных источ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воды в результате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и группировать предметы и образ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http://litcult.ru/u/dd/news/8954/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Овал 1"/>
          <p:cNvSpPr/>
          <p:nvPr/>
        </p:nvSpPr>
        <p:spPr>
          <a:xfrm>
            <a:off x="395280" y="476280"/>
            <a:ext cx="8137440" cy="581040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  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онькин С.Ю. , Афонькина Е.Ю. Уроки оригами в школе и дома. – М.: Аким, 2007. – 143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е поделки из природных материалов» - С. Гардт.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ёное тест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Хананова. -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й материал и фантаз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 - составитель Л. И. Трепетунова. -2009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труда в начальных класса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arohod/ kd/trud/page/8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ная мастер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. М.Конышева. -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http://900igr.net/datas/russkij-jazyk/Bukva-A/0012-012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трелка вниз 4"/>
          <p:cNvSpPr/>
          <p:nvPr/>
        </p:nvSpPr>
        <p:spPr>
          <a:xfrm>
            <a:off x="0" y="214200"/>
            <a:ext cx="9144000" cy="6643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ая программа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рода и творчество» для 1 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ена в соответствии с новыми требования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государственного образовательного стандарта начального общего образования второго поколения.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вным ориентир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азработки данной программы  стало  единение личностного, познавательного, коммуникативного и социального  развития обучающихся, воспитание у них живого интереса к активному познанию истории, материальной  культуры и семейных традиций как своего, так  и других народов, бережного, уважительного отношения к тру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3429000" y="571680"/>
            <a:ext cx="4781520" cy="95076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https://www.trajectus.ru/upload/medialibrary/64d/64d21fd02fc3ad2ed01d72ca053f30bb.jpg"/>
          <p:cNvPicPr/>
          <p:nvPr/>
        </p:nvPicPr>
        <p:blipFill>
          <a:blip r:embed="rId1"/>
          <a:stretch/>
        </p:blipFill>
        <p:spPr>
          <a:xfrm>
            <a:off x="0" y="0"/>
            <a:ext cx="3098880" cy="1969920"/>
          </a:xfrm>
          <a:prstGeom prst="rect">
            <a:avLst/>
          </a:prstGeom>
          <a:ln w="0">
            <a:noFill/>
          </a:ln>
        </p:spPr>
      </p:pic>
      <p:sp>
        <p:nvSpPr>
          <p:cNvPr id="225" name="Скругленный прямоугольник 4"/>
          <p:cNvSpPr/>
          <p:nvPr/>
        </p:nvSpPr>
        <p:spPr>
          <a:xfrm>
            <a:off x="0" y="1928880"/>
            <a:ext cx="9144000" cy="492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оссийской Федерации « Об образовани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цепция модернизации дополнительного образования детей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развитию дополнительного образования детей в 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РФ от 2.04.2002 г. № 13-51-28/13 «О повышении воспитательного потенциала общеобразовательного процесса в 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о расширении деятельности детских и молодежных объединений в ОУ (Письмо Минобразования России от 11.02.2000 г. № 101/28-16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 образования и науки РФ от 22.09.2011 №2357 «О внесении изменений в федеральный государственный образовательный стандарт начального общего образования, утвержденный приказом Министерства образования и науки Российской Федерации от 6 октября 2009 г. № 37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чреждениям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Скругленный прямоугольник 1"/>
          <p:cNvSpPr/>
          <p:nvPr/>
        </p:nvSpPr>
        <p:spPr>
          <a:xfrm>
            <a:off x="539640" y="620640"/>
            <a:ext cx="7920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хема 4" descr=""/>
          <p:cNvPicPr/>
          <p:nvPr/>
        </p:nvPicPr>
        <p:blipFill>
          <a:blip r:embed="rId1"/>
          <a:stretch/>
        </p:blipFill>
        <p:spPr>
          <a:xfrm>
            <a:off x="542880" y="2011320"/>
            <a:ext cx="8120160" cy="4145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кругленный прямоугольник 1"/>
          <p:cNvSpPr/>
          <p:nvPr/>
        </p:nvSpPr>
        <p:spPr>
          <a:xfrm>
            <a:off x="2684520" y="428760"/>
            <a:ext cx="42148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1143000" y="1071720"/>
            <a:ext cx="67867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хема 4" descr=""/>
          <p:cNvPicPr/>
          <p:nvPr/>
        </p:nvPicPr>
        <p:blipFill>
          <a:blip r:embed="rId1"/>
          <a:stretch/>
        </p:blipFill>
        <p:spPr>
          <a:xfrm>
            <a:off x="549360" y="1706400"/>
            <a:ext cx="815652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4"/>
          <p:cNvSpPr/>
          <p:nvPr/>
        </p:nvSpPr>
        <p:spPr>
          <a:xfrm>
            <a:off x="1285920" y="500040"/>
            <a:ext cx="678636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Схема 5" descr=""/>
          <p:cNvPicPr/>
          <p:nvPr/>
        </p:nvPicPr>
        <p:blipFill>
          <a:blip r:embed="rId1"/>
          <a:stretch/>
        </p:blipFill>
        <p:spPr>
          <a:xfrm>
            <a:off x="549360" y="1494000"/>
            <a:ext cx="80517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кругленный прямоугольник 2"/>
          <p:cNvSpPr/>
          <p:nvPr/>
        </p:nvSpPr>
        <p:spPr>
          <a:xfrm>
            <a:off x="1285920" y="500040"/>
            <a:ext cx="678636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Схема 4" descr=""/>
          <p:cNvPicPr/>
          <p:nvPr/>
        </p:nvPicPr>
        <p:blipFill>
          <a:blip r:embed="rId1"/>
          <a:stretch/>
        </p:blipFill>
        <p:spPr>
          <a:xfrm>
            <a:off x="476280" y="1206360"/>
            <a:ext cx="805824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Скругленный прямоугольник 1"/>
          <p:cNvSpPr/>
          <p:nvPr/>
        </p:nvSpPr>
        <p:spPr>
          <a:xfrm>
            <a:off x="539640" y="620640"/>
            <a:ext cx="7920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ТИ, СРЕДСТВА, МЕТОДЫ ДОСТИЖЕНИЯ 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кругленный прямоугольник 3"/>
          <p:cNvSpPr/>
          <p:nvPr/>
        </p:nvSpPr>
        <p:spPr>
          <a:xfrm>
            <a:off x="642960" y="1785960"/>
            <a:ext cx="7920000" cy="35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 декоративно-прикладного искусства  с содержанием обучения по другим предметам обогащает занятия  и повышает заинтересованность учащихся. Поэтому программой предусматриваются тематические пересечения с такими дисциплинами, как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строение геометрических фигур, разметка циркулем, линейкой и угольником, расчет необходимых размеров и др.),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жающий ми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здание образов животного и растительного ми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Скругленный прямоугольник 3"/>
          <p:cNvSpPr/>
          <p:nvPr/>
        </p:nvSpPr>
        <p:spPr>
          <a:xfrm>
            <a:off x="539640" y="620640"/>
            <a:ext cx="7920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ОПОЛАГАЮЩИЕ ПЕДАГОГИЧЕСКИЕ ПРИНЦИПЫ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Схема 4" descr=""/>
          <p:cNvPicPr/>
          <p:nvPr/>
        </p:nvPicPr>
        <p:blipFill>
          <a:blip r:embed="rId1"/>
          <a:stretch/>
        </p:blipFill>
        <p:spPr>
          <a:xfrm>
            <a:off x="476280" y="1706400"/>
            <a:ext cx="805824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08:25:00Z</dcterms:created>
  <dc:creator>Home</dc:creator>
  <dc:description/>
  <dc:language>en-US</dc:language>
  <cp:lastModifiedBy>Пользователь Windows</cp:lastModifiedBy>
  <dcterms:modified xsi:type="dcterms:W3CDTF">2019-12-18T12:04:24Z</dcterms:modified>
  <cp:revision>64</cp:revision>
  <dc:subject/>
  <dc:title>Презентация PowerPoint</dc:title>
</cp:coreProperties>
</file>