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C350-EBDD-4A3C-AC94-AED47212A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7406-5E31-4A9B-B604-6E4088533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E8D8-D033-425D-8DB5-DF6248072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8D97-B534-4007-A19A-339A9EC7D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C704-7134-4500-895D-1D8EB6511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BAAA-AB5E-4843-A2C5-5AFE93ECC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F0FF-A5C1-42CF-8C3E-7DC00A421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D517-5FA3-4F19-A6AA-D0CDF1C36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C385-874E-41C3-A7F3-7E0A09034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861F-1493-4A16-8319-50145655E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C5CB-50B3-4A84-AC06-D9ECD20F7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7F12-7D81-4AE2-B779-67C26E194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0A5FE-4AD0-48D7-A2D2-FC446F1330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3213000"/>
            <a:ext cx="777240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Родители  и  воспитател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084280"/>
            <a:ext cx="64008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нимание:  конфликт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Причины  такого  поведения  родителей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язвимость  взрослого, растеряннос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олодность  по  отношению  к  ребенк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язнь  раскрыть  свои  истинные  чувства,  разрушить  свой  стереотип  повед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понимание  детских  пробле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itre 1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Типы  поведения  воспитател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Воспитатель  родителей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Закрытые  воспитатели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Интеллектуалы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Дисциплинщики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00"/>
                </a:solidFill>
                <a:latin typeface="Arial"/>
              </a:rPr>
              <a:t>«Воспитатель  родителей»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ля  такого  воспитателя  родители  тоже  дет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  учитывает  опыт  семьи,  считая  свой  опы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itre 1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«Закрытые  воспитател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  хотят  внимания  к  своей  работе,  не  любят  делиться  профессиональными  трудностями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  балуют  родителей  информацией  об  их  детях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itre 1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«Интеллектуалы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деляют  много  внимания  развитию  когнитивной  сферы,  но  не  эмоций и  чувств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гнорируют  коммуникативную  деятельность  детей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itre 1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«Дисциплинщик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ребуют  педантичного  выполнения  режима,  правил  поведени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оявление  индивидуальности  рассматривается,  как  нарушение  нормативного  поведени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itre 1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Способы  регулирования  конфликт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26920" y="1483920"/>
            <a:ext cx="760752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itre 1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Конкуренц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3628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оперничество, основанное на стремлении личности добиться удовлетворения своих интересов в ущерб другому человеку или группе лиц; при таком поведении только одна из сторон, участвующих в конфликте, оказывается в выигрыш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itre 1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Приспособл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3628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отивовес конкуренции, готовность человека, ради другого, пожертвовать своими интересами, вследствие чего он оказывается в проигрыш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itre 1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Компромис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3628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Готовность к взаимным уступкам; в этом случае обе стороны проигрывают, так как добровольно отказываются от своих интересов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itre 1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ипичные  проблемы  во  взаимодействии  педагогов и родите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ёсткое  следование  негибким  стилям  поведения  в  общении взрослых  между  собой  по  поводу  воспитания  ребенка  может  явиться  причиной  длительного  дискомфорта  как  для  взрослых,  так  и  для  дет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Избег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3628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тсутствие стремления,  как к сотрудничеству, так и к достижению собственных целей; при таком поведении ни одна из сторон не достигает успех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itre 1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Сотрудничест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3628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ооперация, основанная на полном удовлетворении интересов всех участников конфликта; в этом случае обе стороны оказываются в выигрыш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itre 1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Что  делать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3628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здавать психологически  комфортные,  развивающие  условия  дома  и  в  детском  сад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фессионально и  личностно  развиваться  взрослы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нимать  роль  эмоций  для  взаимодействия  с  ребенк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вивать  природный  потенциал ребен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itre 1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Предостереж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3628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Лишь  пять  вещей  должны  вы  знать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И вам  язык – не враг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Кому  сказать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  ком  сказать,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Когда,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И  где,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И  как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itre 1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1128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Спасибо  за  внимание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езентацию  подготовила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едагог-психолог МАДОУ ЦРР д/с №53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утнина  Т.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ипичные  проблемы  во  взаимодействии  педагогов и родите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допонимание  взрослыми  (педагогами,  родителями)  особенностей  эмоционально-потребностной  сферы  ребенка,  что  приводит  к  исчезновению  интереса  к  занятиям,  угасанию  познавательной  мотив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ипичные  проблемы  во  взаимодействии  педагогов и родите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согласованность  в  действиях  педагога  и  родителей  может  быть  одной  из  причин  дезадаптации  ребенка  в  детском  саду,  неэффективности  педагогических  воздействий  воспитател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r>
              <a:rPr b="1" i="1" lang="ru-RU" sz="4300" spc="-1" strike="noStrike">
                <a:solidFill>
                  <a:srgbClr val="000000"/>
                </a:solidFill>
                <a:latin typeface="Arial"/>
              </a:rPr>
              <a:t>Типы  родительского</a:t>
            </a:r>
            <a:r>
              <a:rPr b="1" i="1" lang="ru-RU" sz="43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i="1" lang="ru-RU" sz="4300" spc="-1" strike="noStrike">
                <a:solidFill>
                  <a:srgbClr val="000000"/>
                </a:solidFill>
                <a:latin typeface="Arial"/>
              </a:rPr>
              <a:t>отношения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ассивный  родител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збегающий  пробле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грессивно-недовольны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дменный  интеллектуа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«Пассивный  родитель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Вы  воспитатель,  вот  и  следите  за  ребёнком,  это  ваша  работа,  а  мне  это  ни  к  чему!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Избегающий  проблем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  желает  видеть  очевидных  фактов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С  моим  ребёнком  всё  в  порядке»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У  меня  нормальный  ребёнок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04040"/>
                </a:solidFill>
                <a:latin typeface="Calibri"/>
              </a:rPr>
              <a:t>«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Агрессивно – недовольный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стоянно  критикует  действия  воспитателей  по  отношению  к  своему  ребёнк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спитатель  начинает  бояться  постоянных  конфликтов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«Надменный  интеллектуал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читает  своё  мнение  выше  мнения  педагогов,  если  информация  о  ребёнке  задевает  болезненные  струны  и  требует  пересмотра  своей  роли  в  воспитании  ребенк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itre 1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«Надменный  интеллектуал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7T09:21:26Z</dcterms:created>
  <dc:creator>ppsworld.ru</dc:creator>
  <dc:description/>
  <dc:language>en-US</dc:language>
  <cp:lastModifiedBy>1</cp:lastModifiedBy>
  <dcterms:modified xsi:type="dcterms:W3CDTF">2018-11-28T10:01:56Z</dcterms:modified>
  <cp:revision>9</cp:revision>
  <dc:subject/>
  <dc:title>PRESENTATION  NAME</dc:title>
</cp:coreProperties>
</file>