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0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A52FE-635C-47FE-A9FF-522DFBFA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FF5D-CA4B-4D5D-A872-3EAE8438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964D-634A-4E5F-8DD0-7DA4C764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6E35-EE75-4384-90B7-635B6FB2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7BCE9-B937-4F2F-B06E-D372514C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01005-7823-4299-A59F-87E6490C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7CC2E-0A41-4281-82F8-A38DB1D6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2490C-83F6-4768-8D00-CED3FA3F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0F9D3-71B7-47EF-955E-5816A8CB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D5E62-8721-4689-8FDE-CFEF04B2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37B6F-E479-4B37-AF58-79CB147F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A669-66B2-41E0-8721-F69274C2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F1F97-90DF-4817-9E91-B473053F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E211C-A198-45C2-83E9-B86D22D0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F9A3F-65DD-4D4E-821D-729F8113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5B272-6891-4FBD-AFBA-5D067EE2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1CA6E-66AB-4661-B8CC-AFA833AD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A4703-C8B6-48E5-82AD-77AB1D0D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95645-5143-4D68-A5EF-7D817D31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06838-6244-48D3-BBF7-81E0F6B4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0D710-834B-40BF-ACA5-A14CACC5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D99E6-F9ED-4B6E-AD6B-D7D609ED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727F-8B2C-4122-95B6-312A1BBE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B652A-4006-4113-9B3F-F71EF12C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94FF0-D353-4B8B-BD6C-F5967837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B2799-2A3F-4C55-9B12-788BD631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FB609-8382-49EE-B27C-66E5B786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52875-8187-45E4-B336-A1973D0E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300A0-184D-4FB0-8BCC-1CE6F32D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CDDC60-8AEA-4C97-A1B1-10841709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31480-56EE-41F5-9A33-BBAE1F9C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BDAA-48CC-4D95-B4B1-77B43314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28A5-6839-474A-892D-50B19180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2526-4647-46F8-8666-08A70B6A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024F-9CDE-4AFC-9848-FF77F788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48F7-8A94-4BAA-BA43-6BA28755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6000"/>
          </a:bodyPr>
          <a:p>
            <a:pPr marL="15696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5352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048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66744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82440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4364-EDF1-444F-8128-32B8311DA757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87656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87512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sphere1.png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6000"/>
          </a:bodyPr>
          <a:p>
            <a:pPr marL="15696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5352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048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66744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82440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5827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415200" y="640044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B318-4706-4924-BB06-55F1B355AF91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5812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sphere1.png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6000"/>
          </a:bodyPr>
          <a:p>
            <a:pPr marL="15696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5352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048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66744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82440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395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411624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2844-910A-44BB-B2A8-C777A8020268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9"/>
          </p:nvPr>
        </p:nvSpPr>
        <p:spPr>
          <a:xfrm>
            <a:off x="8380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http://pandia.ru/pics/portal/sets/1/3/j0439407.jpg"/>
          <p:cNvPicPr/>
          <p:nvPr/>
        </p:nvPicPr>
        <p:blipFill>
          <a:blip r:embed="rId2"/>
          <a:stretch/>
        </p:blipFill>
        <p:spPr>
          <a:xfrm>
            <a:off x="0" y="0"/>
            <a:ext cx="9148680" cy="68626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7"/>
          <p:cNvSpPr/>
          <p:nvPr/>
        </p:nvSpPr>
        <p:spPr>
          <a:xfrm>
            <a:off x="0" y="3645000"/>
            <a:ext cx="9144000" cy="1944720"/>
          </a:xfrm>
          <a:prstGeom prst="rect">
            <a:avLst/>
          </a:prstGeom>
          <a:solidFill>
            <a:srgbClr val="ffffff"/>
          </a:solidFill>
          <a:ln w="15840">
            <a:solidFill>
              <a:srgbClr val="59b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b3913"/>
                </a:solidFill>
                <a:latin typeface="Times New Roman"/>
                <a:ea typeface="Times New Roman"/>
              </a:rPr>
              <a:t>СТРУКТУРА РАБОЧЕЙ ПРОГРАММЫ КУРСА 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b3913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b3913"/>
                </a:solidFill>
                <a:latin typeface="Times New Roman"/>
                <a:ea typeface="Times New Roman"/>
              </a:rPr>
              <a:t>В НАЧАЛЬНОЙ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хема 3" descr=""/>
          <p:cNvPicPr/>
          <p:nvPr/>
        </p:nvPicPr>
        <p:blipFill>
          <a:blip r:embed="rId1"/>
          <a:stretch/>
        </p:blipFill>
        <p:spPr>
          <a:xfrm>
            <a:off x="231840" y="785880"/>
            <a:ext cx="8388360" cy="6145200"/>
          </a:xfrm>
          <a:prstGeom prst="rect">
            <a:avLst/>
          </a:prstGeom>
          <a:ln w="0">
            <a:noFill/>
          </a:ln>
        </p:spPr>
      </p:pic>
      <p:pic>
        <p:nvPicPr>
          <p:cNvPr id="130" name="Скругленный прямоугольник 4" descr=""/>
          <p:cNvPicPr/>
          <p:nvPr/>
        </p:nvPicPr>
        <p:blipFill>
          <a:blip r:embed="rId2"/>
          <a:stretch/>
        </p:blipFill>
        <p:spPr>
          <a:xfrm>
            <a:off x="444600" y="450720"/>
            <a:ext cx="4071960" cy="1414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Схема 1" descr=""/>
          <p:cNvPicPr/>
          <p:nvPr/>
        </p:nvPicPr>
        <p:blipFill>
          <a:blip r:embed="rId1"/>
          <a:stretch/>
        </p:blipFill>
        <p:spPr>
          <a:xfrm>
            <a:off x="317520" y="1347840"/>
            <a:ext cx="8521560" cy="5516640"/>
          </a:xfrm>
          <a:prstGeom prst="rect">
            <a:avLst/>
          </a:prstGeom>
          <a:ln w="0">
            <a:noFill/>
          </a:ln>
        </p:spPr>
      </p:pic>
      <p:sp>
        <p:nvSpPr>
          <p:cNvPr id="132" name="Стрелка вправо 4"/>
          <p:cNvSpPr/>
          <p:nvPr/>
        </p:nvSpPr>
        <p:spPr>
          <a:xfrm>
            <a:off x="2806560" y="-387360"/>
            <a:ext cx="4104000" cy="18716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59b0b9"/>
          </a:solidFill>
          <a:ln w="255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Стрелка вправо 5"/>
          <p:cNvSpPr/>
          <p:nvPr/>
        </p:nvSpPr>
        <p:spPr>
          <a:xfrm>
            <a:off x="-15840" y="1052640"/>
            <a:ext cx="5662440" cy="259236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ffff"/>
          </a:solidFill>
          <a:ln w="15840">
            <a:solidFill>
              <a:srgbClr val="59b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рограм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формой представления курса как целостной системы, отражающей внутреннюю логику организации учебно-методического материала, и включает в себя следующие элемент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Скругленный прямоугольник 1"/>
          <p:cNvSpPr/>
          <p:nvPr/>
        </p:nvSpPr>
        <p:spPr>
          <a:xfrm>
            <a:off x="515880" y="189000"/>
            <a:ext cx="79200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a98d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УЛЬНЫЙ ЛИ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Схема 2" descr=""/>
          <p:cNvPicPr/>
          <p:nvPr/>
        </p:nvPicPr>
        <p:blipFill>
          <a:blip r:embed="rId1"/>
          <a:stretch/>
        </p:blipFill>
        <p:spPr>
          <a:xfrm>
            <a:off x="530280" y="1047600"/>
            <a:ext cx="8163000" cy="5085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Скругленный прямоугольник 1"/>
          <p:cNvSpPr/>
          <p:nvPr/>
        </p:nvSpPr>
        <p:spPr>
          <a:xfrm>
            <a:off x="515880" y="189000"/>
            <a:ext cx="79200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a98d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530280" y="1047600"/>
            <a:ext cx="8163000" cy="5085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C:\Users\User\Desktop\1379584140_o-kafedre.jpeg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39" name="Стрелка вправо 3"/>
          <p:cNvSpPr/>
          <p:nvPr/>
        </p:nvSpPr>
        <p:spPr>
          <a:xfrm>
            <a:off x="179280" y="3068640"/>
            <a:ext cx="5545080" cy="37908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ffff"/>
          </a:solidFill>
          <a:ln w="15840">
            <a:solidFill>
              <a:srgbClr val="59b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ый элемент программы, определяющий основные универсальные учебные действия, которыми должен овладеть учащийся в процессе изучения данного кур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Стрелка вправо 4"/>
          <p:cNvSpPr/>
          <p:nvPr/>
        </p:nvSpPr>
        <p:spPr>
          <a:xfrm>
            <a:off x="208080" y="-531720"/>
            <a:ext cx="5545080" cy="21225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ffff"/>
          </a:solidFill>
          <a:ln w="15840">
            <a:solidFill>
              <a:srgbClr val="59b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ИРУЕМЫЕ РЕЗУЛЬТАТЫ ОСВОЕНИЯ ПРОГРАМ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Скругленный прямоугольник 1"/>
          <p:cNvSpPr/>
          <p:nvPr/>
        </p:nvSpPr>
        <p:spPr>
          <a:xfrm>
            <a:off x="515880" y="189000"/>
            <a:ext cx="79200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a98d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ЕНДАРНО-ТЕМАТИЧЕСКОЕ 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Схема 2" descr=""/>
          <p:cNvPicPr/>
          <p:nvPr/>
        </p:nvPicPr>
        <p:blipFill>
          <a:blip r:embed="rId1"/>
          <a:stretch/>
        </p:blipFill>
        <p:spPr>
          <a:xfrm>
            <a:off x="506520" y="1262160"/>
            <a:ext cx="8167680" cy="5083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трелка вправо 3"/>
          <p:cNvSpPr/>
          <p:nvPr/>
        </p:nvSpPr>
        <p:spPr>
          <a:xfrm>
            <a:off x="826920" y="19080"/>
            <a:ext cx="7848720" cy="22320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a98d63"/>
          </a:solidFill>
          <a:ln w="255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ние занятий включает описание примерного содержания занятий со школьник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Стрелка вправо 2"/>
          <p:cNvSpPr/>
          <p:nvPr/>
        </p:nvSpPr>
        <p:spPr>
          <a:xfrm>
            <a:off x="49320" y="1916280"/>
            <a:ext cx="7848360" cy="2233440"/>
          </a:xfrm>
          <a:prstGeom prst="right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e8cdae"/>
              </a:gs>
              <a:gs pos="100000">
                <a:srgbClr val="ad926f"/>
              </a:gs>
            </a:gsLst>
            <a:lin ang="16200000"/>
          </a:gradFill>
          <a:ln w="9360">
            <a:solidFill>
              <a:srgbClr val="a78a5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Ы КОНТРОЛЯ – формы подведения итогов реализации программы внеурочной деяте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низ 1"/>
          <p:cNvSpPr/>
          <p:nvPr/>
        </p:nvSpPr>
        <p:spPr>
          <a:xfrm>
            <a:off x="258840" y="3933720"/>
            <a:ext cx="2584440" cy="13669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8cdae"/>
              </a:gs>
              <a:gs pos="100000">
                <a:srgbClr val="ad926f"/>
              </a:gs>
            </a:gsLst>
            <a:lin ang="16200000"/>
          </a:gradFill>
          <a:ln w="9360">
            <a:solidFill>
              <a:srgbClr val="a78a5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Стрелка вниз 4"/>
          <p:cNvSpPr/>
          <p:nvPr/>
        </p:nvSpPr>
        <p:spPr>
          <a:xfrm>
            <a:off x="2681280" y="3716280"/>
            <a:ext cx="2827440" cy="1368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8cdae"/>
              </a:gs>
              <a:gs pos="100000">
                <a:srgbClr val="ad926f"/>
              </a:gs>
            </a:gsLst>
            <a:lin ang="16200000"/>
          </a:gradFill>
          <a:ln w="9360">
            <a:solidFill>
              <a:srgbClr val="a78a5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стива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Стрелка вниз 5"/>
          <p:cNvSpPr/>
          <p:nvPr/>
        </p:nvSpPr>
        <p:spPr>
          <a:xfrm>
            <a:off x="5292720" y="4221000"/>
            <a:ext cx="3456000" cy="13687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8cdae"/>
              </a:gs>
              <a:gs pos="100000">
                <a:srgbClr val="ad926f"/>
              </a:gs>
            </a:gsLst>
            <a:lin ang="16200000"/>
          </a:gradFill>
          <a:ln w="9360">
            <a:solidFill>
              <a:srgbClr val="a78a5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евн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Стрелка вниз 6"/>
          <p:cNvSpPr/>
          <p:nvPr/>
        </p:nvSpPr>
        <p:spPr>
          <a:xfrm>
            <a:off x="1744560" y="5278320"/>
            <a:ext cx="4699080" cy="13669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8cdae"/>
              </a:gs>
              <a:gs pos="100000">
                <a:srgbClr val="ad926f"/>
              </a:gs>
            </a:gsLst>
            <a:lin ang="16200000"/>
          </a:gradFill>
          <a:ln w="9360">
            <a:solidFill>
              <a:srgbClr val="a78a5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исследовательские конферен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Скругленный прямоугольник 1"/>
          <p:cNvSpPr/>
          <p:nvPr/>
        </p:nvSpPr>
        <p:spPr>
          <a:xfrm>
            <a:off x="530280" y="333360"/>
            <a:ext cx="7920000" cy="79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a98d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МЕТОДИЧЕСКОЕ И МАТЕРИАЛЬНО-ТЕХНИЧЕСКОЕ ОБЕСПЕ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Схема 2" descr=""/>
          <p:cNvPicPr/>
          <p:nvPr/>
        </p:nvPicPr>
        <p:blipFill>
          <a:blip r:embed="rId1"/>
          <a:stretch/>
        </p:blipFill>
        <p:spPr>
          <a:xfrm>
            <a:off x="407880" y="1262160"/>
            <a:ext cx="8169480" cy="3687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Users\User\Desktop\qtq80-0jwO41.jpeg"/>
          <p:cNvPicPr/>
          <p:nvPr/>
        </p:nvPicPr>
        <p:blipFill>
          <a:blip r:embed="rId2"/>
          <a:stretch/>
        </p:blipFill>
        <p:spPr>
          <a:xfrm rot="21321000">
            <a:off x="1115640" y="4552560"/>
            <a:ext cx="3009960" cy="2009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Users\User\Desktop\24617684.jpg"/>
          <p:cNvPicPr/>
          <p:nvPr/>
        </p:nvPicPr>
        <p:blipFill>
          <a:blip r:embed="rId3"/>
          <a:stretch/>
        </p:blipFill>
        <p:spPr>
          <a:xfrm rot="378000">
            <a:off x="4892400" y="4532400"/>
            <a:ext cx="2732040" cy="2049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5T08:25:00Z</dcterms:created>
  <dc:creator>Home</dc:creator>
  <dc:description/>
  <dc:language>en-US</dc:language>
  <cp:lastModifiedBy>Пользователь Windows</cp:lastModifiedBy>
  <dcterms:modified xsi:type="dcterms:W3CDTF">2019-12-18T11:51:25Z</dcterms:modified>
  <cp:revision>68</cp:revision>
  <dc:subject/>
  <dc:title>Презентация PowerPoint</dc:title>
</cp:coreProperties>
</file>