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883-6ECE-444A-A0EB-0992C51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73-D4A6-45E9-9454-679C0FAD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A76-444B-4FA9-8FAD-8D9843D4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B27-9CF0-49B5-A572-4035F9BC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57B-B916-4AD2-A838-D830D057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A466-C329-425D-A296-366DBB8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50B-CFC9-4A90-9FE3-B2277CB9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9BF-A029-4FCE-ABE5-81B43ED4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070D-96B3-4999-B903-0CF630B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4397-35BB-4B1A-8C31-3AA01F3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DFDA-2E76-4870-9B47-719A942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2AA-7C4F-419B-8421-D8DF75D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8F81-0571-4A13-8C85-F805B17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4A9-7BA4-4949-A730-42DEEE8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2BF-7D22-4839-A161-A2478D2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1893-CE52-415A-B7B7-2C6E8AB8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03E-8CFB-40C1-A2B3-8F769292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508A-787B-4CD7-BF22-5AAB9C9B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7450-1833-4E37-BF39-B30C231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BEA5-89BA-4189-B3FD-42DDDD2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2FE7-C5E0-4038-B3B9-3B9C4A41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BC09-8A35-4499-8B45-6906953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A01-8703-4B87-87C1-E2F4AD1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49B7-4392-4BD5-A049-0978A74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4108-C292-4B4B-882A-8BAEB5B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F88D-B089-468E-9918-EA15356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1AC3-9C4F-4960-A27C-144C4B9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F899-8043-4B48-8D7E-7182D17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CC76-C193-4CA3-B2BF-32CAB605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D824-176C-4BB8-B8C4-06A0FC19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51F1-0507-488E-A1B6-FFC4848E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6DD2-55F3-484F-B6FA-6715D261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2C9C-4074-49C5-A8AC-BEDF8516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37F-BC6A-444D-92F1-0656FEC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2896-83D0-45B5-92F7-D4F5B3F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3156-B2C8-4D13-809B-EA4D545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4A39-F5B1-474A-8D40-522B3BA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4091-5B3E-4ADF-BEE4-3B9CED5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8810-A150-47CA-BD24-5A5D142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22F7-306B-4E3D-B1AD-9002202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7F69-CC6A-4425-ABA7-E3E16E3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AB5F-E353-4244-BC5B-DE4196D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F7F7-B27E-4227-8389-4D0021C4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6B48-9BE9-45F0-8D99-829F6DEE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F7F-D1EC-4DA8-9507-58FBB31C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657D-058D-43E6-BCCC-98BDB2C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C1DC-8986-4E64-9CB4-1637AC5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F47F-F394-4842-99EF-2F54F8F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4E4A-1964-44F7-AE42-2A721AF5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29D5-64C8-4A23-82EE-4C0930D8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29E1-641E-45C9-8105-CCEB0B3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B122-0E8C-4ACF-9B95-3907344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7B460-D041-4F74-B3F6-AB6F4D7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E6B1-FE54-41C9-B61D-8B0F1D0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2E9B-6107-4051-BF0E-7E3CAB25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27C-CA0C-4980-974C-1A854734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27D94-00C7-4453-93CD-F7AD0E4B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E0BE-A1F9-4557-AA22-3CC61771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5607-637B-46EE-9E37-564B7E2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951AF-8AB6-458F-BB61-0E063BD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456F-A120-4090-83F0-9624651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3177-294B-416F-804E-185CA89A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22E9B-5769-4F67-8A0D-40CC3A51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12BAA-5B5D-4E2C-9C6D-EE416A6F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9BFC-83C0-45FB-9BF4-CFD54D4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BF9A-AE74-4224-90D8-5BEC33D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163-D85E-4485-AA82-6EC313B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B1E0-34F7-4554-90B7-36EEC2B4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5649-3E8A-469F-BF0F-7FDD4967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C2AF-9430-424E-9677-9F77DBFD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57AE3-7817-4BC6-A831-9CA60149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7342-32CC-4B54-BAEA-DA8B1BD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3C73-7E81-487F-82BA-2055BBB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A282-8FDF-48AB-800E-D8C60E2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0B6D-632D-490F-9897-C51378EF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271B-3063-476C-B580-2C1D3D5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67F7-BFFD-470C-8C6D-7C220A8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839-1A33-4828-81CD-C9CF1AF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ECE8-2B3B-4705-9299-BF7AA76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8044-18B6-4595-8F95-63D24D5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3C07-9D80-448F-990A-76D8D65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FD6C-6CD6-4FC5-B45F-AE47AD92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15D15-043E-48A1-B2D1-BC2599A7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49D-B9B1-42C3-BC23-47FC7B0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D4E-E1D9-441A-9F84-8F08021F9A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D23-D0F5-4754-AB6D-673EE158257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E878-B819-4896-8124-CDEA3AE3CA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FEA-2B85-4E06-BE98-9C3FCFB3B4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1FB4-9F27-4825-8F44-1637D38CDE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27E8-A164-4CCB-AD76-B75E11E7AB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E49-80FE-4F79-8243-9233102570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http://uchni.com.ua/pars_docs/refs/50/49686/49686_html_m6e5b33ba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Прямоугольник 3"/>
          <p:cNvGrpSpPr/>
          <p:nvPr/>
        </p:nvGrpSpPr>
        <p:grpSpPr>
          <a:xfrm>
            <a:off x="1170000" y="817560"/>
            <a:ext cx="5578560" cy="3157560"/>
            <a:chOff x="1170000" y="817560"/>
            <a:chExt cx="5578560" cy="3157560"/>
          </a:xfrm>
        </p:grpSpPr>
        <p:pic>
          <p:nvPicPr>
            <p:cNvPr id="33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70000" y="817560"/>
              <a:ext cx="557856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187280" y="836640"/>
              <a:ext cx="554544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УРОК С ПОЗИЦИИ РЕАЛИЗАЦИИ ФГОС НОО. ТРАДИЦИОННАЯ И НЕТРАДИЦИОННАЯ ФОРМА УРОК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Прямоугольник 7"/>
          <p:cNvGrpSpPr/>
          <p:nvPr/>
        </p:nvGrpSpPr>
        <p:grpSpPr>
          <a:xfrm>
            <a:off x="2103480" y="3627360"/>
            <a:ext cx="3925800" cy="1548000"/>
            <a:chOff x="2103480" y="3627360"/>
            <a:chExt cx="3925800" cy="1548000"/>
          </a:xfrm>
        </p:grpSpPr>
        <p:pic>
          <p:nvPicPr>
            <p:cNvPr id="3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103480" y="3627360"/>
              <a:ext cx="39258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24000" y="3645000"/>
              <a:ext cx="3888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Подготовила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Гайдарова А.Р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https://i.ytimg.com/vi/wrVAa0qHf4I/maxresdefault.jpg"/>
          <p:cNvPicPr/>
          <p:nvPr/>
        </p:nvPicPr>
        <p:blipFill>
          <a:blip r:embed="rId1"/>
          <a:stretch/>
        </p:blipFill>
        <p:spPr>
          <a:xfrm>
            <a:off x="816120" y="2403360"/>
            <a:ext cx="7584840" cy="426564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с двумя вырезанными противолежащими углами 4"/>
          <p:cNvSpPr/>
          <p:nvPr/>
        </p:nvSpPr>
        <p:spPr>
          <a:xfrm>
            <a:off x="166680" y="244440"/>
            <a:ext cx="8856720" cy="18716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р глазами эколога. Формирование представления о взаимосвязи человека и окружающей ср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 анализировать современные экологические проблемы, предлагать меры по их реш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с двумя вырезанными противолежащими углами 3"/>
          <p:cNvSpPr/>
          <p:nvPr/>
        </p:nvSpPr>
        <p:spPr>
          <a:xfrm>
            <a:off x="1952640" y="692280"/>
            <a:ext cx="5389560" cy="792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https://cdn.fishki.net/upload/post/201503/28/1481572/cvenannt.jpg"/>
          <p:cNvPicPr/>
          <p:nvPr/>
        </p:nvPicPr>
        <p:blipFill>
          <a:blip r:embed="rId1"/>
          <a:stretch/>
        </p:blipFill>
        <p:spPr>
          <a:xfrm>
            <a:off x="168120" y="2060640"/>
            <a:ext cx="3570480" cy="33019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3564000" y="2492280"/>
            <a:ext cx="52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И. Толковый словарь русского языка. – М.: Мир и Образование, Оникс, 2011. –  736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и нетрадиционные формы обучения и воспитания: учебное пособие / автор-составить В.Г. Закиров, В.К. Власов, Л.Р. Каюмова, Э.Г. Сабирова. – Казань: Казанский ун-т, 2018. – 109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 / Министерство образования и науки Российской Федерации. –М.: Просвещение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s://www.pptgrounds.com/wp-content/uploads/2012/09/Elegant-Abstract-Blue-Backgrounds-PPT-1024x768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" descr=""/>
          <p:cNvPicPr/>
          <p:nvPr/>
        </p:nvPicPr>
        <p:blipFill>
          <a:blip r:embed="rId2"/>
          <a:stretch/>
        </p:blipFill>
        <p:spPr>
          <a:xfrm>
            <a:off x="-189000" y="1616040"/>
            <a:ext cx="9577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5"/>
          <p:cNvSpPr/>
          <p:nvPr/>
        </p:nvSpPr>
        <p:spPr>
          <a:xfrm>
            <a:off x="4716360" y="120600"/>
            <a:ext cx="4248360" cy="324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относящийся к настоящему времени, тепереш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чебный час, посвященный учебному предм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трелка вниз 6"/>
          <p:cNvSpPr/>
          <p:nvPr/>
        </p:nvSpPr>
        <p:spPr>
          <a:xfrm rot="16200000">
            <a:off x="2688840" y="1652400"/>
            <a:ext cx="194328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4716360" y="3500280"/>
            <a:ext cx="4248360" cy="324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ящий на уровне своего века, не отстал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 нечто поучительное, из чего можно сделать вывод для будущ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https://ozon-st.cdn.ngenix.net/multimedia/1021582087.jpg"/>
          <p:cNvPicPr/>
          <p:nvPr/>
        </p:nvPicPr>
        <p:blipFill>
          <a:blip r:embed="rId1"/>
          <a:stretch/>
        </p:blipFill>
        <p:spPr>
          <a:xfrm>
            <a:off x="108000" y="1685880"/>
            <a:ext cx="2735280" cy="4214880"/>
          </a:xfrm>
          <a:prstGeom prst="rect">
            <a:avLst/>
          </a:prstGeom>
          <a:ln w="0">
            <a:noFill/>
          </a:ln>
        </p:spPr>
      </p:pic>
      <p:sp>
        <p:nvSpPr>
          <p:cNvPr id="346" name="Стрелка вниз 8"/>
          <p:cNvSpPr/>
          <p:nvPr/>
        </p:nvSpPr>
        <p:spPr>
          <a:xfrm rot="16200000">
            <a:off x="2688840" y="4213080"/>
            <a:ext cx="194328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Схема 3" descr=""/>
          <p:cNvPicPr/>
          <p:nvPr/>
        </p:nvPicPr>
        <p:blipFill>
          <a:blip r:embed="rId1"/>
          <a:stretch/>
        </p:blipFill>
        <p:spPr>
          <a:xfrm>
            <a:off x="262080" y="1944720"/>
            <a:ext cx="8710560" cy="46688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ОВРЕМЕННЫЙ У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хема 2" descr=""/>
          <p:cNvPicPr/>
          <p:nvPr/>
        </p:nvPicPr>
        <p:blipFill>
          <a:blip r:embed="rId1"/>
          <a:stretch/>
        </p:blipFill>
        <p:spPr>
          <a:xfrm>
            <a:off x="317520" y="1968480"/>
            <a:ext cx="8655120" cy="4627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ТРУКТУРНЫЕ КОМПОНЕНТЫ ТРАДИЦИОННОЙ ФОРМЫ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с двумя вырезанными противолежащими углами 3"/>
          <p:cNvSpPr/>
          <p:nvPr/>
        </p:nvSpPr>
        <p:spPr>
          <a:xfrm>
            <a:off x="927000" y="757080"/>
            <a:ext cx="7417080" cy="67968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НЕТРАДИЦИОННАЯ ФОРМА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Схема 1" descr=""/>
          <p:cNvPicPr/>
          <p:nvPr/>
        </p:nvPicPr>
        <p:blipFill>
          <a:blip r:embed="rId1"/>
          <a:stretch/>
        </p:blipFill>
        <p:spPr>
          <a:xfrm>
            <a:off x="0" y="1914480"/>
            <a:ext cx="8935920" cy="406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Схема 2" descr=""/>
          <p:cNvPicPr/>
          <p:nvPr/>
        </p:nvPicPr>
        <p:blipFill>
          <a:blip r:embed="rId1"/>
          <a:stretch/>
        </p:blipFill>
        <p:spPr>
          <a:xfrm>
            <a:off x="324000" y="2163600"/>
            <a:ext cx="8661240" cy="47134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Ы НЕСТАНДАРТНЫХ ФОРМ УРОКОВ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0" y="549360"/>
            <a:ext cx="3059280" cy="369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Схема 2" descr=""/>
          <p:cNvPicPr/>
          <p:nvPr/>
        </p:nvPicPr>
        <p:blipFill>
          <a:blip r:embed="rId1"/>
          <a:stretch/>
        </p:blipFill>
        <p:spPr>
          <a:xfrm>
            <a:off x="317520" y="2163600"/>
            <a:ext cx="8650440" cy="47134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Ы НЕСТАНДАРТНЫХ ФОРМ УРОКОВ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0" y="549360"/>
            <a:ext cx="3059280" cy="369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i.ytimg.com/vi/wrVAa0qHf4I/maxresdefault.jpg"/>
          <p:cNvPicPr/>
          <p:nvPr/>
        </p:nvPicPr>
        <p:blipFill>
          <a:blip r:embed="rId1"/>
          <a:stretch/>
        </p:blipFill>
        <p:spPr>
          <a:xfrm>
            <a:off x="816120" y="2403360"/>
            <a:ext cx="7584840" cy="42656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с двумя вырезанными противолежащими углами 4"/>
          <p:cNvSpPr/>
          <p:nvPr/>
        </p:nvSpPr>
        <p:spPr>
          <a:xfrm>
            <a:off x="166680" y="244440"/>
            <a:ext cx="8856720" cy="18716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р глазами эколога. Формирование представления о взаимосвязи человека и окружающей ср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 анализировать современные экологические проблемы, предлагать меры по их реш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3" descr=""/>
          <p:cNvPicPr/>
          <p:nvPr/>
        </p:nvPicPr>
        <p:blipFill>
          <a:blip r:embed="rId1"/>
          <a:stretch/>
        </p:blipFill>
        <p:spPr>
          <a:xfrm>
            <a:off x="3193920" y="1542960"/>
            <a:ext cx="5784840" cy="496728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с двумя вырезанными противолежащими углами 4"/>
          <p:cNvSpPr/>
          <p:nvPr/>
        </p:nvSpPr>
        <p:spPr>
          <a:xfrm>
            <a:off x="900000" y="438120"/>
            <a:ext cx="7417080" cy="7923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ВАРИ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5" descr="http://tricolortvmag.ru/upload/resize_cache/iblock/c90/1200_560_2/4.jpg"/>
          <p:cNvPicPr/>
          <p:nvPr/>
        </p:nvPicPr>
        <p:blipFill>
          <a:blip r:embed="rId2"/>
          <a:stretch/>
        </p:blipFill>
        <p:spPr>
          <a:xfrm>
            <a:off x="755640" y="2708280"/>
            <a:ext cx="2724120" cy="127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kvu.su/upload/medialibrary/0f6/0f60c60b722361f9ee1eaf06b3aa5f5d.jpg"/>
          <p:cNvPicPr/>
          <p:nvPr/>
        </p:nvPicPr>
        <p:blipFill>
          <a:blip r:embed="rId3"/>
          <a:stretch/>
        </p:blipFill>
        <p:spPr>
          <a:xfrm>
            <a:off x="1368360" y="1341360"/>
            <a:ext cx="1719360" cy="1290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https://all.culture.ru/uploads/e72dee6b6ecd42d9f67ec3a299480c20.jpg"/>
          <p:cNvPicPr/>
          <p:nvPr/>
        </p:nvPicPr>
        <p:blipFill>
          <a:blip r:embed="rId4"/>
          <a:stretch/>
        </p:blipFill>
        <p:spPr>
          <a:xfrm>
            <a:off x="1973160" y="5557680"/>
            <a:ext cx="2229120" cy="1186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https://pozadaneprezent.pl/uploads/61470efc88/ef02281eb0.jpg"/>
          <p:cNvPicPr/>
          <p:nvPr/>
        </p:nvPicPr>
        <p:blipFill>
          <a:blip r:embed="rId5"/>
          <a:stretch/>
        </p:blipFill>
        <p:spPr>
          <a:xfrm>
            <a:off x="2455920" y="4149720"/>
            <a:ext cx="126360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9:01:28Z</dcterms:created>
  <dc:creator>User</dc:creator>
  <dc:description/>
  <dc:language>en-US</dc:language>
  <cp:lastModifiedBy>User</cp:lastModifiedBy>
  <dcterms:modified xsi:type="dcterms:W3CDTF">2018-08-08T12:37:00Z</dcterms:modified>
  <cp:revision>23</cp:revision>
  <dc:subject/>
  <dc:title>Презентация PowerPoint</dc:title>
</cp:coreProperties>
</file>