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E22-EE66-4EE4-8693-4C6BFA7F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BAB-DCB7-4D50-8DD0-28EA59F9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8C0-AAC8-4CDB-BD28-9008477F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838-0C7A-4B8A-8877-03960DF5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6747-2F04-44CF-B7C1-72FD0788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0A46-577D-4695-A2FB-B8ADA3C6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BCC6-0821-44B7-BB14-3EF096C4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056B-6F13-45E1-B9E3-22F850D8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C246-F511-46E0-881A-A06F54F4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6411-34CA-4559-84F0-4209805F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3FAE-2CD1-4CCB-A536-F8829A46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634-0C1D-4C01-B26B-6D86C4E9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51A3-9C02-47EF-9615-8395228C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A7A9-FFBF-4C61-A7AC-CC367F23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A778-5331-4A77-8257-415DC7F2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CD36-0FDA-48DE-A0B2-9F74C75F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ED6C-C370-46E2-B825-AFD40DDD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DA9E-2E82-474A-A1EB-1E9829FD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299FD-38DD-4F42-B3D6-B09E2C43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53CAB-A766-4149-BAF5-2AF16BF2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B6FF5-C8B5-45BD-8E66-D9C038B0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14E4E-D73F-4C50-9D0D-33223120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38C-1453-4EF2-9DF2-88F1F063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D8994-213D-4655-AB2F-5C21FC82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C53B-F0B3-4753-9E48-0C2ED703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03EB-F1CF-49BF-818F-C8883963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69FC-2EE9-4122-8050-2D265B5B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9904A-6743-4235-9947-4E97DF5F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B851B-9060-48C2-A7FB-A04B163B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3E5ED-F868-45F5-9AA3-910FD957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10CD7-8F25-4551-A108-AFB6E7F9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ED277-717E-4027-83FA-0E0387B6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02633-F8C1-4E07-9727-61D71C99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1454-318B-4CEE-94D3-6C7737D8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0CFB1-EDA7-4172-A35D-C368A339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98CBC-0616-49E3-B1FD-2A39F62A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C330-43E9-4E93-A231-74302274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094D8-68C2-4F42-84A5-7FEAFDB4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40680-81D1-4AC3-84BB-26DC3066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CCC33-8058-4D0C-AF80-C3B84096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C99D4-29C4-42AE-8DE0-73FFEA04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BB7D9-816F-4AEA-AF47-8B809918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5C341-AB30-4EEF-A67D-1485B161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08B0E-076A-4973-8912-E441CD44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D6C-295C-42DB-AC48-CF1F0857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E0971-DCB7-40D7-9EA8-A17A59B3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BAC7B-217C-4421-9AB1-C9124FDB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AB269-E77B-4C84-9D59-FAD7F92B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C0E52-0CB7-42A2-944F-768CBA92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12CF2-7EB0-40B8-8EDD-5F085D10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EF8F6-786B-4592-AA99-85158E86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4A8CC-E10F-4A09-9DDB-7CBA139B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DD772-E19C-4A4F-85A9-575304DB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81430-A6CA-465E-91A4-F85105E4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732C1-02F7-4865-8485-68CD4146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EE2-77E6-40DF-BC6F-9B0C99BA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3D23A-9570-4ED9-9A7D-7944DE11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5ACF0-8D9B-4F3C-A680-738E2F5B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44AF3-4329-4F27-8A40-3C8FF252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8A200-206B-45C9-999B-4C7711A9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0C01E-FEB2-4C0D-B297-0DFDE6CD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2B4D3-BCF3-45FD-AB15-19196B5E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0EB1F-A851-4D25-96EC-81D708CC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F39D6-C97A-4CFA-8EA4-2C89718D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F35AD-41B9-4824-BCC6-D138AA87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1AD60-2716-4BAC-88B9-E3AA3594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03B-A747-45EA-AC59-7D8D545A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17196-FA30-4716-BE5C-F4007661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2C2DD-11C4-4A94-81ED-FD9DAE79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6DF77-F6F9-4E39-8433-EBA43495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AFF98-3654-4758-B135-2E42AB0B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54937-836F-414E-BFB4-6D03B8C1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DA6B2-9EEE-44C0-AB9C-CB0DEFFB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8124E-DB8D-44D4-B155-DBBC69FC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83AC3-BD69-4FA1-A77A-79CBD735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667C0-008D-4897-BD4F-C612862E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10F5C-6933-45B1-9C0B-A5EEA12D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914-FFF0-4177-9A24-46BF4ED9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FCFC9-DCA5-45D2-AEF1-203FF8A4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62CF0-CF24-4EAE-80A6-89F09BAD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81B83-BCFE-4E5D-9F48-83816C22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3E836-9C8A-494B-BCAA-C182629F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66CDF-7614-4598-B133-88597C06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693-F02E-46D0-BDB0-4C1A648D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4C3E-EB7C-4613-9A6C-D9B4D3EC144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B165-AC22-4386-924F-44E93682F5B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750E-1685-4322-91C9-FE6A0893EFF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8770-31E3-4CFB-BFC4-E2EC133CF64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849A-0DCD-43D3-8D2E-4C6A501658A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4D24-D2F4-435B-8A4C-032ACF53C03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18B0-AB13-4806-B351-CABB39EC319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9" descr="http://uchni.com.ua/pars_docs/refs/50/49686/49686_html_m6e5b33ba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6" name="Прямоугольник 3"/>
          <p:cNvGrpSpPr/>
          <p:nvPr/>
        </p:nvGrpSpPr>
        <p:grpSpPr>
          <a:xfrm>
            <a:off x="1170000" y="817560"/>
            <a:ext cx="5578560" cy="3157560"/>
            <a:chOff x="1170000" y="817560"/>
            <a:chExt cx="5578560" cy="3157560"/>
          </a:xfrm>
        </p:grpSpPr>
        <p:pic>
          <p:nvPicPr>
            <p:cNvPr id="33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170000" y="817560"/>
              <a:ext cx="557856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187280" y="836640"/>
              <a:ext cx="5545440" cy="22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52e65"/>
                  </a:solidFill>
                  <a:latin typeface="Times New Roman"/>
                  <a:ea typeface="Times New Roman"/>
                </a:rPr>
                <a:t>УРОК С ПОЗИЦИИ РЕАЛИЗАЦИИ ФГОС НОО. ТРАДИЦИОННАЯ И НЕТРАДИЦИОННАЯ ФОРМА УРОК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Прямоугольник 7"/>
          <p:cNvGrpSpPr/>
          <p:nvPr/>
        </p:nvGrpSpPr>
        <p:grpSpPr>
          <a:xfrm>
            <a:off x="2103480" y="3627360"/>
            <a:ext cx="3925800" cy="1548000"/>
            <a:chOff x="2103480" y="3627360"/>
            <a:chExt cx="3925800" cy="1548000"/>
          </a:xfrm>
        </p:grpSpPr>
        <p:pic>
          <p:nvPicPr>
            <p:cNvPr id="34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103480" y="3627360"/>
              <a:ext cx="392580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124000" y="3645000"/>
              <a:ext cx="38880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52e65"/>
                  </a:solidFill>
                  <a:latin typeface="Times New Roman"/>
                  <a:ea typeface="Times New Roman"/>
                </a:rPr>
                <a:t>Подготовила: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52e65"/>
                  </a:solidFill>
                  <a:latin typeface="Times New Roman"/>
                  <a:ea typeface="Times New Roman"/>
                </a:rPr>
                <a:t>Гайдарова А.Р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https://i.ytimg.com/vi/wrVAa0qHf4I/maxresdefault.jpg"/>
          <p:cNvPicPr/>
          <p:nvPr/>
        </p:nvPicPr>
        <p:blipFill>
          <a:blip r:embed="rId1"/>
          <a:stretch/>
        </p:blipFill>
        <p:spPr>
          <a:xfrm>
            <a:off x="816120" y="2403360"/>
            <a:ext cx="7584840" cy="4265640"/>
          </a:xfrm>
          <a:prstGeom prst="rect">
            <a:avLst/>
          </a:prstGeom>
          <a:ln w="0">
            <a:noFill/>
          </a:ln>
        </p:spPr>
      </p:pic>
      <p:sp>
        <p:nvSpPr>
          <p:cNvPr id="368" name="Прямоугольник с двумя вырезанными противолежащими углами 4"/>
          <p:cNvSpPr/>
          <p:nvPr/>
        </p:nvSpPr>
        <p:spPr>
          <a:xfrm>
            <a:off x="166680" y="244440"/>
            <a:ext cx="8856720" cy="187164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ир глазами эколога. Формирование представления о взаимосвязи человека и окружающей сре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:  анализировать современные экологические проблемы, предлагать меры по их реше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 с двумя вырезанными противолежащими углами 3"/>
          <p:cNvSpPr/>
          <p:nvPr/>
        </p:nvSpPr>
        <p:spPr>
          <a:xfrm>
            <a:off x="1952640" y="692280"/>
            <a:ext cx="5389560" cy="79200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2" descr="https://cdn.fishki.net/upload/post/201503/28/1481572/cvenannt.jpg"/>
          <p:cNvPicPr/>
          <p:nvPr/>
        </p:nvPicPr>
        <p:blipFill>
          <a:blip r:embed="rId1"/>
          <a:stretch/>
        </p:blipFill>
        <p:spPr>
          <a:xfrm>
            <a:off x="168120" y="2060640"/>
            <a:ext cx="3570480" cy="330192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5"/>
          <p:cNvSpPr/>
          <p:nvPr/>
        </p:nvSpPr>
        <p:spPr>
          <a:xfrm>
            <a:off x="3564000" y="2492280"/>
            <a:ext cx="525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егов С.И. Толковый словарь русского языка. – М.: Мир и Образование, Оникс, 2011. –  736 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и нетрадиционные формы обучения и воспитания: учебное пособие / автор-составить В.Г. Закиров, В.К. Власов, Л.Р. Каюмова, Э.Г. Сабирова. – Казань: Казанский ун-т, 2018. – 109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начального общего образования / Министерство образования и науки Российской Федерации. –М.: Просвещение,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ttps://www.pptgrounds.com/wp-content/uploads/2012/09/Elegant-Abstract-Blue-Backgrounds-PPT-1024x768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" descr=""/>
          <p:cNvPicPr/>
          <p:nvPr/>
        </p:nvPicPr>
        <p:blipFill>
          <a:blip r:embed="rId2"/>
          <a:stretch/>
        </p:blipFill>
        <p:spPr>
          <a:xfrm>
            <a:off x="-189000" y="1616040"/>
            <a:ext cx="957744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5"/>
          <p:cNvSpPr/>
          <p:nvPr/>
        </p:nvSpPr>
        <p:spPr>
          <a:xfrm>
            <a:off x="4716360" y="120600"/>
            <a:ext cx="4248360" cy="324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ы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относящийся к настоящему времени, тепереш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учебный час, посвященный учебному предм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Стрелка вниз 6"/>
          <p:cNvSpPr/>
          <p:nvPr/>
        </p:nvSpPr>
        <p:spPr>
          <a:xfrm rot="16200000">
            <a:off x="2688840" y="1652400"/>
            <a:ext cx="1943280" cy="1368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108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оугольник 7"/>
          <p:cNvSpPr/>
          <p:nvPr/>
        </p:nvSpPr>
        <p:spPr>
          <a:xfrm>
            <a:off x="4716360" y="3500280"/>
            <a:ext cx="4248360" cy="324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оящий на уровне своего века, не отстал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 нечто поучительное, из чего можно сделать вывод для будущ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7" descr="https://ozon-st.cdn.ngenix.net/multimedia/1021582087.jpg"/>
          <p:cNvPicPr/>
          <p:nvPr/>
        </p:nvPicPr>
        <p:blipFill>
          <a:blip r:embed="rId1"/>
          <a:stretch/>
        </p:blipFill>
        <p:spPr>
          <a:xfrm>
            <a:off x="108000" y="1685880"/>
            <a:ext cx="2735280" cy="4214880"/>
          </a:xfrm>
          <a:prstGeom prst="rect">
            <a:avLst/>
          </a:prstGeom>
          <a:ln w="0">
            <a:noFill/>
          </a:ln>
        </p:spPr>
      </p:pic>
      <p:sp>
        <p:nvSpPr>
          <p:cNvPr id="346" name="Стрелка вниз 8"/>
          <p:cNvSpPr/>
          <p:nvPr/>
        </p:nvSpPr>
        <p:spPr>
          <a:xfrm rot="16200000">
            <a:off x="2688840" y="4213080"/>
            <a:ext cx="1943280" cy="1368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108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Схема 3" descr=""/>
          <p:cNvPicPr/>
          <p:nvPr/>
        </p:nvPicPr>
        <p:blipFill>
          <a:blip r:embed="rId1"/>
          <a:stretch/>
        </p:blipFill>
        <p:spPr>
          <a:xfrm>
            <a:off x="262080" y="1944720"/>
            <a:ext cx="8710560" cy="466884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с одним скругленным углом 4"/>
          <p:cNvSpPr/>
          <p:nvPr/>
        </p:nvSpPr>
        <p:spPr>
          <a:xfrm>
            <a:off x="971640" y="476280"/>
            <a:ext cx="7345440" cy="100800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СОВРЕМЕННЫЙ УР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Схема 2" descr=""/>
          <p:cNvPicPr/>
          <p:nvPr/>
        </p:nvPicPr>
        <p:blipFill>
          <a:blip r:embed="rId1"/>
          <a:stretch/>
        </p:blipFill>
        <p:spPr>
          <a:xfrm>
            <a:off x="317520" y="1968480"/>
            <a:ext cx="8655120" cy="462744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с двумя вырезанными противолежащими углами 1"/>
          <p:cNvSpPr/>
          <p:nvPr/>
        </p:nvSpPr>
        <p:spPr>
          <a:xfrm>
            <a:off x="900000" y="444600"/>
            <a:ext cx="7417080" cy="118404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СТРУКТУРНЫЕ КОМПОНЕНТЫ ТРАДИЦИОННОЙ ФОРМЫ УР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с двумя вырезанными противолежащими углами 3"/>
          <p:cNvSpPr/>
          <p:nvPr/>
        </p:nvSpPr>
        <p:spPr>
          <a:xfrm>
            <a:off x="927000" y="757080"/>
            <a:ext cx="7417080" cy="67968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НЕТРАДИЦИОННАЯ ФОРМА УР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Схема 1" descr=""/>
          <p:cNvPicPr/>
          <p:nvPr/>
        </p:nvPicPr>
        <p:blipFill>
          <a:blip r:embed="rId1"/>
          <a:stretch/>
        </p:blipFill>
        <p:spPr>
          <a:xfrm>
            <a:off x="0" y="1914480"/>
            <a:ext cx="8935920" cy="4065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Схема 2" descr=""/>
          <p:cNvPicPr/>
          <p:nvPr/>
        </p:nvPicPr>
        <p:blipFill>
          <a:blip r:embed="rId1"/>
          <a:stretch/>
        </p:blipFill>
        <p:spPr>
          <a:xfrm>
            <a:off x="324000" y="2163600"/>
            <a:ext cx="8661240" cy="471348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с двумя вырезанными противолежащими углами 3"/>
          <p:cNvSpPr/>
          <p:nvPr/>
        </p:nvSpPr>
        <p:spPr>
          <a:xfrm>
            <a:off x="1447920" y="404640"/>
            <a:ext cx="7416720" cy="108756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ППЫ НЕСТАНДАРТНЫХ ФОРМ УРОКОВ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5" descr="https://img1.liveinternet.ru/images/attach/c/10/127/534/127534717_5177462_0_ab45a_5e50eef4_XL.png"/>
          <p:cNvPicPr/>
          <p:nvPr/>
        </p:nvPicPr>
        <p:blipFill>
          <a:blip r:embed="rId2"/>
          <a:stretch/>
        </p:blipFill>
        <p:spPr>
          <a:xfrm>
            <a:off x="0" y="549360"/>
            <a:ext cx="3059280" cy="3698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Схема 2" descr=""/>
          <p:cNvPicPr/>
          <p:nvPr/>
        </p:nvPicPr>
        <p:blipFill>
          <a:blip r:embed="rId1"/>
          <a:stretch/>
        </p:blipFill>
        <p:spPr>
          <a:xfrm>
            <a:off x="317520" y="2163600"/>
            <a:ext cx="8650440" cy="471348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с двумя вырезанными противолежащими углами 3"/>
          <p:cNvSpPr/>
          <p:nvPr/>
        </p:nvSpPr>
        <p:spPr>
          <a:xfrm>
            <a:off x="1447920" y="404640"/>
            <a:ext cx="7416720" cy="108756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ППЫ НЕСТАНДАРТНЫХ ФОРМ УРОКОВ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5" descr="https://img1.liveinternet.ru/images/attach/c/10/127/534/127534717_5177462_0_ab45a_5e50eef4_XL.png"/>
          <p:cNvPicPr/>
          <p:nvPr/>
        </p:nvPicPr>
        <p:blipFill>
          <a:blip r:embed="rId2"/>
          <a:stretch/>
        </p:blipFill>
        <p:spPr>
          <a:xfrm>
            <a:off x="0" y="549360"/>
            <a:ext cx="3059280" cy="3698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s://i.ytimg.com/vi/wrVAa0qHf4I/maxresdefault.jpg"/>
          <p:cNvPicPr/>
          <p:nvPr/>
        </p:nvPicPr>
        <p:blipFill>
          <a:blip r:embed="rId1"/>
          <a:stretch/>
        </p:blipFill>
        <p:spPr>
          <a:xfrm>
            <a:off x="816120" y="2403360"/>
            <a:ext cx="7584840" cy="426564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с двумя вырезанными противолежащими углами 4"/>
          <p:cNvSpPr/>
          <p:nvPr/>
        </p:nvSpPr>
        <p:spPr>
          <a:xfrm>
            <a:off x="166680" y="244440"/>
            <a:ext cx="8856720" cy="187164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ир глазами эколога. Формирование представления о взаимосвязи человека и окружающей сре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:  анализировать современные экологические проблемы, предлагать меры по их реше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Схема 3" descr=""/>
          <p:cNvPicPr/>
          <p:nvPr/>
        </p:nvPicPr>
        <p:blipFill>
          <a:blip r:embed="rId1"/>
          <a:stretch/>
        </p:blipFill>
        <p:spPr>
          <a:xfrm>
            <a:off x="3193920" y="1542960"/>
            <a:ext cx="5784840" cy="496728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с двумя вырезанными противолежащими углами 4"/>
          <p:cNvSpPr/>
          <p:nvPr/>
        </p:nvSpPr>
        <p:spPr>
          <a:xfrm>
            <a:off x="900000" y="438120"/>
            <a:ext cx="7417080" cy="79236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ВАРИТЕЛЬ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5" descr="http://tricolortvmag.ru/upload/resize_cache/iblock/c90/1200_560_2/4.jpg"/>
          <p:cNvPicPr/>
          <p:nvPr/>
        </p:nvPicPr>
        <p:blipFill>
          <a:blip r:embed="rId2"/>
          <a:stretch/>
        </p:blipFill>
        <p:spPr>
          <a:xfrm>
            <a:off x="755640" y="2708280"/>
            <a:ext cx="2724120" cy="1271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kvu.su/upload/medialibrary/0f6/0f60c60b722361f9ee1eaf06b3aa5f5d.jpg"/>
          <p:cNvPicPr/>
          <p:nvPr/>
        </p:nvPicPr>
        <p:blipFill>
          <a:blip r:embed="rId3"/>
          <a:stretch/>
        </p:blipFill>
        <p:spPr>
          <a:xfrm>
            <a:off x="1368360" y="1341360"/>
            <a:ext cx="1719360" cy="1290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9" descr="https://all.culture.ru/uploads/e72dee6b6ecd42d9f67ec3a299480c20.jpg"/>
          <p:cNvPicPr/>
          <p:nvPr/>
        </p:nvPicPr>
        <p:blipFill>
          <a:blip r:embed="rId4"/>
          <a:stretch/>
        </p:blipFill>
        <p:spPr>
          <a:xfrm>
            <a:off x="1973160" y="5557680"/>
            <a:ext cx="2229120" cy="11862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https://pozadaneprezent.pl/uploads/61470efc88/ef02281eb0.jpg"/>
          <p:cNvPicPr/>
          <p:nvPr/>
        </p:nvPicPr>
        <p:blipFill>
          <a:blip r:embed="rId5"/>
          <a:stretch/>
        </p:blipFill>
        <p:spPr>
          <a:xfrm>
            <a:off x="2455920" y="4149720"/>
            <a:ext cx="1263600" cy="126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09:01:28Z</dcterms:created>
  <dc:creator>User</dc:creator>
  <dc:description/>
  <dc:language>en-US</dc:language>
  <cp:lastModifiedBy>User</cp:lastModifiedBy>
  <dcterms:modified xsi:type="dcterms:W3CDTF">2018-08-08T12:37:00Z</dcterms:modified>
  <cp:revision>23</cp:revision>
  <dc:subject/>
  <dc:title>Презентация PowerPoint</dc:title>
</cp:coreProperties>
</file>