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B75-3DAC-43AA-A78A-6E3CE211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F30-63B0-4199-B518-1F84256C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405-0889-430B-A090-97D093C4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46C-8E13-47FD-AF60-16285A72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7E9-24CD-4991-B5AF-3EC409DB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8E5-8F66-425E-8FB3-EFB46854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CC7-EEF3-4A53-A2D6-04F1C0B4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B96-9199-47BB-9435-F4880ADC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170-1534-4C37-8E15-029621EA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750-F11E-4B4C-8682-A271CC8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FC4-D242-4610-B7DA-2EF080DE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457-BFAA-4753-80F3-58A0AE9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0B32-0D77-435B-B1A7-6E84809C4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иртуальная экскурсия по родному се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1599840"/>
            <a:ext cx="47862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в форме дидактической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а: «Числительное в русском языке и математик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itd3.mycdn.me/getImage?photoId=454640086991&amp;photoType=13"/>
          <p:cNvPicPr/>
          <p:nvPr/>
        </p:nvPicPr>
        <p:blipFill>
          <a:blip r:embed="rId1"/>
          <a:stretch/>
        </p:blipFill>
        <p:spPr>
          <a:xfrm>
            <a:off x="5743440" y="1928880"/>
            <a:ext cx="2971800" cy="414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46536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Достопримечательности се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32511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Церковь Иоанна Богослова   появились около 200 лет назад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осле того, как от удара молнии в 1827 году сгорела деревянная церковь в Тюбуке, жители построили красивейший каменный храм в стиле классицизма с чертами барочной архитектуры. Барочная пышность присутствовала в декоративной вязи росписи храма, фрагменты которой сохранились до наших дней. 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pics.livejournal.com/alex_merculov/pic/001b781c/s640x480"/>
          <p:cNvPicPr/>
          <p:nvPr/>
        </p:nvPicPr>
        <p:blipFill>
          <a:blip r:embed="rId1"/>
          <a:stretch/>
        </p:blipFill>
        <p:spPr>
          <a:xfrm>
            <a:off x="3571920" y="428760"/>
            <a:ext cx="5214960" cy="61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 реставрацию церкви Иоанна Богослова требуются 10 миллионов рублей. Стены толщиной почти в полтора метра - это единственное, что сохранилось за почти 200-летнюю историю строения. Тюбукскую церковь признали памятником культурного наследия.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торико-культурного наследия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ia125.mycdn.me/getImage?photoId=454637146575&amp;photoType=3"/>
          <p:cNvPicPr/>
          <p:nvPr/>
        </p:nvPicPr>
        <p:blipFill>
          <a:blip r:embed="rId1"/>
          <a:stretch/>
        </p:blipFill>
        <p:spPr>
          <a:xfrm>
            <a:off x="500040" y="1857240"/>
            <a:ext cx="835812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Братская могила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99720"/>
            <a:ext cx="40384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Здесь  захоронены активисты-большевики,  погибшие при установлении Советской власти в селе.   Односельчане собираются тут  9 Мая, чтобы вспомнить всех, кто отстоял страну в страшные годы Отечественной войны 1941-1945 годов. На стенах памятника высечены и   мена людей, отдавших жизни ради мира на зем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User\Downloads\getImage (33).jpg"/>
          <p:cNvPicPr/>
          <p:nvPr/>
        </p:nvPicPr>
        <p:blipFill>
          <a:blip r:embed="rId1"/>
          <a:stretch/>
        </p:blipFill>
        <p:spPr>
          <a:xfrm>
            <a:off x="4500720" y="785880"/>
            <a:ext cx="4357440" cy="27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wnloads\getImage (40).jpg"/>
          <p:cNvPicPr/>
          <p:nvPr/>
        </p:nvPicPr>
        <p:blipFill>
          <a:blip r:embed="rId2"/>
          <a:stretch/>
        </p:blipFill>
        <p:spPr>
          <a:xfrm>
            <a:off x="4429080" y="3500280"/>
            <a:ext cx="450072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Памятник воину-освободител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User\Desktop\фото\download (3).jpg"/>
          <p:cNvPicPr/>
          <p:nvPr/>
        </p:nvPicPr>
        <p:blipFill>
          <a:blip r:embed="rId1"/>
          <a:stretch/>
        </p:blipFill>
        <p:spPr>
          <a:xfrm>
            <a:off x="457200" y="1857240"/>
            <a:ext cx="4257720" cy="4000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214960" y="160020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мятник воину-освободителю возведён возле Дома куль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юда идут люди в День Победы, к его подножию возлагают цветы молодожё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амятник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Герою Советского Союза ,  Сугоняеву Александру Константинови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ia125.mycdn.me/getImage?photoId=454639488975&amp;photoType=3"/>
          <p:cNvPicPr/>
          <p:nvPr/>
        </p:nvPicPr>
        <p:blipFill>
          <a:blip r:embed="rId1"/>
          <a:stretch/>
        </p:blipFill>
        <p:spPr>
          <a:xfrm>
            <a:off x="714240" y="2071800"/>
            <a:ext cx="7929720" cy="464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Учебные за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Раньше учились в небольшой деревянной школе, где было мало классов, приходилось занятия вести в 2 смены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ia125.mycdn.me/getImage?photoId=455047207887&amp;photoType=3"/>
          <p:cNvPicPr/>
          <p:nvPr/>
        </p:nvPicPr>
        <p:blipFill>
          <a:blip r:embed="rId1"/>
          <a:stretch/>
        </p:blipFill>
        <p:spPr>
          <a:xfrm>
            <a:off x="3571920" y="285840"/>
            <a:ext cx="5572080" cy="61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Учебные заведен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im2-tub-ru.yandex.net/i?id=80863023-10-72&amp;n=21"/>
          <p:cNvPicPr/>
          <p:nvPr/>
        </p:nvPicPr>
        <p:blipFill>
          <a:blip r:embed="rId1"/>
          <a:stretch/>
        </p:blipFill>
        <p:spPr>
          <a:xfrm>
            <a:off x="4830840" y="1143000"/>
            <a:ext cx="3956040" cy="4429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Год открытия в селе новой школы 1974.   Мы учимся в трёхэтажном здании, где 22 класса, есть спортивный зал, мастерские. В школе обучается около четырёхсот    учащихся, работает 35 учителей, психолог, социальный педагог, лого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ой Советского Союза Александр Константинович Сугоня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ой учился в нашей школе. В музее есть экспозиция, посвящённая Сугоняеву, где рассказывается о его жизни и подви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www.pomni.is74.ru/images/photos/norm/29000/700/29750.jpg"/>
          <p:cNvPicPr/>
          <p:nvPr/>
        </p:nvPicPr>
        <p:blipFill>
          <a:blip r:embed="rId2"/>
          <a:stretch/>
        </p:blipFill>
        <p:spPr>
          <a:xfrm>
            <a:off x="571680" y="1714680"/>
            <a:ext cx="3857400" cy="435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Школа искус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im4-tub-ru.yandex.net/i?id=103727285-33-72&amp;n=21"/>
          <p:cNvPicPr/>
          <p:nvPr/>
        </p:nvPicPr>
        <p:blipFill>
          <a:blip r:embed="rId1"/>
          <a:stretch/>
        </p:blipFill>
        <p:spPr>
          <a:xfrm>
            <a:off x="4357800" y="1071720"/>
            <a:ext cx="4357440" cy="4786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селе есть школа дополнительного образования детей.  Детская школа искусств села Тюбук работает 16 лет. В школе 3 отделения: инструментальное, художественное, хореографическое. Дети школы являются постоянными участниками районных, зональных, областных, всероссийских конк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286160" y="28584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самбль «Рассв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30081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Arial"/>
              </a:rPr>
              <a:t>Подарок Рейгану</a:t>
            </a:r>
            <a:br>
              <a:rPr sz="2000"/>
            </a:br>
            <a:r>
              <a:rPr b="1" lang="ru-RU" sz="2000" spc="-1" strike="noStrike" u="sng">
                <a:solidFill>
                  <a:srgbClr val="00b050"/>
                </a:solidFill>
                <a:uFillTx/>
                <a:latin typeface="Arial"/>
              </a:rPr>
              <a:t>Люди нашего с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 Разифы Гниятуллиной композиция называлась «Пусть всегда будет солнце!». На земном шаре с рельефным изображением континентов стояла стройная фигурка девушки. В поднятых вверх руках она держала солнце — сферу с расходящимися в разные стороны тонкими стержнями - лучами. Лента с пятью — по числу континентов — голубями спирально опоясывала земной 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kac3.ru/files/images/pust_vsegda_budet_solnze_b.jpg"/>
          <p:cNvPicPr/>
          <p:nvPr/>
        </p:nvPicPr>
        <p:blipFill>
          <a:blip r:embed="rId1"/>
          <a:stretch/>
        </p:blipFill>
        <p:spPr>
          <a:xfrm>
            <a:off x="214200" y="1285920"/>
            <a:ext cx="3714840" cy="507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</a:rPr>
              <a:t>Словар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128592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Экскурсия </a:t>
            </a: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– это поездка, посещение чего-либо с образовательной или увеселительной целью.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земля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Дятлов  Михаил Иванович – бывший директор спиртза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старева Татьяна Викторовна – краевед, бывший уч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ядиков Сергей Дмитриевич – краев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ядикова Анна Дмитриевна – бывший директор вспомогательно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лешко Владимир Федорович – профессор Екатеринбургского универс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Иванова Галина Александровна – Заслуженный уч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Участники боевых действий в Афганистане и Чеч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чителя-вете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Женщины-мастер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Село Тюбук расположено в Каслинском районе Челябинской 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49" name="Picture 3" descr="C:\Users\User\Desktop\Вид от Лесничества.jpg"/>
          <p:cNvPicPr/>
          <p:nvPr/>
        </p:nvPicPr>
        <p:blipFill>
          <a:blip r:embed="rId1"/>
          <a:stretch/>
        </p:blipFill>
        <p:spPr>
          <a:xfrm>
            <a:off x="428760" y="1285920"/>
            <a:ext cx="8358120" cy="48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Из истории возникновения се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но основано до 1705 года мещаряками. Жители - беломестные казаки, несли дозор на дороге от деревни Асманова (ныне Усманова  Кунашакского района) до деревни Иткульской (ныне село Иткуль). С организацией Уйской пограничной линии мещариков начали привлекать для ее охраны. Пожелав осесть ближе к месту службы, они с 1743 года начали переселяться в район озера Учалы.  С 1751 года землями в Тюбуке владели Н.Г. Клеопин, Е. Яковлев и другие заводчики. Клеопин построил плотину, кузницу, мельницу, деревянную церковь во имя Святого Апостола и Евангелиста Иоанна Богослова. Село носило второе неофициальное название –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Богословское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 истории   с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m6-tub-ru.yandex.net/i?id=222932899-64-72&amp;n=21"/>
          <p:cNvPicPr/>
          <p:nvPr/>
        </p:nvPicPr>
        <p:blipFill>
          <a:blip r:embed="rId1"/>
          <a:stretch/>
        </p:blipFill>
        <p:spPr>
          <a:xfrm>
            <a:off x="214200" y="1357200"/>
            <a:ext cx="4214880" cy="5000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фициально Тюбукские мещаряки получили земельный надел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31 марта 1744 года,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эта дата считается днем рождения Тюбу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«селении Тюбуцком» 24 сентября 1824 г. ночевал сам император Александр I во время своей поездки по Уралу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Здесь я живу, здесь Родина мо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ia125.mycdn.me/getImage?photoId=454638012111&amp;photoType=3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Село расположено на реке Сина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инара является самой северной рекой Челябинской области. Река берёт начало в озере Синара. Течёт на восток. Длина реки составляет 148 километров. Сина́ра (от коми ключевая, родниковая река)     протекает в основном в Челябинской области (небольшие участки реки расположены в Свердловской и Курганской областях). Правый приток реки Исе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Река извилистая, ширина русла 12—40 метров. Скорость течения — 0,3 метра в секунду. Длина реки составляет 148 километров. По берегам реки произрастают высокие травы и кустарники. Дороги и тропинки вдоль берега практически отсутствуют. Левый берег в основном сырой и болотистый, а правый крутой и лесист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За год по Синаре протекает 200 миллионов кубов воды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Село излучиной обняв,   стремится вдаль река Син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www.odonata.su/uploads/db/db_poRp1Q.jpg"/>
          <p:cNvPicPr/>
          <p:nvPr/>
        </p:nvPicPr>
        <p:blipFill>
          <a:blip r:embed="rId1"/>
          <a:stretch/>
        </p:blipFill>
        <p:spPr>
          <a:xfrm>
            <a:off x="3575160" y="1521000"/>
            <a:ext cx="5111640" cy="3357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840" y="1143000"/>
            <a:ext cx="3251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селе Тюбук на реке есть запруда, которая образует Тюбукский пруд. Он считается неплохим местом для ловли леща. А ещё здесь отдыхают жители села, любуясь окружающей прир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Улицы с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селе 34 улицы. Многие носят имена людей, прославивших нашу страну :имени  А.К.Сугоняева, Ю.А.Гагарина, М.В.Ломоносова, В.И.Чапаева. По некоторым можно проследить историю страны: Революционная, Советская, Комсомольская, Победы. В последние 20 лет названия стали более нейтральными: Дружбы, Труда, Школьная, Новая.  ¼ часть названий отражает природу села, его ландшафт: Зелёная, Лесная, Полевая, Береговая, Набережная, Соснов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7:52:49Z</dcterms:created>
  <dc:creator>кибирева</dc:creator>
  <dc:description/>
  <dc:language>en-US</dc:language>
  <cp:lastModifiedBy>User</cp:lastModifiedBy>
  <dcterms:modified xsi:type="dcterms:W3CDTF">2019-12-18T16:31:45Z</dcterms:modified>
  <cp:revision>132</cp:revision>
  <dc:subject/>
  <dc:title>Виртуальная экскурсия по родному селу</dc:title>
</cp:coreProperties>
</file>