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9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2E21-6484-450A-9263-839534F5A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3FF2-D14F-4A7F-8E41-22B3268A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6546-212E-432B-ACB5-839BC3CBA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5A1D-F68F-4E59-B10D-2A2D1A711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A32F-2119-4747-AB87-E3AC16140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16728-4AE4-4E9E-9D54-C9139257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737E-A6E5-48E4-810F-F22C0480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A9BA-0AFA-4721-8F71-74B3315C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3DFC-D19F-4AFA-8D5D-162C8A87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1CAA-7ECC-4360-A5A8-CDFDB215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FE47-D57D-477A-837E-8FB94B97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4B78-182B-4CB4-9BDB-5BE5E500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4CD1-07DE-44A2-AFFE-F1548057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6B64-C747-4810-832E-A2D2E364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2490-18AA-48BD-9EED-F6420F39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6CCB-F782-4C82-BB8F-A3883B4EA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E27A-926E-4645-AC8B-166E40456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3356B-D221-4086-9690-86A6A5286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22F39-8E42-473B-95E9-2661BD4D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3DD5F-26BC-4068-B6D0-8AB4E670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043A1-8789-425D-9919-D70FED8C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89338-3055-4964-9AD6-22DD0635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BCEA-5D24-4334-8AE3-BED0DAE5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BD53E-DF08-4F70-96FA-8308836E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908D1-67AB-4A9C-B9E7-5BC82DCD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C8A99-E1F0-4F4F-BF6A-A9B72F94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C16FA-ED37-4F8C-B3D6-F0811DD5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1FCBE-5008-48C5-904E-740215F1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C6E28-2CA9-4A1A-AD08-7F9306183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0A1EB-E5E8-4D78-9CEA-55498EF9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01276-7628-4735-8524-47EA98C99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FBBDF-64EE-410E-A0B0-5804E9A6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44C0B-C1E9-4B7E-AD8B-538DC9F6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0436-8898-4BC8-B99C-A6BE3016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D1DA8-F5F1-4EE7-8381-8B0E2677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2C0FA-7367-4DC7-940A-8BB391FE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B4051-D5F8-41B8-92ED-33869E99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F1089-EE5E-415B-80FB-010A4458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B2DB4-70FC-4EDA-BDCD-C95FE3C9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5FC61-DDF7-469B-839B-832CE9AD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1B5DA-496C-416A-B719-C365C4F9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6A33C-A21A-470C-993F-A836CA5A0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52D8B-743E-4B93-AE1D-BB1B04AF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C70A4-26E1-45E3-BB02-F1A3F59B9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9893-A9F3-4C95-9924-4CD95DD4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272F3-4DAA-4503-85A0-D94D452A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F1DD4-C016-4A67-A404-5F67B417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65344-1EBC-4A55-9A42-A62D32B9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4265B-C15E-4C7A-9DAF-9B197657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1405F-E3B0-4EF4-A559-5D68C793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D1377-E4ED-4E65-BBBB-A01FF992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DA875-95EB-43C9-994E-B3AB76C8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67B91-D138-4883-A489-AA81AC43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6E8ED-44E6-4914-997C-24E3507C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4A1C2-927A-4CB2-9F7C-4244F69CE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4758-1B28-4D47-9404-07F78DA9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539A1-4A77-4130-B150-FA394390B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78221-307C-4DE8-AB51-89A315EE2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F66F3-8139-4646-97CA-611B2052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CC7DB-10D4-4C1F-9567-6581D9C9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70147-B61B-4EE8-970A-94940B00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3E7FA-EA53-4BB8-B3B7-0DC130BC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BF45E-9E37-4A18-894D-4DF915C1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5A0CA-E3A4-4418-AC6E-5DDF9E86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DA324-CFAA-41C9-8D2B-65EF2626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F26A0-D70C-45A8-9A72-8F282961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26B5-B515-41DE-A9A0-5120F112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875E3-B4D7-4C92-ABEF-DDDE29EF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9C467-ABA4-450A-B302-E14447A1E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FF1BD-11F1-4955-B804-1BCDA2871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3EC63-62F7-4EEF-90D9-101CA35B1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24A8A-09F3-4387-8BA7-E72E7EE0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F574D-C0A5-4745-8F0C-7544FDF9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B961A-D119-4177-BCDE-A2819B7B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8670F-BEB0-48DC-A791-EB153480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1D2CE-A0B2-489A-A935-B44CCF88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35D7C-AC10-45B0-B121-31D7A47E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1FFD-63B7-4788-AA1C-77A9CB9F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F81AF-60DA-4552-B8F1-4D4B5323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9B412-E8A8-4E42-B61B-F8C9FEC8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D5E10-20F2-4322-AA09-A851FC51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5DF50-B8F9-4FC4-B693-3A2CB250C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2E65C-47BF-466A-B277-4956BD7BC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2D53-8D4A-4046-BB6E-FF96FCAD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7CD5-EF50-4749-8D22-93320F902E1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E41E-272A-4E9F-A93A-9CCFA933B51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A5EA-7FF3-46BC-90C0-B3A873ACAD8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0A86-B02A-46A4-99ED-31FF4F9F938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21FB-2D21-4F73-9A03-4A465310F52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8CA7-F04F-456A-9E1B-07F0F9240D3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0226-ED91-4513-8395-1F27F8D3B8A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9" descr="http://uchni.com.ua/pars_docs/refs/50/49686/49686_html_m6e5b33ba.jpg"/>
          <p:cNvPicPr/>
          <p:nvPr/>
        </p:nvPicPr>
        <p:blipFill>
          <a:blip r:embed="rId1"/>
          <a:stretch/>
        </p:blipFill>
        <p:spPr>
          <a:xfrm>
            <a:off x="0" y="0"/>
            <a:ext cx="9129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36" name="Прямоугольник 3"/>
          <p:cNvGrpSpPr/>
          <p:nvPr/>
        </p:nvGrpSpPr>
        <p:grpSpPr>
          <a:xfrm>
            <a:off x="1170000" y="817560"/>
            <a:ext cx="5578560" cy="3157560"/>
            <a:chOff x="1170000" y="817560"/>
            <a:chExt cx="5578560" cy="3157560"/>
          </a:xfrm>
        </p:grpSpPr>
        <p:pic>
          <p:nvPicPr>
            <p:cNvPr id="337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170000" y="817560"/>
              <a:ext cx="5578560" cy="31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1187280" y="836640"/>
              <a:ext cx="5545440" cy="22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ОРГАНИЗАЦИЯ КОНТРОЛЬНО-ОЦЕНОЧНОЙ ДЕЯТЕЛЬНОСТИ – ОДНА ИЗ ГЛАВНЫХ СОСТАВЛЯЮЩИХ СОВРЕМЕННОГО УРОК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9" name="Прямоугольник 7"/>
          <p:cNvGrpSpPr/>
          <p:nvPr/>
        </p:nvGrpSpPr>
        <p:grpSpPr>
          <a:xfrm>
            <a:off x="2103480" y="3627360"/>
            <a:ext cx="3925800" cy="1548000"/>
            <a:chOff x="2103480" y="3627360"/>
            <a:chExt cx="3925800" cy="1548000"/>
          </a:xfrm>
        </p:grpSpPr>
        <p:pic>
          <p:nvPicPr>
            <p:cNvPr id="340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103480" y="3627360"/>
              <a:ext cx="392580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2124000" y="3645000"/>
              <a:ext cx="38880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52e65"/>
                  </a:solidFill>
                  <a:latin typeface="Times New Roman"/>
                  <a:ea typeface="Times New Roman"/>
                </a:rPr>
                <a:t>Подготовила: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52e65"/>
                  </a:solidFill>
                  <a:latin typeface="Times New Roman"/>
                  <a:ea typeface="Times New Roman"/>
                </a:rPr>
                <a:t>Гайдарова А.Р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Прямоугольник с двумя вырезанными противолежащими углами 3"/>
          <p:cNvSpPr/>
          <p:nvPr/>
        </p:nvSpPr>
        <p:spPr>
          <a:xfrm>
            <a:off x="1952640" y="692280"/>
            <a:ext cx="5389560" cy="792000"/>
          </a:xfrm>
          <a:prstGeom prst="pie">
            <a:avLst/>
          </a:prstGeom>
          <a:solidFill>
            <a:srgbClr val="ffffff"/>
          </a:solidFill>
          <a:ln w="15840">
            <a:solidFill>
              <a:srgbClr val="1c82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ИСОК ЛИТЕРАТУ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0" name="Picture 2" descr="https://cdn.fishki.net/upload/post/201503/28/1481572/cvenannt.jpg"/>
          <p:cNvPicPr/>
          <p:nvPr/>
        </p:nvPicPr>
        <p:blipFill>
          <a:blip r:embed="rId1"/>
          <a:stretch/>
        </p:blipFill>
        <p:spPr>
          <a:xfrm>
            <a:off x="168120" y="2060640"/>
            <a:ext cx="3570480" cy="330192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1"/>
          <p:cNvSpPr/>
          <p:nvPr/>
        </p:nvSpPr>
        <p:spPr>
          <a:xfrm>
            <a:off x="3348000" y="1700280"/>
            <a:ext cx="545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сарова Л.В. Виды затруднений учителя в организации контрольно-оценочной деятельности при реализации ФГОС // Вестник научных конференций. – 2016. – № 9-2 (13). – С.22-2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ебрюхова В.Л. Дидактические затруднения в контрольно-оценочной деятельности учителя при реализации федерального государственного стандарта начального общего образования // Концепт. – 2013. – № 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государственный образовательный стандарт начального общего образования. – М.: Просвещение, 201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укерман Г.А., Шияновская С.И., Табачникова Н.Л., Суховерша Л.А., Романеева, М.П., Миндарова В.А. Оценка без отметки. – Рига, 1999. – 121 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https://www.pptgrounds.com/wp-content/uploads/2012/09/Elegant-Abstract-Blue-Backgrounds-PPT-1024x768.jpg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3" name="Прямоугольник 1" descr=""/>
          <p:cNvPicPr/>
          <p:nvPr/>
        </p:nvPicPr>
        <p:blipFill>
          <a:blip r:embed="rId2"/>
          <a:stretch/>
        </p:blipFill>
        <p:spPr>
          <a:xfrm>
            <a:off x="-189000" y="1616040"/>
            <a:ext cx="9577440" cy="1565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7"/>
          <p:cNvSpPr/>
          <p:nvPr/>
        </p:nvSpPr>
        <p:spPr>
          <a:xfrm>
            <a:off x="4788000" y="306360"/>
            <a:ext cx="3860640" cy="187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ан на достижение планируемых результат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Стрелка вниз 8"/>
          <p:cNvSpPr/>
          <p:nvPr/>
        </p:nvSpPr>
        <p:spPr>
          <a:xfrm rot="16200000">
            <a:off x="2989440" y="522000"/>
            <a:ext cx="1942920" cy="13683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4" name="Picture 8" descr="http://creativity.mypartnershop.ru/image/1015236628.jpg"/>
          <p:cNvPicPr/>
          <p:nvPr/>
        </p:nvPicPr>
        <p:blipFill>
          <a:blip r:embed="rId1"/>
          <a:stretch/>
        </p:blipFill>
        <p:spPr>
          <a:xfrm>
            <a:off x="395280" y="260280"/>
            <a:ext cx="2521080" cy="3279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345" name="Прямоугольник 1"/>
          <p:cNvSpPr/>
          <p:nvPr/>
        </p:nvSpPr>
        <p:spPr>
          <a:xfrm>
            <a:off x="3319560" y="3068640"/>
            <a:ext cx="4680000" cy="64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УЕМЫЕ РЕЗУЛЬТА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Прямоугольник 9"/>
          <p:cNvSpPr/>
          <p:nvPr/>
        </p:nvSpPr>
        <p:spPr>
          <a:xfrm>
            <a:off x="222120" y="4275000"/>
            <a:ext cx="3097440" cy="64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ПРЕДМЕТ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Прямоугольник 11"/>
          <p:cNvSpPr/>
          <p:nvPr/>
        </p:nvSpPr>
        <p:spPr>
          <a:xfrm>
            <a:off x="5872320" y="4275000"/>
            <a:ext cx="2947680" cy="64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Прямоугольник 12"/>
          <p:cNvSpPr/>
          <p:nvPr/>
        </p:nvSpPr>
        <p:spPr>
          <a:xfrm>
            <a:off x="3419640" y="4275000"/>
            <a:ext cx="2304720" cy="64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Стрелка вниз 2"/>
          <p:cNvSpPr/>
          <p:nvPr/>
        </p:nvSpPr>
        <p:spPr>
          <a:xfrm>
            <a:off x="4176720" y="3855960"/>
            <a:ext cx="576360" cy="279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Стрелка вниз 13"/>
          <p:cNvSpPr/>
          <p:nvPr/>
        </p:nvSpPr>
        <p:spPr>
          <a:xfrm>
            <a:off x="6948360" y="3868560"/>
            <a:ext cx="576360" cy="279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Стрелка вниз 14"/>
          <p:cNvSpPr/>
          <p:nvPr/>
        </p:nvSpPr>
        <p:spPr>
          <a:xfrm>
            <a:off x="1665360" y="3855960"/>
            <a:ext cx="576360" cy="279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Стрелка вниз 15"/>
          <p:cNvSpPr/>
          <p:nvPr/>
        </p:nvSpPr>
        <p:spPr>
          <a:xfrm>
            <a:off x="1378080" y="5013360"/>
            <a:ext cx="576000" cy="279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Прямоугольник 16"/>
          <p:cNvSpPr/>
          <p:nvPr/>
        </p:nvSpPr>
        <p:spPr>
          <a:xfrm>
            <a:off x="179280" y="5445000"/>
            <a:ext cx="3097440" cy="648000"/>
          </a:xfrm>
          <a:prstGeom prst="rect">
            <a:avLst/>
          </a:prstGeom>
          <a:solidFill>
            <a:srgbClr val="92d050"/>
          </a:soli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ТИВНЫЕ УУ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Стрелка вниз 17"/>
          <p:cNvSpPr/>
          <p:nvPr/>
        </p:nvSpPr>
        <p:spPr>
          <a:xfrm rot="16200000">
            <a:off x="3271320" y="5342760"/>
            <a:ext cx="576000" cy="279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Прямоугольник 18"/>
          <p:cNvSpPr/>
          <p:nvPr/>
        </p:nvSpPr>
        <p:spPr>
          <a:xfrm>
            <a:off x="3780000" y="5194440"/>
            <a:ext cx="2304720" cy="466560"/>
          </a:xfrm>
          <a:prstGeom prst="rect">
            <a:avLst/>
          </a:prstGeom>
          <a:solidFill>
            <a:srgbClr val="00b050"/>
          </a:soli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Прямоугольник 19"/>
          <p:cNvSpPr/>
          <p:nvPr/>
        </p:nvSpPr>
        <p:spPr>
          <a:xfrm>
            <a:off x="3789360" y="5888160"/>
            <a:ext cx="2305080" cy="466560"/>
          </a:xfrm>
          <a:prstGeom prst="rect">
            <a:avLst/>
          </a:prstGeom>
          <a:solidFill>
            <a:srgbClr val="00b050"/>
          </a:soli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Стрелка вниз 20"/>
          <p:cNvSpPr/>
          <p:nvPr/>
        </p:nvSpPr>
        <p:spPr>
          <a:xfrm rot="16200000">
            <a:off x="3270960" y="5980320"/>
            <a:ext cx="576360" cy="279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Схема 2" descr=""/>
          <p:cNvPicPr/>
          <p:nvPr/>
        </p:nvPicPr>
        <p:blipFill>
          <a:blip r:embed="rId1"/>
          <a:stretch/>
        </p:blipFill>
        <p:spPr>
          <a:xfrm>
            <a:off x="317520" y="1962000"/>
            <a:ext cx="8655120" cy="4633920"/>
          </a:xfrm>
          <a:prstGeom prst="rect">
            <a:avLst/>
          </a:prstGeom>
          <a:ln w="0">
            <a:noFill/>
          </a:ln>
        </p:spPr>
      </p:pic>
      <p:sp>
        <p:nvSpPr>
          <p:cNvPr id="359" name="Прямоугольник с двумя вырезанными противолежащими углами 1"/>
          <p:cNvSpPr/>
          <p:nvPr/>
        </p:nvSpPr>
        <p:spPr>
          <a:xfrm>
            <a:off x="900000" y="444600"/>
            <a:ext cx="7417080" cy="1184040"/>
          </a:xfrm>
          <a:prstGeom prst="pie">
            <a:avLst/>
          </a:prstGeom>
          <a:solidFill>
            <a:srgbClr val="ffffff"/>
          </a:solidFill>
          <a:ln w="15840">
            <a:solidFill>
              <a:srgbClr val="1c82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ОСНОВАНИЯ НОВОЙ СИСТЕМЫ ОЦЕНИ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Схема 3" descr=""/>
          <p:cNvPicPr/>
          <p:nvPr/>
        </p:nvPicPr>
        <p:blipFill>
          <a:blip r:embed="rId1"/>
          <a:stretch/>
        </p:blipFill>
        <p:spPr>
          <a:xfrm>
            <a:off x="262080" y="1944720"/>
            <a:ext cx="8705880" cy="466884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с одним скругленным углом 4"/>
          <p:cNvSpPr/>
          <p:nvPr/>
        </p:nvSpPr>
        <p:spPr>
          <a:xfrm>
            <a:off x="971640" y="476280"/>
            <a:ext cx="7345440" cy="1008000"/>
          </a:xfrm>
          <a:prstGeom prst="pie">
            <a:avLst/>
          </a:prstGeom>
          <a:solidFill>
            <a:srgbClr val="ffffff"/>
          </a:solidFill>
          <a:ln w="15840">
            <a:solidFill>
              <a:srgbClr val="1c82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КОНТРОЛЬНО-ОЦЕНОЧНАЯ ДЕЯТЕ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Прямоугольник с одним скругленным углом 4"/>
          <p:cNvSpPr/>
          <p:nvPr/>
        </p:nvSpPr>
        <p:spPr>
          <a:xfrm>
            <a:off x="971640" y="476280"/>
            <a:ext cx="7345440" cy="1008000"/>
          </a:xfrm>
          <a:prstGeom prst="pie">
            <a:avLst/>
          </a:prstGeom>
          <a:solidFill>
            <a:srgbClr val="ffffff"/>
          </a:solidFill>
          <a:ln w="15840">
            <a:solidFill>
              <a:srgbClr val="1c82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КОНТРОЛЬНО-ОЦЕНОЧНАЯ ДЕЯТЕ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Прямоугольник с двумя скругленными противолежащими углами 2"/>
          <p:cNvSpPr/>
          <p:nvPr/>
        </p:nvSpPr>
        <p:spPr>
          <a:xfrm>
            <a:off x="290520" y="2133720"/>
            <a:ext cx="3817800" cy="3959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трольно-оценочная деятельность учител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зуется как общая, проявляющаяся в качестве обязательного элемента деятельности по управлению образовательным процессом, и как специфическая, где контроль и оценка есть цель, содержание и результат деятельно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.Л. Синебрюхова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Прямоугольник с двумя скругленными противолежащими углами 5"/>
          <p:cNvSpPr/>
          <p:nvPr/>
        </p:nvSpPr>
        <p:spPr>
          <a:xfrm>
            <a:off x="4643280" y="2781360"/>
            <a:ext cx="4176720" cy="381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трольно-оценочная деятельность учител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ит в умении делегировать контрольно-оценочную функцию ученику, т.е. способствует формированию контрольно-оценочной самостоятельности младших школьников, создавать психологическую комфортность каждому ребенку в процессе контроля и оцени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Схема 2" descr=""/>
          <p:cNvPicPr/>
          <p:nvPr/>
        </p:nvPicPr>
        <p:blipFill>
          <a:blip r:embed="rId1"/>
          <a:stretch/>
        </p:blipFill>
        <p:spPr>
          <a:xfrm>
            <a:off x="274680" y="1627200"/>
            <a:ext cx="8929800" cy="4956120"/>
          </a:xfrm>
          <a:prstGeom prst="rect">
            <a:avLst/>
          </a:prstGeom>
          <a:ln w="0">
            <a:noFill/>
          </a:ln>
        </p:spPr>
      </p:pic>
      <p:sp>
        <p:nvSpPr>
          <p:cNvPr id="366" name="Прямоугольник с двумя вырезанными противолежащими углами 3"/>
          <p:cNvSpPr/>
          <p:nvPr/>
        </p:nvSpPr>
        <p:spPr>
          <a:xfrm>
            <a:off x="1447920" y="404640"/>
            <a:ext cx="7416720" cy="1087560"/>
          </a:xfrm>
          <a:prstGeom prst="pie">
            <a:avLst/>
          </a:prstGeom>
          <a:solidFill>
            <a:srgbClr val="ffffff"/>
          </a:solidFill>
          <a:ln w="15840">
            <a:solidFill>
              <a:srgbClr val="1c82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выполнения контрольно-оценочной деятельности у младших школьников формируютс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М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Picture 5" descr="https://img1.liveinternet.ru/images/attach/c/10/127/534/127534717_5177462_0_ab45a_5e50eef4_XL.png"/>
          <p:cNvPicPr/>
          <p:nvPr/>
        </p:nvPicPr>
        <p:blipFill>
          <a:blip r:embed="rId2"/>
          <a:stretch/>
        </p:blipFill>
        <p:spPr>
          <a:xfrm>
            <a:off x="179280" y="765000"/>
            <a:ext cx="2052720" cy="24796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https://img1.liveinternet.ru/images/attach/c/10/127/534/127534717_5177462_0_ab45a_5e50eef4_XL.png"/>
          <p:cNvPicPr/>
          <p:nvPr/>
        </p:nvPicPr>
        <p:blipFill>
          <a:blip r:embed="rId3"/>
          <a:stretch/>
        </p:blipFill>
        <p:spPr>
          <a:xfrm>
            <a:off x="6443640" y="3860640"/>
            <a:ext cx="2052720" cy="2481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Схема 2" descr=""/>
          <p:cNvPicPr/>
          <p:nvPr/>
        </p:nvPicPr>
        <p:blipFill>
          <a:blip r:embed="rId1"/>
          <a:stretch/>
        </p:blipFill>
        <p:spPr>
          <a:xfrm>
            <a:off x="249120" y="1974960"/>
            <a:ext cx="8791560" cy="467028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с двумя вырезанными противолежащими углами 1"/>
          <p:cNvSpPr/>
          <p:nvPr/>
        </p:nvSpPr>
        <p:spPr>
          <a:xfrm>
            <a:off x="900000" y="444600"/>
            <a:ext cx="7417080" cy="1184040"/>
          </a:xfrm>
          <a:prstGeom prst="pie">
            <a:avLst/>
          </a:prstGeom>
          <a:solidFill>
            <a:srgbClr val="ffffff"/>
          </a:solidFill>
          <a:ln w="15840">
            <a:solidFill>
              <a:srgbClr val="1c82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РУДН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ТРОЛЬНО-ОЦЕНОЧНОЙ ДЕЯ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http://s-p-profi.ru/_nw/1/240756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21300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оугольник с одним скругленным углом 5"/>
          <p:cNvSpPr/>
          <p:nvPr/>
        </p:nvSpPr>
        <p:spPr>
          <a:xfrm>
            <a:off x="108000" y="765000"/>
            <a:ext cx="2843280" cy="756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 знания, умения и навы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Прямоугольник с одним скругленным углом 7"/>
          <p:cNvSpPr/>
          <p:nvPr/>
        </p:nvSpPr>
        <p:spPr>
          <a:xfrm>
            <a:off x="6659640" y="426960"/>
            <a:ext cx="2340000" cy="1430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учебн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я, развитие самостоятельности учебных действ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Стрелка вправо 6"/>
          <p:cNvSpPr/>
          <p:nvPr/>
        </p:nvSpPr>
        <p:spPr>
          <a:xfrm>
            <a:off x="5435640" y="819000"/>
            <a:ext cx="1081080" cy="70200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00206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Стрелка вниз 8"/>
          <p:cNvSpPr/>
          <p:nvPr/>
        </p:nvSpPr>
        <p:spPr>
          <a:xfrm>
            <a:off x="4140360" y="3357720"/>
            <a:ext cx="1079280" cy="93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Прямоугольник с одним скругленным углом 10"/>
          <p:cNvSpPr/>
          <p:nvPr/>
        </p:nvSpPr>
        <p:spPr>
          <a:xfrm>
            <a:off x="1187280" y="4508640"/>
            <a:ext cx="7201080" cy="2016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5484d1"/>
              </a:gs>
            </a:gsLst>
            <a:lin ang="5400000"/>
          </a:gradFill>
          <a:ln w="9360">
            <a:solidFill>
              <a:srgbClr val="4584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кой системе обучения 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оритетной становится самооценка как результат оценочной деятельности учен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анный подход к оцениванию позволяет устранить негативные моменты в обучении, способствует индивидуализации учебного процесса, повышению учебной мотивации, сохранению и укреплению здоровь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Схема 2" descr=""/>
          <p:cNvPicPr/>
          <p:nvPr/>
        </p:nvPicPr>
        <p:blipFill>
          <a:blip r:embed="rId1"/>
          <a:stretch/>
        </p:blipFill>
        <p:spPr>
          <a:xfrm>
            <a:off x="212760" y="1816200"/>
            <a:ext cx="8791560" cy="4773600"/>
          </a:xfrm>
          <a:prstGeom prst="rect">
            <a:avLst/>
          </a:prstGeom>
          <a:ln w="0">
            <a:noFill/>
          </a:ln>
        </p:spPr>
      </p:pic>
      <p:sp>
        <p:nvSpPr>
          <p:cNvPr id="378" name="Прямоугольник с двумя вырезанными противолежащими углами 1"/>
          <p:cNvSpPr/>
          <p:nvPr/>
        </p:nvSpPr>
        <p:spPr>
          <a:xfrm>
            <a:off x="900000" y="444600"/>
            <a:ext cx="7417080" cy="968400"/>
          </a:xfrm>
          <a:prstGeom prst="pie">
            <a:avLst/>
          </a:prstGeom>
          <a:solidFill>
            <a:srgbClr val="ffffff"/>
          </a:solidFill>
          <a:ln w="15840">
            <a:solidFill>
              <a:srgbClr val="1c82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НЦИП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ЗОТМЕТОЧНОГО ОЦЕНИ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8T09:01:28Z</dcterms:created>
  <dc:creator>User</dc:creator>
  <dc:description/>
  <dc:language>en-US</dc:language>
  <cp:lastModifiedBy>User</cp:lastModifiedBy>
  <dcterms:modified xsi:type="dcterms:W3CDTF">2018-08-15T08:21:16Z</dcterms:modified>
  <cp:revision>28</cp:revision>
  <dc:subject/>
  <dc:title>Презентация PowerPoint</dc:title>
</cp:coreProperties>
</file>