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CEC-E157-4A69-80BA-87C9A27A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172-DABB-46C9-95DA-8D1282CF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BD67-476A-4362-AEE7-474AD26C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5D75-016A-4CA8-B0C4-7469ADED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BCE0-DF05-40FE-B8AB-5CE65BCC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E89B-58F5-43C6-A3BC-2F296A2F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8DC7-4B0D-4310-A200-A463B587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D297-32C3-4C1E-A0F6-7ACFA8E4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D254-1E61-4AB0-9014-30FD7473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ABCD-3579-4F44-A85E-272E156B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88A3-8AE7-48D9-9E21-47B7BF37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A949-39FE-416C-BC52-D626A57D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DCC6-A33A-4355-A8FB-92533654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3A03-0F4C-4CF2-BF47-142159CE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9AA4-0D3D-4C95-952E-811EA2C1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744D-4330-4E89-BF61-FF33716E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B8DA-59A4-4513-961B-51D56CA6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E4CCE-5E46-4D09-BD3A-E1852CF1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4EC76-DFE6-4DAA-80BE-FC1BB4E6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00432-A4E6-4A9E-839D-BC08D87E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A5E32-3EAE-44C0-8579-7BF83300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22807-F752-4909-BE94-F46C3BBC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ED8-A045-460A-9A6C-5FF29651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39AEC-6D33-4F8C-8CC3-E5D0532C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1C783-D5E3-4127-85F1-D530B05C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F89CA-529B-4F3F-9D0F-18F6BC02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1DD23-F1B6-4514-8A1E-B8C76F13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E723A-66BD-4B2C-B80F-12948C1B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932AE-1D9A-4D30-A04F-4FF99F55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58B03-5F3E-4EA3-8CB3-722147B4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50EA7-8C9B-4C6C-9A77-8B973635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FDB22-87EB-44AC-A18B-3BA4031A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94AD8-EF85-44BB-BD1B-3CD2AC70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8C93-48F2-4EA3-89C7-28513717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C8BF5-9DF3-4D96-88CA-FC7A3150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BAA0D-58BC-4388-8AAC-3696209B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DB9A3-BF04-41C0-925A-C9E4A3AD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566B7-EA0C-485A-AC9E-F5D9AA48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2E237-5AC9-4253-87E9-7D8F4822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9CD29-E584-482C-94CE-78FD6F15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DFD26-0AFA-4717-9CCF-4A50ECD1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C04CD-7CF2-4956-B089-753EF629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7EE17-C364-4FCE-BB29-D2B14FA9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00DBD-AB52-42F8-A9B0-892E0798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B78A-08BA-4B4E-974F-4364D025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A7B6E-8B84-4AF1-A20D-A44037DD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3210C-2A35-4D80-8399-BE764B57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258AC-96F1-4883-8D3C-1CBF890E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A9009-49CA-4EF2-9D5F-04D7263E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B26B4-BEAA-4AF0-8A8D-6B26402D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10DDA-BF9E-4B2F-9E14-CEABDCBC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F532C-59B2-4393-AB45-10858809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73CF2-C0B2-401A-B7D1-32AA892B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C4A6F-4DC6-4757-9AD2-B9C99E50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15AFF-C776-42EC-9FD4-5FA47C80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05D-AA7B-4C5C-8267-04CB48EC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60CDF-E8F9-4568-9A29-FAF9E6CD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69182-F815-4A46-8AE2-11866E9A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720A8-B7B5-4367-9A26-A9C715E2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57396-8E04-40F5-A213-4DBCE5C2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84FA2-89AD-4C8B-B4C7-AD8695EE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25AFF-9138-4B5B-AAF7-5A11644C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F5835-5429-4C41-B64B-54265342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5429F-4B97-41F7-9485-14167D51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12649-0177-41C7-9846-D227F63A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076F8-C51D-4156-9173-86179AA4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29C4-B5D9-4C3F-A1E9-07D97317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3497F-3E95-4597-9914-ABF824A8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70168-25DA-44E9-BD5B-F1DAE4A8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D4F67-3744-45A8-B997-C7E27218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E8425-9693-4DFE-8A7A-D9DC87B1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B7B4A-D3C7-404A-AE75-AAB70619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9F096-1B9D-417E-B24C-309CC573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AF8C6-72FB-4A1B-9F55-5940975F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0CE77-814F-4BDB-BBD0-657EBDF8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C5C51-EE63-4C76-8839-D150D3C3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A8678-7688-43F9-AFC5-60C76ACE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D14-5A3B-4B05-9263-41DCABDD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88003-FC86-4090-B277-108B49BC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B2534-5AE4-4BBC-9A3D-9EA1E643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361AE-0925-4541-8F51-90472E01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9D203-EFD2-411F-99AC-F29A0D9D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E05B8-C1AA-4F2F-8F97-28A78D3A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7BBF-A4D4-478F-A6C4-DA6412DA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D69A-D8C2-40DF-92F6-5FFB70D0222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66A8-59EB-49DE-9C3A-16E3B28B83A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44A8-137B-47E8-9B16-FD2DCC90349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106B-2B7F-49F6-9260-205DACACA58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46A4-CB01-4A28-A6B9-C3AC83BA213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8C8E-499D-43D2-B455-C49AA0329B0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0F0C-97B8-4016-B8DF-83FB0FE97AD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9" descr="http://uchni.com.ua/pars_docs/refs/50/49686/49686_html_m6e5b33ba.jpg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36" name="Прямоугольник 3"/>
          <p:cNvGrpSpPr/>
          <p:nvPr/>
        </p:nvGrpSpPr>
        <p:grpSpPr>
          <a:xfrm>
            <a:off x="1170000" y="817560"/>
            <a:ext cx="5578560" cy="3157560"/>
            <a:chOff x="1170000" y="817560"/>
            <a:chExt cx="5578560" cy="3157560"/>
          </a:xfrm>
        </p:grpSpPr>
        <p:pic>
          <p:nvPicPr>
            <p:cNvPr id="337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170000" y="817560"/>
              <a:ext cx="5578560" cy="31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1187280" y="836640"/>
              <a:ext cx="5545440" cy="22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ОРГАНИЗАЦИЯ КОНТРОЛЬНО-ОЦЕНОЧНОЙ ДЕЯТЕЛЬНОСТИ – ОДНА ИЗ ГЛАВНЫХ СОСТАВЛЯЮЩИХ СОВРЕМЕННОГО УРОК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Прямоугольник 7"/>
          <p:cNvGrpSpPr/>
          <p:nvPr/>
        </p:nvGrpSpPr>
        <p:grpSpPr>
          <a:xfrm>
            <a:off x="2103480" y="3627360"/>
            <a:ext cx="3925800" cy="1548000"/>
            <a:chOff x="2103480" y="3627360"/>
            <a:chExt cx="3925800" cy="1548000"/>
          </a:xfrm>
        </p:grpSpPr>
        <p:pic>
          <p:nvPicPr>
            <p:cNvPr id="340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103480" y="3627360"/>
              <a:ext cx="392580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2124000" y="3645000"/>
              <a:ext cx="38880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52e65"/>
                  </a:solidFill>
                  <a:latin typeface="Times New Roman"/>
                  <a:ea typeface="Times New Roman"/>
                </a:rPr>
                <a:t>Подготовила: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52e65"/>
                  </a:solidFill>
                  <a:latin typeface="Times New Roman"/>
                  <a:ea typeface="Times New Roman"/>
                </a:rPr>
                <a:t>Гайдарова А.Р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с двумя вырезанными противолежащими углами 3"/>
          <p:cNvSpPr/>
          <p:nvPr/>
        </p:nvSpPr>
        <p:spPr>
          <a:xfrm>
            <a:off x="1952640" y="692280"/>
            <a:ext cx="5389560" cy="79200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Picture 2" descr="https://cdn.fishki.net/upload/post/201503/28/1481572/cvenannt.jpg"/>
          <p:cNvPicPr/>
          <p:nvPr/>
        </p:nvPicPr>
        <p:blipFill>
          <a:blip r:embed="rId1"/>
          <a:stretch/>
        </p:blipFill>
        <p:spPr>
          <a:xfrm>
            <a:off x="168120" y="2060640"/>
            <a:ext cx="3570480" cy="330192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1"/>
          <p:cNvSpPr/>
          <p:nvPr/>
        </p:nvSpPr>
        <p:spPr>
          <a:xfrm>
            <a:off x="3348000" y="1700280"/>
            <a:ext cx="545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арова Л.В. Виды затруднений учителя в организации контрольно-оценочной деятельности при реализации ФГОС // Вестник научных конференций. – 2016. – № 9-2 (13). – С.22-2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ебрюхова В.Л. Дидактические затруднения в контрольно-оценочной деятельности учителя при реализации федерального государственного стандарта начального общего образования // Концепт. – 2013. – № 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государственный образовательный стандарт начального общего образования. – М.: Просвещение,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укерман Г.А., Шияновская С.И., Табачникова Н.Л., Суховерша Л.А., Романеева, М.П., Миндарова В.А. Оценка без отметки. – Рига, 1999. – 121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https://www.pptgrounds.com/wp-content/uploads/2012/09/Elegant-Abstract-Blue-Backgrounds-PPT-1024x768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3" name="Прямоугольник 1" descr=""/>
          <p:cNvPicPr/>
          <p:nvPr/>
        </p:nvPicPr>
        <p:blipFill>
          <a:blip r:embed="rId2"/>
          <a:stretch/>
        </p:blipFill>
        <p:spPr>
          <a:xfrm>
            <a:off x="-189000" y="1616040"/>
            <a:ext cx="9577440" cy="1565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7"/>
          <p:cNvSpPr/>
          <p:nvPr/>
        </p:nvSpPr>
        <p:spPr>
          <a:xfrm>
            <a:off x="4788000" y="306360"/>
            <a:ext cx="386064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 на достижение планируемых результа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Стрелка вниз 8"/>
          <p:cNvSpPr/>
          <p:nvPr/>
        </p:nvSpPr>
        <p:spPr>
          <a:xfrm rot="16200000">
            <a:off x="2989440" y="522000"/>
            <a:ext cx="1942920" cy="1368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Picture 8" descr="http://creativity.mypartnershop.ru/image/1015236628.jpg"/>
          <p:cNvPicPr/>
          <p:nvPr/>
        </p:nvPicPr>
        <p:blipFill>
          <a:blip r:embed="rId1"/>
          <a:stretch/>
        </p:blipFill>
        <p:spPr>
          <a:xfrm>
            <a:off x="395280" y="260280"/>
            <a:ext cx="2521080" cy="3279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45" name="Прямоугольник 1"/>
          <p:cNvSpPr/>
          <p:nvPr/>
        </p:nvSpPr>
        <p:spPr>
          <a:xfrm>
            <a:off x="3319560" y="3068640"/>
            <a:ext cx="468000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Е РЕЗУЛЬТА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Прямоугольник 9"/>
          <p:cNvSpPr/>
          <p:nvPr/>
        </p:nvSpPr>
        <p:spPr>
          <a:xfrm>
            <a:off x="222120" y="4275000"/>
            <a:ext cx="3097440" cy="6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Прямоугольник 11"/>
          <p:cNvSpPr/>
          <p:nvPr/>
        </p:nvSpPr>
        <p:spPr>
          <a:xfrm>
            <a:off x="5872320" y="4275000"/>
            <a:ext cx="2947680" cy="6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оугольник 12"/>
          <p:cNvSpPr/>
          <p:nvPr/>
        </p:nvSpPr>
        <p:spPr>
          <a:xfrm>
            <a:off x="3419640" y="4275000"/>
            <a:ext cx="2304720" cy="6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Стрелка вниз 2"/>
          <p:cNvSpPr/>
          <p:nvPr/>
        </p:nvSpPr>
        <p:spPr>
          <a:xfrm>
            <a:off x="4176720" y="3855960"/>
            <a:ext cx="57636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Стрелка вниз 13"/>
          <p:cNvSpPr/>
          <p:nvPr/>
        </p:nvSpPr>
        <p:spPr>
          <a:xfrm>
            <a:off x="6948360" y="3868560"/>
            <a:ext cx="576360" cy="279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Стрелка вниз 14"/>
          <p:cNvSpPr/>
          <p:nvPr/>
        </p:nvSpPr>
        <p:spPr>
          <a:xfrm>
            <a:off x="1665360" y="3855960"/>
            <a:ext cx="57636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Стрелка вниз 15"/>
          <p:cNvSpPr/>
          <p:nvPr/>
        </p:nvSpPr>
        <p:spPr>
          <a:xfrm>
            <a:off x="1378080" y="5013360"/>
            <a:ext cx="57600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оугольник 16"/>
          <p:cNvSpPr/>
          <p:nvPr/>
        </p:nvSpPr>
        <p:spPr>
          <a:xfrm>
            <a:off x="179280" y="5445000"/>
            <a:ext cx="3097440" cy="648000"/>
          </a:xfrm>
          <a:prstGeom prst="rect">
            <a:avLst/>
          </a:prstGeom>
          <a:solidFill>
            <a:srgbClr val="92d050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ИВНЫЕ УУ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Стрелка вниз 17"/>
          <p:cNvSpPr/>
          <p:nvPr/>
        </p:nvSpPr>
        <p:spPr>
          <a:xfrm rot="16200000">
            <a:off x="3271320" y="5342760"/>
            <a:ext cx="57600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Прямоугольник 18"/>
          <p:cNvSpPr/>
          <p:nvPr/>
        </p:nvSpPr>
        <p:spPr>
          <a:xfrm>
            <a:off x="3780000" y="5194440"/>
            <a:ext cx="2304720" cy="466560"/>
          </a:xfrm>
          <a:prstGeom prst="rect">
            <a:avLst/>
          </a:prstGeom>
          <a:solidFill>
            <a:srgbClr val="00b050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оугольник 19"/>
          <p:cNvSpPr/>
          <p:nvPr/>
        </p:nvSpPr>
        <p:spPr>
          <a:xfrm>
            <a:off x="3789360" y="5888160"/>
            <a:ext cx="2305080" cy="466560"/>
          </a:xfrm>
          <a:prstGeom prst="rect">
            <a:avLst/>
          </a:prstGeom>
          <a:solidFill>
            <a:srgbClr val="00b050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Стрелка вниз 20"/>
          <p:cNvSpPr/>
          <p:nvPr/>
        </p:nvSpPr>
        <p:spPr>
          <a:xfrm rot="16200000">
            <a:off x="3270960" y="5980320"/>
            <a:ext cx="576360" cy="27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Схема 2" descr=""/>
          <p:cNvPicPr/>
          <p:nvPr/>
        </p:nvPicPr>
        <p:blipFill>
          <a:blip r:embed="rId1"/>
          <a:stretch/>
        </p:blipFill>
        <p:spPr>
          <a:xfrm>
            <a:off x="317520" y="1962000"/>
            <a:ext cx="8655120" cy="463392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с двумя вырезанными противолежащими углами 1"/>
          <p:cNvSpPr/>
          <p:nvPr/>
        </p:nvSpPr>
        <p:spPr>
          <a:xfrm>
            <a:off x="900000" y="444600"/>
            <a:ext cx="7417080" cy="118404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ОСНОВАНИЯ НОВОЙ СИСТЕМЫ ОЦЕНИ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Схема 3" descr=""/>
          <p:cNvPicPr/>
          <p:nvPr/>
        </p:nvPicPr>
        <p:blipFill>
          <a:blip r:embed="rId1"/>
          <a:stretch/>
        </p:blipFill>
        <p:spPr>
          <a:xfrm>
            <a:off x="262080" y="1944720"/>
            <a:ext cx="8705880" cy="466884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с одним скругленным углом 4"/>
          <p:cNvSpPr/>
          <p:nvPr/>
        </p:nvSpPr>
        <p:spPr>
          <a:xfrm>
            <a:off x="971640" y="476280"/>
            <a:ext cx="7345440" cy="100800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КОНТРОЛЬНО-ОЦЕНОЧ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Прямоугольник с одним скругленным углом 4"/>
          <p:cNvSpPr/>
          <p:nvPr/>
        </p:nvSpPr>
        <p:spPr>
          <a:xfrm>
            <a:off x="971640" y="476280"/>
            <a:ext cx="7345440" cy="100800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КОНТРОЛЬНО-ОЦЕНОЧ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Прямоугольник с двумя скругленными противолежащими углами 2"/>
          <p:cNvSpPr/>
          <p:nvPr/>
        </p:nvSpPr>
        <p:spPr>
          <a:xfrm>
            <a:off x="290520" y="2133720"/>
            <a:ext cx="3817800" cy="3959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трольно-оценочная деятельность учител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ется как общая, проявляющаяся в качестве обязательного элемента деятельности по управлению образовательным процессом, и как специфическая, где контроль и оценка есть цель, содержание и результат деятель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.Л. Синебрюхова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Прямоугольник с двумя скругленными противолежащими углами 5"/>
          <p:cNvSpPr/>
          <p:nvPr/>
        </p:nvSpPr>
        <p:spPr>
          <a:xfrm>
            <a:off x="4643280" y="2781360"/>
            <a:ext cx="4176720" cy="381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трольно-оценочная деятельность учител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в умении делегировать контрольно-оценочную функцию ученику, т.е. способствует формированию контрольно-оценочной самостоятельности младших школьников, создавать психологическую комфортность каждому ребенку в процессе контроля и оцени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Схема 2" descr=""/>
          <p:cNvPicPr/>
          <p:nvPr/>
        </p:nvPicPr>
        <p:blipFill>
          <a:blip r:embed="rId1"/>
          <a:stretch/>
        </p:blipFill>
        <p:spPr>
          <a:xfrm>
            <a:off x="274680" y="1627200"/>
            <a:ext cx="8929800" cy="495612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с двумя вырезанными противолежащими углами 3"/>
          <p:cNvSpPr/>
          <p:nvPr/>
        </p:nvSpPr>
        <p:spPr>
          <a:xfrm>
            <a:off x="1447920" y="404640"/>
            <a:ext cx="7416720" cy="108756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выполнения контрольно-оценочной деятельности у младших школьников формирую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М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5" descr="https://img1.liveinternet.ru/images/attach/c/10/127/534/127534717_5177462_0_ab45a_5e50eef4_XL.png"/>
          <p:cNvPicPr/>
          <p:nvPr/>
        </p:nvPicPr>
        <p:blipFill>
          <a:blip r:embed="rId2"/>
          <a:stretch/>
        </p:blipFill>
        <p:spPr>
          <a:xfrm>
            <a:off x="179280" y="765000"/>
            <a:ext cx="2052720" cy="24796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https://img1.liveinternet.ru/images/attach/c/10/127/534/127534717_5177462_0_ab45a_5e50eef4_XL.png"/>
          <p:cNvPicPr/>
          <p:nvPr/>
        </p:nvPicPr>
        <p:blipFill>
          <a:blip r:embed="rId3"/>
          <a:stretch/>
        </p:blipFill>
        <p:spPr>
          <a:xfrm>
            <a:off x="6443640" y="3860640"/>
            <a:ext cx="2052720" cy="2481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Схема 2" descr=""/>
          <p:cNvPicPr/>
          <p:nvPr/>
        </p:nvPicPr>
        <p:blipFill>
          <a:blip r:embed="rId1"/>
          <a:stretch/>
        </p:blipFill>
        <p:spPr>
          <a:xfrm>
            <a:off x="249120" y="1974960"/>
            <a:ext cx="8791560" cy="467028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с двумя вырезанными противолежащими углами 1"/>
          <p:cNvSpPr/>
          <p:nvPr/>
        </p:nvSpPr>
        <p:spPr>
          <a:xfrm>
            <a:off x="900000" y="444600"/>
            <a:ext cx="7417080" cy="118404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ТРОЛЬНО-ОЦЕНОЧ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http://s-p-profi.ru/_nw/1/240756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21300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с одним скругленным углом 5"/>
          <p:cNvSpPr/>
          <p:nvPr/>
        </p:nvSpPr>
        <p:spPr>
          <a:xfrm>
            <a:off x="108000" y="765000"/>
            <a:ext cx="2843280" cy="756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знания, умения и навы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Прямоугольник с одним скругленным углом 7"/>
          <p:cNvSpPr/>
          <p:nvPr/>
        </p:nvSpPr>
        <p:spPr>
          <a:xfrm>
            <a:off x="6659640" y="426960"/>
            <a:ext cx="2340000" cy="1430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учеб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я, развитие самостоятельности учебных дейст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Стрелка вправо 6"/>
          <p:cNvSpPr/>
          <p:nvPr/>
        </p:nvSpPr>
        <p:spPr>
          <a:xfrm>
            <a:off x="5435640" y="819000"/>
            <a:ext cx="1081080" cy="70200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002060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Стрелка вниз 8"/>
          <p:cNvSpPr/>
          <p:nvPr/>
        </p:nvSpPr>
        <p:spPr>
          <a:xfrm>
            <a:off x="4140360" y="3357720"/>
            <a:ext cx="1079280" cy="93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Прямоугольник с одним скругленным углом 10"/>
          <p:cNvSpPr/>
          <p:nvPr/>
        </p:nvSpPr>
        <p:spPr>
          <a:xfrm>
            <a:off x="1187280" y="4508640"/>
            <a:ext cx="7201080" cy="2016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5484d1"/>
              </a:gs>
            </a:gsLst>
            <a:lin ang="5400000"/>
          </a:gradFill>
          <a:ln w="936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кой системе обучения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оритетной становится самооценка как результат оценочной деятельности уче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анный подход к оцениванию позволяет устранить негативные моменты в обучении, способствует индивидуализации учебного процесса, повышению учебной мотивации, сохранению и укреплению здоровь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Схема 2" descr=""/>
          <p:cNvPicPr/>
          <p:nvPr/>
        </p:nvPicPr>
        <p:blipFill>
          <a:blip r:embed="rId1"/>
          <a:stretch/>
        </p:blipFill>
        <p:spPr>
          <a:xfrm>
            <a:off x="212760" y="1816200"/>
            <a:ext cx="8791560" cy="477360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с двумя вырезанными противолежащими углами 1"/>
          <p:cNvSpPr/>
          <p:nvPr/>
        </p:nvSpPr>
        <p:spPr>
          <a:xfrm>
            <a:off x="900000" y="444600"/>
            <a:ext cx="7417080" cy="968400"/>
          </a:xfrm>
          <a:prstGeom prst="pie">
            <a:avLst/>
          </a:prstGeom>
          <a:solidFill>
            <a:srgbClr val="ffffff"/>
          </a:solidFill>
          <a:ln w="15840">
            <a:solidFill>
              <a:srgbClr val="1c82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ОТМЕТОЧНОГО ОЦЕН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09:01:28Z</dcterms:created>
  <dc:creator>User</dc:creator>
  <dc:description/>
  <dc:language>en-US</dc:language>
  <cp:lastModifiedBy>User</cp:lastModifiedBy>
  <dcterms:modified xsi:type="dcterms:W3CDTF">2018-08-15T08:21:16Z</dcterms:modified>
  <cp:revision>28</cp:revision>
  <dc:subject/>
  <dc:title>Презентация PowerPoint</dc:title>
</cp:coreProperties>
</file>