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A3D1-87FD-459B-B7DC-1B68A06FB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EEF2-66A1-4A7D-873F-623B1775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130B-2290-4914-8204-C1F8341DB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A598-A420-4673-98AA-1A34A0548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A1DB-9016-4424-B5AE-AB383D8E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8BB2-A591-4507-99CE-BFA015EC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068F-B068-4629-AF01-CF68FF94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B628-936B-404B-B1A8-F00E077F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7DA6-0118-46FF-B6DF-638D4291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BD87-AA9F-408F-9D8A-441269C2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FE07-928A-46B5-A340-976DD93E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26A8-1CA3-4DEC-88E9-71D5CB81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FAEB-283C-42D1-8B95-0D1ED087827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2EA8-849A-4F45-B458-D493BE8226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Литературное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чтен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5BBB-5698-47AD-BC7A-993FCD9D647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C593-8FB5-47A5-B9D3-12BB173071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Мы в ответе за тех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го приручили»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. Сент-Экзюпери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24000" y="4365720"/>
            <a:ext cx="82087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аты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еззащитны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аленький   Пушистый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алентина Александровна Осее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р1"/>
          <p:cNvPicPr/>
          <p:nvPr/>
        </p:nvPicPr>
        <p:blipFill>
          <a:blip r:embed="rId2"/>
          <a:stretch/>
        </p:blipFill>
        <p:spPr>
          <a:xfrm>
            <a:off x="395280" y="1628640"/>
            <a:ext cx="1500120" cy="2449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р4"/>
          <p:cNvPicPr/>
          <p:nvPr/>
        </p:nvPicPr>
        <p:blipFill>
          <a:blip r:embed="rId3"/>
          <a:stretch/>
        </p:blipFill>
        <p:spPr>
          <a:xfrm>
            <a:off x="2195640" y="2492280"/>
            <a:ext cx="1581120" cy="2449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р7"/>
          <p:cNvPicPr/>
          <p:nvPr/>
        </p:nvPicPr>
        <p:blipFill>
          <a:blip r:embed="rId4"/>
          <a:stretch/>
        </p:blipFill>
        <p:spPr>
          <a:xfrm>
            <a:off x="4284720" y="1700280"/>
            <a:ext cx="1590480" cy="244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р5"/>
          <p:cNvPicPr/>
          <p:nvPr/>
        </p:nvPicPr>
        <p:blipFill>
          <a:blip r:embed="rId5"/>
          <a:stretch/>
        </p:blipFill>
        <p:spPr>
          <a:xfrm>
            <a:off x="6732720" y="2781360"/>
            <a:ext cx="2058840" cy="244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Arial"/>
              </a:rPr>
              <a:t>В.А.Осеев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4880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ля В.Осеевой сама жизнь была волшебством. Она много писала для малышей- стихи, рассказы, сказки. Увлекательные истории цикла рассказов«Волшебное слово» очень нравились детям. Работала В.Осеева воспитательницей в детских учреждениях и считала это своим призвани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8" descr="i_055"/>
          <p:cNvPicPr/>
          <p:nvPr/>
        </p:nvPicPr>
        <p:blipFill>
          <a:blip r:embed="rId1"/>
          <a:stretch/>
        </p:blipFill>
        <p:spPr>
          <a:xfrm>
            <a:off x="1914480" y="612720"/>
            <a:ext cx="647388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899640" y="1628640"/>
            <a:ext cx="748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т это и плохо!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бака яростно лаяла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вам не стыдно!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альчики стояли и ждали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324000" y="1344960"/>
            <a:ext cx="4176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бака яростно лаяла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льчики стояли и ждали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вам не стыдно!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т это и плохо!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3" descr="i_055"/>
          <p:cNvPicPr/>
          <p:nvPr/>
        </p:nvPicPr>
        <p:blipFill>
          <a:blip r:embed="rId1"/>
          <a:stretch/>
        </p:blipFill>
        <p:spPr>
          <a:xfrm>
            <a:off x="4572000" y="1700280"/>
            <a:ext cx="403848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Нет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потому что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3141360"/>
            <a:ext cx="6562800" cy="103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Да, потому что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school2-30"/>
          <p:cNvPicPr/>
          <p:nvPr/>
        </p:nvPicPr>
        <p:blipFill>
          <a:blip r:embed="rId1"/>
          <a:stretch/>
        </p:blipFill>
        <p:spPr>
          <a:xfrm>
            <a:off x="5867280" y="2852640"/>
            <a:ext cx="299088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7T17:34:00Z</dcterms:created>
  <dc:creator>Admin</dc:creator>
  <dc:description>http://aida.ucoz.ru</dc:description>
  <dc:language>en-US</dc:language>
  <cp:lastModifiedBy>Lenovo</cp:lastModifiedBy>
  <dcterms:modified xsi:type="dcterms:W3CDTF">2015-10-24T07:22:55Z</dcterms:modified>
  <cp:revision>7</cp:revision>
  <dc:subject/>
  <dc:title>Валентина Александровна Осеева</dc:title>
</cp:coreProperties>
</file>