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851E-100A-4537-9FD1-CF3DFF5AF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е моделирование – как основа дорожно-транспортн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F40-DD5B-45C4-89F2-BAF761737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508-467C-485D-A1C2-93260358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22E-7DE1-40F9-8EE3-AA1DA1DF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CAF-87AB-4831-8185-0BBC6097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06B-AC7F-4816-91E2-6EEC7365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E42-BED2-4114-8F0B-2BB1797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7BA-169D-49BD-B75F-9F1C56E2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734-0D31-4460-B720-1F261D55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89D-7F21-445F-A940-2013B102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9E8-B40E-43A3-A7BD-94B0A8CF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FED-B640-418E-A0FC-A3E9D00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710-EF24-46C0-94B9-91CF55CD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31E-5874-406F-9E75-35A3C321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74B1-F858-48EA-B042-1830263CD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826920" y="476280"/>
            <a:ext cx="79218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ставлений у детей дошкольного возраста о правилах дорожного движения в соответствии с ФГОС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онкова Галина Ивановна,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«Детский сад № 276 «Антош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ижний Новгород, 2019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рабо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025640" y="1216080"/>
            <a:ext cx="62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ный конкурс «Юные знатоки дорожного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26420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002"/>
          <p:cNvPicPr/>
          <p:nvPr/>
        </p:nvPicPr>
        <p:blipFill>
          <a:blip r:embed="rId1"/>
          <a:stretch/>
        </p:blipFill>
        <p:spPr>
          <a:xfrm>
            <a:off x="1835280" y="2011320"/>
            <a:ext cx="1533240" cy="2109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003"/>
          <p:cNvPicPr/>
          <p:nvPr/>
        </p:nvPicPr>
        <p:blipFill>
          <a:blip r:embed="rId2"/>
          <a:stretch/>
        </p:blipFill>
        <p:spPr>
          <a:xfrm>
            <a:off x="5292720" y="2050920"/>
            <a:ext cx="1533600" cy="210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 проведённой работы позволяет сделать вывод об эффективности разработанной нами системы по формированию у детей дошкольного возраста представлений о правилах дорожного движения в соответствии с ФГОС Д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родителей к процессу обучения позволило активизировать их собственное сознательное поведение на улицах гор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042920" y="134136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деева Н.Н., Князева Н.Л., Стеркина Р.Б. Безопасность: Учебное пособие по основам безопасности жизнедеятельности детей старшего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б.: ДЕТСТВО-ПРЕСС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ынова В.К. Учебное пособие. Основы безопасности для детей дошкольного возраста. – СПб.: ДЕТСТВО-ПРЕСС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нышева Т.П. Как научить детей ПДД? – СПб.: ДЕТСТВО-ПРЕСС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иченко л.А. Ребёнок на улице. – СПб.: ДЕТСТВО-ПРЕСС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цева О.Ю Школа дорожных нау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детского дорожно-транспорт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зма. – М.:ТЦ Сфера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в контексте ФГОС Д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ответствии с ФГОС ДО одним из направлений социально-коммуникативного развития дошкольников является формирование основ безопасного поведения ребенка  в социуме, включая поведение на улицах города. Учитывая то, дошкольное учреждение является первой ступенью в системе непрерывного образования, то именно педагоги и родители должны стать первыми учителями в воспитании ребенка как дисциплинированного  пешех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4358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стойчивые навыки и положительные привычки безопасного поведения в дорожно-транспортной среде. Заложить первичные представления о П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1413000"/>
            <a:ext cx="7570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истему обучения по формированию безопасного поведения у детей дошкольного возраста в процессе изучения ПД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оответствующую предметно-пространственную среду для развития до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истему взаимодействия с родителями, законными представител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й материал по данной тем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одобран по следующим направления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187280" y="2205000"/>
            <a:ext cx="72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вышения компетенции воспит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совместной деятельности взрослых и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рганизации самостоятельной деятельности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существления работ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охватывала следующие тем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хема 3" descr=""/>
          <p:cNvPicPr/>
          <p:nvPr/>
        </p:nvPicPr>
        <p:blipFill>
          <a:blip r:embed="rId1"/>
          <a:stretch/>
        </p:blipFill>
        <p:spPr>
          <a:xfrm>
            <a:off x="1494000" y="1554120"/>
            <a:ext cx="61992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с детьм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1763640" y="1413000"/>
            <a:ext cx="6193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611280" y="2060640"/>
            <a:ext cx="2952720" cy="432108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4321080"/>
              <a:gd name="textAreaBottom" fmla="*/ 4177080 h 4321080"/>
            </a:gdLst>
            <a:ahLst/>
            <a:rect l="textAreaLeft" t="textAreaTop" r="textAreaRight" b="textAreaBottom"/>
            <a:pathLst>
              <a:path w="21600" h="31609">
                <a:moveTo>
                  <a:pt x="3600" y="0"/>
                </a:moveTo>
                <a:arcTo wR="3600" hR="3600" stAng="16200000" swAng="-5400000"/>
                <a:lnTo>
                  <a:pt x="0" y="28009"/>
                </a:lnTo>
                <a:arcTo wR="3600" hR="3600" stAng="10800000" swAng="-5400000"/>
                <a:lnTo>
                  <a:pt x="18000" y="31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ъя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с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сматривание иллюст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ение литературных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смотр мультфиль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делирование дорожных ситу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3708360" y="2852640"/>
            <a:ext cx="2448000" cy="352908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3529080"/>
              <a:gd name="textAreaBottom" fmla="*/ 3409560 h 3529080"/>
            </a:gdLst>
            <a:ahLst/>
            <a:rect l="textAreaLeft" t="textAreaTop" r="textAreaRight" b="textAreaBottom"/>
            <a:pathLst>
              <a:path w="21600" h="31138">
                <a:moveTo>
                  <a:pt x="3600" y="0"/>
                </a:moveTo>
                <a:arcTo wR="3600" hR="3600" stAng="16200000" swAng="-5400000"/>
                <a:lnTo>
                  <a:pt x="0" y="27538"/>
                </a:lnTo>
                <a:arcTo wR="3600" hR="3600" stAng="10800000" swAng="-5400000"/>
                <a:lnTo>
                  <a:pt x="18000" y="311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ДВ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блюдение на прогу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ры-драмат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6300720" y="2852640"/>
            <a:ext cx="2374920" cy="3529080"/>
          </a:xfrm>
          <a:custGeom>
            <a:avLst/>
            <a:gdLst>
              <a:gd name="textAreaLeft" fmla="*/ 115920 w 2374920"/>
              <a:gd name="textAreaRight" fmla="*/ 2259000 w 2374920"/>
              <a:gd name="textAreaTop" fmla="*/ 115920 h 3529080"/>
              <a:gd name="textAreaBottom" fmla="*/ 3413160 h 3529080"/>
            </a:gdLst>
            <a:ahLst/>
            <a:rect l="textAreaLeft" t="textAreaTop" r="textAreaRight" b="textAreaBottom"/>
            <a:pathLst>
              <a:path w="21600" h="32096">
                <a:moveTo>
                  <a:pt x="3600" y="0"/>
                </a:moveTo>
                <a:arcTo wR="3600" hR="3600" stAng="16200000" swAng="-5400000"/>
                <a:lnTo>
                  <a:pt x="0" y="28496"/>
                </a:lnTo>
                <a:arcTo wR="3600" hR="3600" stAng="10800000" swAng="-5400000"/>
                <a:lnTo>
                  <a:pt x="18000" y="320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сматривание иллюст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ры в уголке ПД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южет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9"/>
          <p:cNvSpPr/>
          <p:nvPr/>
        </p:nvSpPr>
        <p:spPr>
          <a:xfrm flipH="1">
            <a:off x="2087280" y="1917720"/>
            <a:ext cx="27716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2"/>
          <p:cNvSpPr/>
          <p:nvPr/>
        </p:nvSpPr>
        <p:spPr>
          <a:xfrm>
            <a:off x="4859280" y="1917720"/>
            <a:ext cx="73080" cy="93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>
            <a:off x="4859280" y="1917720"/>
            <a:ext cx="2629080" cy="93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Users\пользователь\Desktop\МетодОбъединение\Фото\DSC04379.JPG"/>
          <p:cNvPicPr/>
          <p:nvPr/>
        </p:nvPicPr>
        <p:blipFill>
          <a:blip r:embed="rId1"/>
          <a:stretch/>
        </p:blipFill>
        <p:spPr>
          <a:xfrm>
            <a:off x="5029200" y="957240"/>
            <a:ext cx="3882960" cy="2968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е моделиров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413000"/>
            <a:ext cx="469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 был изготовлен макет микрорайона с улицами прилегающими к территории детского са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я конспектов НОД для детей дошкольного возрас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вместное мероприятие с родителям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Мое место –автокресл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дор1"/>
          <p:cNvPicPr/>
          <p:nvPr/>
        </p:nvPicPr>
        <p:blipFill>
          <a:blip r:embed="rId1"/>
          <a:stretch/>
        </p:blipFill>
        <p:spPr>
          <a:xfrm>
            <a:off x="2230560" y="206064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272200" y="1289160"/>
            <a:ext cx="318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Packard bell</cp:lastModifiedBy>
  <dcterms:modified xsi:type="dcterms:W3CDTF">2019-12-19T08:38:32Z</dcterms:modified>
  <cp:revision>67</cp:revision>
  <dc:subject/>
  <dc:title>Слайд 1</dc:title>
</cp:coreProperties>
</file>