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jpeg" ContentType="image/jpeg"/>
  <Override PartName="/ppt/media/image7.gif" ContentType="image/gif"/>
  <Override PartName="/ppt/media/image9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DF3-7435-407F-A019-8C69054C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981-CD2F-410B-BCF9-BD9928A9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D970A-1CBF-4645-924F-89BCFA83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CC0D0-A93E-4253-A255-0CD95C29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FCBDA-4FE4-4A41-9424-E980281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F0463-3585-4367-8C55-FDD96C7C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518BB-4761-4B19-931D-299533E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35D4ED-71E1-4637-BE6F-940AE1B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F8102E-8070-403B-82E0-88B54B86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2D5FA-53FC-49B5-8B49-30EA10A2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E04C2-ECC4-4980-9975-EFE16E1D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092D8-47C3-4C37-BE61-CBE3E12E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A01-B0AE-4127-B7CC-103192DC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81A0F-2FD7-4C09-B160-3CC7CA5A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B8E85-1598-448C-B049-96A2A97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EBFC5-F5DB-49C6-A1A7-85AA6D00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42FF9-288A-4011-8EFA-2DF45B8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59E34-6D2B-45D8-B3B1-C82B48ED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CA706-C7E2-4BAE-8C44-82CB98C2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343C-4EA4-4BFC-8760-82F7C56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0CA35-114F-4E16-8BD4-6C30658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7523F-58AC-43EE-9B59-E48C0386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58AA7-BB81-46C4-8DF2-810E4E0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0EA-F793-4D75-99B2-9F84FD04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CB598-52B0-4A8C-93F4-D006E861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674EB-A450-4A73-A3FA-EEEAC2C9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9C744-9F12-4D11-85F4-B6BC334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0497D-5865-439A-B286-52ABBBA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9ADE1-5F4A-45EE-BB25-D1C3DB12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77BF8-51D6-4FE9-8BD8-4881A2E6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02C81-8672-4E99-A4C9-E34914F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89FF0-03DB-437D-9EF3-96ED818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39D78-DCF0-4859-B256-AF9564D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A9901-D5FA-426E-ABB3-4849AB2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965-D3AA-44DF-82A7-E38C220E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5B57-13E7-4473-9B68-710FDE40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C1554-E84E-47AA-AF07-474D03BE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8653E-DBED-4CEF-AEA8-2EB115C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33934-E7B5-47A6-AD70-55CD6124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93AF4-E2C2-44F0-B6AB-A8642D8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E4FEB-A71A-47BC-8295-024D0F7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8405C-BBB7-4F82-BE6F-62551B2C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65143-B187-4674-A606-25EA0D35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80364-8687-4231-BAA1-9BAE6482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AE417-C8B7-451A-BF30-515DEF5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D4B8-739E-479C-AC67-0E9A67C1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E30EF-79AC-4967-A616-8F4E962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E7E5B-B780-4611-8E74-8C27EEA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44E1A-F8B3-4A1B-B7CF-965558FC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B735-18AE-40A5-AC63-2C7645B4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47F6F-F8F8-4C60-8550-593EC0E6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07C4B-6321-4169-A47C-DA201088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B59DA-FE86-4187-A2F2-7698370D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8B8C3-1703-45D8-AA06-0AB54BEA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0D871-47A3-40DF-BF9A-844E17E8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37BCB-1F36-45D6-BD66-DC7EC5B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A05-55C3-46BB-BDB2-FC87AB76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CF9AB-F1D7-4B3E-B100-96E3492C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29659-A4DA-42E8-93EE-753EB36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4DFCF-83ED-41EE-BC2A-A9254D9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34ABC-7203-4F30-97FB-6340B3C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16A53-06B3-419D-9584-7B997578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BCD5C-5DDC-4585-9CF5-96287EC6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AF6B8-4514-4549-93C7-FB9D5148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08A69-97F1-4A8C-BC7F-0460D1CB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1B66E-27EB-41B8-AA94-EDA518F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CF1CF-8617-46BA-8EBD-D9873D0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3BB-6D72-4DF2-AA4C-DD098463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F1D43-1484-4CE1-963D-823BAA9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176F5-06CB-4F41-927C-3ED3361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F9D4C-1154-448F-92FD-D71A275B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6D80E-133A-4B92-B3CB-D330111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03ADD-70DB-40DB-90DF-28223212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70401-42FE-459F-8999-261AA84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BB606-DFBD-498B-A23D-7BAD382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16239-56D3-4E26-A484-2EE838CA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7E207-F8D4-4862-9711-006AB8A8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28B08-619B-4423-A0D5-3FC8FB6C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ADFF-51EA-4F9C-8F5C-79D7CE1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18317-FECD-4238-8EEA-FD95ECE9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55CE1-049B-435E-8F41-1A824AD9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C61CE-D646-4D7C-821A-B65D977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2B7B5-C62D-45BF-813B-E55185CB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48CA1-F648-4D90-9D04-D40B5699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7973C-09EE-44B6-B8F5-32BBE5D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3CB33-E54B-42A0-915A-9EBBCCB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785A5-C6B1-4D87-A2C7-6679591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1D03F-D1CB-4025-9FDF-88D8AC42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326C6-C50F-4201-A94E-F8B25DCF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7B1C-2577-4BB7-9445-3786DAD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A623D-8974-4021-A3AC-3D70C117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D500A-F2C2-4D34-821C-071E3FB2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B67DD-A799-469D-91C8-208C5A18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0C286-169F-4B56-94C2-5055E4E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1773B-84A8-4701-AD71-C7538AC5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C4AED-29B2-4607-B161-F647557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2E3E6-AB3B-4192-9074-D07D48A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A0974-674F-4C9F-8E24-3F86D07F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1B010-A59C-4E7B-809B-4621AE3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D2EBAA-A28D-4BA9-92A3-DD8723E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2A49-9AE5-4413-BC95-37F4220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FB3BC-F5F9-4666-88F8-CA8C928A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B1985-EE83-4BE2-AA59-5CEA00BD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CE3F6-218C-4F4E-8287-BFBBD020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442CC-1259-4C45-985E-3FDC869F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43441-D675-41E6-8D48-27BAE99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FA26C-AFA0-4AA2-A452-D1B37DC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947BE9-87D0-46C5-8B98-C3298EA6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87CF6-7890-48FD-A4B0-8527DE17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B5A8E-0429-4A3C-99D8-58EDA3DC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204AC-82A4-4B6A-91B5-8449163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147-A70A-4DB5-9967-3FF2010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038-EAAB-447E-B361-D86863A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663B4-30A1-4763-AB7C-D7FFB96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23AEE-5814-408C-99FC-88286DF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2612B-CCCB-4085-98D8-D2E4640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95F94-C99E-4916-ABA2-0D1AEA17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A33FF-113F-4B12-AB3F-C83A78EF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3CD0-5DAB-40A4-ACBB-E5E2E69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9F4-60F8-4AC0-9086-50374FB1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BE02-0BDF-442F-9A0E-DC1AB423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8035-7D59-4FBB-855E-4158AF37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8144-EBEF-47F0-87B7-E7C7943F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3987-B10F-428C-86EE-7F1273EC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D43E-3110-4985-8F38-3419647A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3B15-3A62-4B0D-9450-8DDCAE46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75EC-967F-4AB2-8043-D807E692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74A-AEED-4A68-AD02-F8F8F098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A8A0-8DA8-41C7-9ED8-F0B76F7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BF09-CE88-4CC3-92B2-6A4F9A5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ED02-D8AF-47FC-8D29-14664D1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978C-6F39-4041-B64D-94605A0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4122-9009-4843-963C-1C36E59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49C1-FCAC-4A1F-B3A1-366C33C4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862B-3EA1-4021-96E7-09DCF1C9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8279A-4CF4-4973-B389-F2290344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4B3B4-91DE-4DFA-AC7D-7200C4F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EB71-0C06-4708-B4BD-0F27723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95B-F75B-45B3-B551-696BE07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D78D-3EF5-411F-83CF-BDFF29A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01F06-ED75-4BBA-889D-92615CB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669AF-85B2-4F63-8A99-27D6BDC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B631-26F7-408A-88EB-4B83E71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D609-3BBA-4078-B62D-3A2E18D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6E4C-F1E7-47AF-B6AA-C5872B55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71A9-F7EA-4BE0-A80C-F34FA03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D8F8-C7F6-4AAD-8143-7ABEC220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9633F-8517-4E09-9D9B-5247A6D2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0674-6AAF-47D6-8387-E940B2F5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734-0E0E-45E5-8A33-BF850A98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69F9-DACF-4509-8709-2FAE858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0B69-3FFB-4FD0-9054-7122CE5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18D1-9E5E-4DC0-82BE-6664767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E866-396E-4005-BE29-1EC4C20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6E29A-F1BB-484C-BE68-7773628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85760-F4EE-4F43-B5C8-DCE3F6A4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5668-9CEB-4B1E-A2E0-6B8B161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C245C-FA6A-459F-A73A-FFB92362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8593-563D-411F-8D5B-D27078B7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2FA8-F2FB-4AB6-8AAB-0AFA194E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FB4-FAAD-4B03-8E80-28DB82ED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F130-8EF8-4221-A22B-6D6A2476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E839C-8723-4BB4-AC0C-E3BD177C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AB708-9BCA-49EF-96D1-F3171BAF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61EC9-61D3-4609-8371-35AAF4E3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6B8DF-0610-43D1-AEBA-D8CE38D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0E818-673A-42FC-A071-746B9FD0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C662E-3247-4AE0-B20D-E8BBDCE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8E324-F9CE-4374-AC75-A7F2BCFB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24462-AA05-4FCB-9EFF-8A483FE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5B411-00FC-449A-992F-91EC248D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4BA-03DA-4B96-A2A2-736B2C8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57DB1-250B-4134-AE2B-A25C0182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2BF4F-A78E-41A0-A037-9441FD2B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BFDDC-F8A6-4E49-BB69-1469C838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5CA7B-B084-447A-896C-2CCF5BE1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4B501-3E1F-4E42-91B0-69A1781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1E63-4E63-4C94-BAE7-AF3513D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1437-9079-47C3-A66D-2A4A104B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CA11-2AC9-45F4-80FC-AC10A695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33C6-D397-4BF6-A5A3-02E7B18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BE71-963F-47EC-8173-50C8CD4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4E0-F396-4465-81F4-19524D21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65B14-7AF0-4C9E-A4BA-7DC1447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2B04-E52C-496F-A130-D17B4E1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5FB5-402F-42E6-A3E0-F59E98D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7D6B-BB21-4C4F-B139-1C21FE37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7CA6-46EF-4FC6-BEB2-B3787A0F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4FF0-9409-4AC3-B681-9CBEFBA5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97B7-05D4-4C93-A536-AE86633A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1B08-D7DC-452F-ADD7-83B2FCC4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34949-48F8-49ED-AB4D-5B9DDBC7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09B5-C3E8-4BBE-991D-F365D4E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F20-FCCC-4C4D-9EE3-CE571D6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F49AF-7255-4FEE-AEC3-587E6B13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5472C-C8FA-45AA-8556-C890D461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34523-91CD-4CEA-A1E1-0C8DA3B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5366-A45A-477F-8E6D-0F0FECA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C7EA-5FE2-43C4-B2A2-07CF2C0A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7BAF6-E415-490A-BC40-D0430C8A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D3AB-74BB-4DC0-8B77-791D8289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011C3-C1D4-4FE3-BFE7-D95330CE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8F794-CAEB-4D63-B86A-9E210717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516C34-F34F-49CD-9F6B-73DBE4C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E052-CDFC-4CBC-8C1C-F50E41637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D03-D6AF-40A7-AD98-5A3856E071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2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7A74-8518-4E8C-8E15-E172CAF888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8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9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9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0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8E8-2ED5-4B75-BFB6-6D4238CEF68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4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10F-0506-4544-AC49-1311FDD878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7D6-6C3D-4720-B7F1-86FF109D046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856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4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44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4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8AEA-FACA-4533-803B-FFCE4CB097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0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0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1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3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5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E3D8-3870-44CB-A56E-C1169332745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0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B802-1071-41E1-AC1A-9578A875F0B2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D9C-0150-4816-B063-54D8E6BDC3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B14-5A5D-4327-BD7E-4A097B3B90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FB60-DFAF-42D1-B771-9C2086026E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9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9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0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4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9FF2-D385-4231-92EE-06EEDAFC3C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BD2-8C22-4DDC-9D46-D1DC2C7C9CE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53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32A3-4875-4AC8-8845-895AC7DDC8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00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02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14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33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51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9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EA8-54B4-46B3-B71B-0C04C2A933F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682-7A69-469A-A6CC-0E2C26E85B24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6" descr="J0178632"/>
          <p:cNvPicPr/>
          <p:nvPr/>
        </p:nvPicPr>
        <p:blipFill>
          <a:blip r:embed="rId1"/>
          <a:stretch/>
        </p:blipFill>
        <p:spPr>
          <a:xfrm rot="21596400">
            <a:off x="-326520" y="0"/>
            <a:ext cx="9470880" cy="702468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4596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6600" spc="-1" strike="noStrike">
                <a:solidFill>
                  <a:srgbClr val="ff0066"/>
                </a:solidFill>
                <a:latin typeface="Times New Roman"/>
              </a:rPr>
              <a:t>Детско-родительские отнош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76360" y="3933720"/>
            <a:ext cx="37083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ff"/>
                </a:solidFill>
                <a:latin typeface="Arial"/>
              </a:rPr>
              <a:t>Аспекты воспита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ддерживать можно посредством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59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х слов (красиво, прекрасно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й («Я горжусь тобой», «Спасибо», «Все идет хорошо»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основений (дотронуться до руки, обнять ег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х действий (сидеть, стоять рядом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лица (улыбка, кивок, сме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17" descr="J0282750"/>
          <p:cNvPicPr/>
          <p:nvPr/>
        </p:nvPicPr>
        <p:blipFill>
          <a:blip r:embed="rId1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23" descr="J0282747"/>
          <p:cNvPicPr/>
          <p:nvPr/>
        </p:nvPicPr>
        <p:blipFill>
          <a:blip r:embed="rId2"/>
          <a:stretch/>
        </p:blipFill>
        <p:spPr>
          <a:xfrm>
            <a:off x="250920" y="4797360"/>
            <a:ext cx="1218960" cy="14353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6" descr="J0283640"/>
          <p:cNvPicPr/>
          <p:nvPr/>
        </p:nvPicPr>
        <p:blipFill>
          <a:blip r:embed="rId3"/>
          <a:stretch/>
        </p:blipFill>
        <p:spPr>
          <a:xfrm>
            <a:off x="179280" y="141300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9" descr="J0283653"/>
          <p:cNvPicPr/>
          <p:nvPr/>
        </p:nvPicPr>
        <p:blipFill>
          <a:blip r:embed="rId4"/>
          <a:stretch/>
        </p:blipFill>
        <p:spPr>
          <a:xfrm>
            <a:off x="7404120" y="4581360"/>
            <a:ext cx="17398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разлучные друзья – родители и 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7" descr="J0316862"/>
          <p:cNvPicPr/>
          <p:nvPr/>
        </p:nvPicPr>
        <p:blipFill>
          <a:blip r:embed="rId2"/>
          <a:stretch/>
        </p:blipFill>
        <p:spPr>
          <a:xfrm>
            <a:off x="4427640" y="1557360"/>
            <a:ext cx="446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5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5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5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5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5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6"/>
          <p:cNvSpPr/>
          <p:nvPr/>
        </p:nvSpPr>
        <p:spPr>
          <a:xfrm>
            <a:off x="755640" y="476280"/>
            <a:ext cx="7848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огда мы выражаем удовольствие оттого, что делает наш ребенок, это поддерживает его и стимулирует продолжать дело или делать новые попытки. Тогда он получает удовольствие о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длинная поддержка родителями своего ребенка должна основываться на подчеркивании его способностей, возможностей его положительны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ажно, чтобы родитель научился принимать ребенка таким, какой он есть, включая все его достижения и промахи, а в общении с ним учитывать значение таких вещей, как тон, жесты,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684000" y="549360"/>
            <a:ext cx="633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учится том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Что видит у себя в дом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одители пример е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С. Бранд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9" name="Picture 3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780000" cy="345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7643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ПОВЕРЬ МН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СЧАСТЬЕ ТОЛЬКО ТА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ДЕ ЛЮБЯТ НА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ГДЕ ВЕРЯТ Н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М.ЛЕРМО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3" name="Picture 4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382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1692360" y="260280"/>
            <a:ext cx="720072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«Потребность в родительской любви не только самая сильная из всех человеческих потребностей, но и самая длительная. Пройдут увлечения, отзвучат некогда потрясавшие нашу жизнь страсти, минут многие привязанности, но любовь к родителям и необходимость ответной любви остается с нами до конца наших дней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Алла Спиваковска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7696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пешность воспитания детей стоит в прямой зависимости от личностного роста, гармонии и душевного равновесия родителей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Любовь, принятие, уважение, понимание которые родители заложат в своего дитя в первые пять лет, он пронесет по жизни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дительская поддержка – это процес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В ходе которого родитель сосредотачивается на достоинствах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могает ребенку поверить в себя и в свои способ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ддерживает ребенка при неудач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9" name="Picture 8" descr="J0316850"/>
          <p:cNvPicPr/>
          <p:nvPr/>
        </p:nvPicPr>
        <p:blipFill>
          <a:blip r:embed="rId1"/>
          <a:stretch/>
        </p:blipFill>
        <p:spPr>
          <a:xfrm>
            <a:off x="5435640" y="1989000"/>
            <a:ext cx="2921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6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1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6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Garamond"/>
              </a:rPr>
              <a:t>Для того, чтобы показать веру в ребенка, родитель должен иметь мужество и желание сделать следующее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067280" y="1773360"/>
            <a:ext cx="4619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Забыть о прошлых неудач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очь ребенку обрести уверенность в том, что он справится с данной задач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зволить  ребенку начать «с нуля», опираясь на то, что родитель верит в него, в его способность достичь успех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нить о прошлых удачах и возвращаться к ним, а не к ошибка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2" name="Picture 7" descr="J0223740"/>
          <p:cNvPicPr/>
          <p:nvPr/>
        </p:nvPicPr>
        <p:blipFill>
          <a:blip r:embed="rId1"/>
          <a:stretch/>
        </p:blipFill>
        <p:spPr>
          <a:xfrm>
            <a:off x="468360" y="1844640"/>
            <a:ext cx="34495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4"/>
          <p:cNvSpPr/>
          <p:nvPr/>
        </p:nvSpPr>
        <p:spPr>
          <a:xfrm>
            <a:off x="468360" y="1989000"/>
            <a:ext cx="8136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Опираться на сильные стороны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подчеркивания прома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Уметь и хотеть демонстрировать любовь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Внести юмор во взаимоотнош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водить больше времени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являть эмпатию к ребенку и веру в Ваш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инимать индивидуальнос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озволить ребенку самому решать проблемы там, где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дисциплинарных поощрений и наказаний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460080"/>
            <a:ext cx="7126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Для того, чтобы поддержать ребенка, необходим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947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entury Gothic"/>
              </a:rPr>
              <a:t>Слова, которые поддерживают и которые разрушают его веру в себя</a:t>
            </a:r>
            <a:r>
              <a:rPr b="0" lang="ru-RU" sz="3200" spc="-1" strike="noStrike">
                <a:solidFill>
                  <a:srgbClr val="ffcc66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410544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Слова поддержк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ы делаешь это очень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00720" y="2060280"/>
            <a:ext cx="4464000" cy="410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Слова разочарова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я тебя и твои способности. Я думаю, ты смог бы сделать это гораздо луч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а идея никогда не сможет быть реализова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для тебя слишком трудно, поэтому я сам это сдела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44:45Z</dcterms:created>
  <dc:creator>Артур</dc:creator>
  <dc:description/>
  <dc:language>en-US</dc:language>
  <cp:lastModifiedBy>User</cp:lastModifiedBy>
  <dcterms:modified xsi:type="dcterms:W3CDTF">2019-09-08T18:33:19Z</dcterms:modified>
  <cp:revision>8</cp:revision>
  <dc:subject/>
  <dc:title>Психологическая поддержка в семье</dc:title>
</cp:coreProperties>
</file>