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305-AF3A-4344-995F-6BBB31AC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536-58D1-4F1F-9680-F6B1E615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A9C064-6B9B-4948-9F33-3292080F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CEB52B-E35C-442B-98AC-8B2EB014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47488C-21B9-4EC0-86C9-ED19156B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6B798C-60AC-4FAF-8F57-BB3905E8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54FC59-BE8C-40EE-99DD-785D484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8D8B9C-6ABB-45FB-B626-DABB30FC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AC63DE-2F9D-4836-A0C2-DF11DF9F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1F42C7-BE15-4AAF-9EBF-7AE86036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848AD7-CED8-464A-8E4E-F6A1BB3C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0F5-E587-4939-83D1-FFE0E1F7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EAA-D2CF-40CD-ABCF-4B603808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A1AB4-5ACC-42AE-A6F8-20151C68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C396E-3844-40EC-9D2A-72AC033A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EE544-57AC-4DC6-9E4B-0FAA672D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45739-185F-46BC-B4F9-FC4E6CC1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649CD-FDBF-4AD2-B070-F59B16A0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F1CDE-D879-4293-949A-188571AA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C852C-7924-4142-A69A-B6D062CF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EBF-7424-4C65-850A-04E716F3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4A37C-8668-40B6-AC2B-A44EFB75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8CFDB-CB62-4937-9193-CE95C171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7C093-2A64-4DE4-883A-D366603B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9D832-7B41-4586-B175-D743DD5C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4F0F3-41D8-4F8A-AEE1-FEF7F858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67E9-3595-4E24-895F-572581BF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FE926-42E7-4398-AE75-7C79E11D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D9946-FF05-4307-AD81-BC68963B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894C-4825-4687-B81F-3AC74806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3A40B-27CE-4168-B914-1DE8B1FC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0A8-A7E6-4C7B-B0FA-44E7F304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F9FF-1629-466F-9C3B-80107E8A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34C5C-B21A-4FD4-BC1B-0F43246F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61EA6-8197-47D8-A6A5-EDC8B5E1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06314-310F-47F1-BD02-E5ACE35A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FC1EA-7249-4472-A744-97802BF4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DD8F8-B3A3-4537-B0CF-50786A51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F9C3-F217-467E-B0E3-E9D840F3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29CFE-ABBB-483E-A8E3-7C531880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10DB4-9C1F-4E55-A4D3-22B7BC29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2B79FB-060E-47FE-A1FE-3082C517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E08-2775-4014-80F0-946DC075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8A96F4-DD17-4942-9669-0465DA0B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43DF27-3DB2-4EFB-A49F-357736D8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C369A-40AF-4999-95DA-2BF2496F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DC4AB6-EE52-4E4A-B0C5-5B7C587F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1A631-B861-4996-814D-73F3FE37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52C76-3B21-4232-9145-A32153DB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0A5044-081E-4544-A726-AD3210C6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48DE6C-1749-498F-B04D-BC2063A0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62C9A-FAF2-4B8E-B08F-0ED72DDB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69780-7F14-46DE-9B56-49718C62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EF6-FAB3-4647-85F6-F44D5FE5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B1996-AF66-446A-A866-8659D2A6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FE1CA-A5E5-4F87-9CE3-BB7A0E61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D518F-7838-40CE-9653-AAE5BF1E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E93ED-FFAF-474E-B886-C6798A2E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2E465-6D54-40A6-BF58-DF29A320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66115-BD0F-4813-8198-0DF2677F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8C08C-788F-4C35-9405-38392F74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260DC-6ABC-410B-84A8-1439F006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25729-2D5B-40F4-B92C-D9AA6178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D4473-1391-4BF1-9AFF-4C09C9E6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D0F-4C36-4568-AE11-3D2870E8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2AEC1-786C-4BDB-9A53-9A2D1071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B9129-D614-4862-91A5-ADC390FF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5BCA6-A7D8-4DD8-A5C5-8860F742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14FD7-A30B-4C37-B270-6950923D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254F2-FC36-49F8-8FA3-F0B53711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C04E7-412E-4FBB-9884-A371D66C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BCCB9-61B9-449E-BB0D-E4602BC6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5B936-271F-4DF8-8A0A-FEAC8983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E4D99-A93B-446F-81DE-04ED2A10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1EE0C-9D34-4A56-8491-9702AFC8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F50-CC40-4C09-A380-132407F8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BE920-B981-45E0-8CFA-A5937704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E9F33-34E8-4F75-A79E-73E72C4B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CF35E-6484-42BC-B8AE-B4AFB33D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8393A-A55C-4311-AF8E-D1E2AF8D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194D0-C3DA-4AA2-893B-185A92C7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C0B66-7A42-4210-83B9-DE3C8927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E4CD2-6E92-4D20-B956-90A02899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A850B-2CE6-4A46-B942-8057E877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88845-3D65-43E0-BFF5-7F5071EE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4328E-B4C2-41A9-B8EC-42C911EB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7D3-6244-4283-95AD-CC83F684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B9187-9E71-40B9-80D8-A7A9433F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EABC7-1711-4D77-98A6-BEC0B886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30771-FD3B-4EAD-839F-38091786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1D9F4-ED59-4410-9E83-8909CDB5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B8294-DFD2-4F72-85F4-109A06ED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08AB0A-2DE3-46E1-83BF-429981E3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45597D-6F17-4413-A63B-7CD72C79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4A12C4-AD47-4176-9D5A-DA66BA41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8B7D90-9681-401F-9B26-6E3BBB90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6A30E5-B7D9-4B80-93F8-9348E1CE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3A2-8600-4F90-84B2-6A86EC67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8284A9-C060-411B-855D-13838A16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6444D4-D20A-4F0A-BD69-721E0131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2BFB00-A8C1-4D45-8997-7F59AC7E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F76C72-DB8E-41F5-8752-3D83327C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48E4F4-4DB5-4842-BBF4-BE6B3D1D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6C58E0-D6A1-43DE-893A-77F1AAB9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DEA7D0-8584-4939-B4F0-929D5CC8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BF8EBB-6D27-4C70-B45E-B522D57C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41DEC9-DDCD-430A-B630-88A41147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2F84B7-6F3D-4B2F-8087-F20F7B71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0DB6-1A47-4C66-884F-D744FB48C93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5AEE-863A-47F1-8C00-E0D990BD914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A85A-79EA-4A0C-9F7F-4953DC57955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5A25-BA10-4F5B-885B-D7B8C720526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EAFF-66EA-4565-BB97-6C4FDC6EC9A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4D04-BD4A-4E72-B700-D0C3E2138FB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191D-B8C4-4AF2-8DED-04D52473BC5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BB5E-0F1F-4E59-BAF3-054E9B1C3B4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108A-61F5-40AE-A8DC-77C6DEA0CA6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14360" y="384120"/>
            <a:ext cx="8278920" cy="21700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47280" y="4581000"/>
            <a:ext cx="84963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ыполнили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ахиянова Д.З., Халиуллина А.Ф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БОУ «СОШ№1» г.Альметьевска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аучный руководитель: Ившина Н.Н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«…Как взор его был быстр и нежен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тыдлив и дерзок, а поро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листал послушною слезой!...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2" name="Рисунок 3" descr="135.jpg"/>
          <p:cNvPicPr/>
          <p:nvPr/>
        </p:nvPicPr>
        <p:blipFill>
          <a:blip r:embed="rId1"/>
          <a:stretch/>
        </p:blipFill>
        <p:spPr>
          <a:xfrm>
            <a:off x="1071720" y="3429000"/>
            <a:ext cx="2865240" cy="23572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" descr="foto-kapel-vody-490-82.jpg"/>
          <p:cNvPicPr/>
          <p:nvPr/>
        </p:nvPicPr>
        <p:blipFill>
          <a:blip r:embed="rId2"/>
          <a:stretch/>
        </p:blipFill>
        <p:spPr>
          <a:xfrm>
            <a:off x="5000760" y="3429000"/>
            <a:ext cx="33400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855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«Морозной пылью серебрится                                                                      Его бобровый воротник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6" name="Рисунок 3" descr="4K-milniy-puzir-4.jpg"/>
          <p:cNvPicPr/>
          <p:nvPr/>
        </p:nvPicPr>
        <p:blipFill>
          <a:blip r:embed="rId1"/>
          <a:stretch/>
        </p:blipFill>
        <p:spPr>
          <a:xfrm>
            <a:off x="3000240" y="2906640"/>
            <a:ext cx="53578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«…и пробка в потолок,                                                                              Вина кометы брызнул ток»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9" name="Рисунок 3" descr="_59.jpg"/>
          <p:cNvPicPr/>
          <p:nvPr/>
        </p:nvPicPr>
        <p:blipFill>
          <a:blip r:embed="rId1"/>
          <a:stretch/>
        </p:blipFill>
        <p:spPr>
          <a:xfrm>
            <a:off x="1000080" y="2928960"/>
            <a:ext cx="2193840" cy="357192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4" descr="pic95-96.png"/>
          <p:cNvPicPr/>
          <p:nvPr/>
        </p:nvPicPr>
        <p:blipFill>
          <a:blip r:embed="rId2"/>
          <a:stretch/>
        </p:blipFill>
        <p:spPr>
          <a:xfrm>
            <a:off x="3714840" y="2928960"/>
            <a:ext cx="48308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85716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Заключение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Таким образом, я доказала, что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в литературе используются различные художественные средства для описания и представления физических процессов и явлений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физику и различные способы её представления мы встречаем всегда и везде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между художественной, фольклорной литературой и физикой есть тесно связанная между собой и непрерывная связь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"/>
              </a:rPr>
              <a:t>Спасибо за внимание</a:t>
            </a:r>
            <a:r>
              <a:rPr b="0" lang="ru-RU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85716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Цель работы: определить значение физики в художественной и народной литературе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Задачи работы: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доказать повседневность физики, т.е. присутствие физических явлений в повседневной жизни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определить методы описания физических явлений в литературе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ривести конкретные примеры для анализа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сделать выводы о связи физики и литературы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399" name="Содержимое 3" descr="078-02-ancient-wisdom-literature.jpg"/>
          <p:cNvPicPr/>
          <p:nvPr/>
        </p:nvPicPr>
        <p:blipFill>
          <a:blip r:embed="rId1"/>
          <a:stretch/>
        </p:blipFill>
        <p:spPr>
          <a:xfrm>
            <a:off x="3500280" y="2500200"/>
            <a:ext cx="2359080" cy="16430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86b65134ea27.jpg"/>
          <p:cNvPicPr/>
          <p:nvPr/>
        </p:nvPicPr>
        <p:blipFill>
          <a:blip r:embed="rId2"/>
          <a:stretch/>
        </p:blipFill>
        <p:spPr>
          <a:xfrm rot="729600">
            <a:off x="6071760" y="4857480"/>
            <a:ext cx="2360520" cy="157140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15480d24fdc94614501e06d22fa6d2bf.jpg"/>
          <p:cNvPicPr/>
          <p:nvPr/>
        </p:nvPicPr>
        <p:blipFill>
          <a:blip r:embed="rId3"/>
          <a:stretch/>
        </p:blipFill>
        <p:spPr>
          <a:xfrm rot="1017600">
            <a:off x="506160" y="4622400"/>
            <a:ext cx="2216160" cy="178596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6" descr="25736083.jpg"/>
          <p:cNvPicPr/>
          <p:nvPr/>
        </p:nvPicPr>
        <p:blipFill>
          <a:blip r:embed="rId4"/>
          <a:stretch/>
        </p:blipFill>
        <p:spPr>
          <a:xfrm rot="20908800">
            <a:off x="426600" y="539280"/>
            <a:ext cx="2714760" cy="169704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7" descr="emblema-sita.jpg"/>
          <p:cNvPicPr/>
          <p:nvPr/>
        </p:nvPicPr>
        <p:blipFill>
          <a:blip r:embed="rId5"/>
          <a:stretch/>
        </p:blipFill>
        <p:spPr>
          <a:xfrm rot="21198000">
            <a:off x="6373800" y="2766600"/>
            <a:ext cx="2206800" cy="163692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8" descr="fizika.jpg"/>
          <p:cNvPicPr/>
          <p:nvPr/>
        </p:nvPicPr>
        <p:blipFill>
          <a:blip r:embed="rId6"/>
          <a:stretch/>
        </p:blipFill>
        <p:spPr>
          <a:xfrm rot="21012000">
            <a:off x="3059280" y="4617720"/>
            <a:ext cx="2361960" cy="173196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9" descr="fizika9.jpg"/>
          <p:cNvPicPr/>
          <p:nvPr/>
        </p:nvPicPr>
        <p:blipFill>
          <a:blip r:embed="rId7"/>
          <a:stretch/>
        </p:blipFill>
        <p:spPr>
          <a:xfrm rot="403200">
            <a:off x="3584160" y="563400"/>
            <a:ext cx="2400480" cy="15717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10" descr="images.jpg"/>
          <p:cNvPicPr/>
          <p:nvPr/>
        </p:nvPicPr>
        <p:blipFill>
          <a:blip r:embed="rId8"/>
          <a:stretch/>
        </p:blipFill>
        <p:spPr>
          <a:xfrm rot="876000">
            <a:off x="6449760" y="431640"/>
            <a:ext cx="1939680" cy="194004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1" descr="reb-phys.jpg"/>
          <p:cNvPicPr/>
          <p:nvPr/>
        </p:nvPicPr>
        <p:blipFill>
          <a:blip r:embed="rId9"/>
          <a:stretch/>
        </p:blipFill>
        <p:spPr>
          <a:xfrm rot="437400">
            <a:off x="715680" y="2595240"/>
            <a:ext cx="25351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12760" y="255600"/>
            <a:ext cx="8474040" cy="15066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95280" y="458136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бъект исследования: пословицы, поговорки, приметы,  художественные произведени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0" name="Содержимое 3" descr="20-300x240.jpg"/>
          <p:cNvPicPr/>
          <p:nvPr/>
        </p:nvPicPr>
        <p:blipFill>
          <a:blip r:embed="rId2"/>
          <a:stretch/>
        </p:blipFill>
        <p:spPr>
          <a:xfrm>
            <a:off x="1849320" y="1773360"/>
            <a:ext cx="5956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663040" cy="15066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23640" y="765000"/>
            <a:ext cx="4824360" cy="54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720" indent="-2887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d0d0d"/>
                </a:solidFill>
                <a:latin typeface="Cambria"/>
              </a:rPr>
              <a:t>«В гору семеро едва тянут, а под гору и один столкнет»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Здесь мы наблюдаем силу всемирного тяготения, благодаря которой подъём в гору совершается с затратой большого количества энергии, а спуск с неё, т.е. сонаправленное с силой всемирного тяготения движение производится с использованием сравнительно меньшей силы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Рисунок 3" descr="Безымянныйш.png"/>
          <p:cNvPicPr/>
          <p:nvPr/>
        </p:nvPicPr>
        <p:blipFill>
          <a:blip r:embed="rId2"/>
          <a:stretch/>
        </p:blipFill>
        <p:spPr>
          <a:xfrm>
            <a:off x="5087880" y="765000"/>
            <a:ext cx="3456000" cy="278640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4" descr="Безымянныйн.png"/>
          <p:cNvPicPr/>
          <p:nvPr/>
        </p:nvPicPr>
        <p:blipFill>
          <a:blip r:embed="rId3"/>
          <a:stretch/>
        </p:blipFill>
        <p:spPr>
          <a:xfrm>
            <a:off x="5087880" y="3571920"/>
            <a:ext cx="3648240" cy="2762280"/>
          </a:xfrm>
          <a:prstGeom prst="rect">
            <a:avLst/>
          </a:prstGeom>
          <a:ln w="0">
            <a:noFill/>
          </a:ln>
        </p:spPr>
      </p:pic>
      <p:cxnSp>
        <p:nvCxnSpPr>
          <p:cNvPr id="415" name="Прямая со стрелкой 6"/>
          <p:cNvCxnSpPr/>
          <p:nvPr/>
        </p:nvCxnSpPr>
        <p:spPr>
          <a:xfrm flipV="1">
            <a:off x="7391160" y="1321560"/>
            <a:ext cx="997560" cy="81828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6" name="Прямая со стрелкой 10"/>
          <p:cNvCxnSpPr/>
          <p:nvPr/>
        </p:nvCxnSpPr>
        <p:spPr>
          <a:xfrm>
            <a:off x="6659280" y="2923920"/>
            <a:ext cx="1080" cy="1152720"/>
          </a:xfrm>
          <a:prstGeom prst="straightConnector1">
            <a:avLst/>
          </a:prstGeom>
          <a:ln w="76320">
            <a:solidFill>
              <a:srgbClr val="00206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3" descr="i_017.png"/>
          <p:cNvPicPr/>
          <p:nvPr/>
        </p:nvPicPr>
        <p:blipFill>
          <a:blip r:embed="rId1"/>
          <a:stretch/>
        </p:blipFill>
        <p:spPr>
          <a:xfrm>
            <a:off x="4627440" y="1762200"/>
            <a:ext cx="4351320" cy="46386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1332000" y="620640"/>
            <a:ext cx="7200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Cambria"/>
              </a:rPr>
              <a:t>«В пустой бочке звона больше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Содержимое 2"/>
          <p:cNvSpPr/>
          <p:nvPr/>
        </p:nvSpPr>
        <p:spPr>
          <a:xfrm>
            <a:off x="0" y="1306440"/>
            <a:ext cx="493236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1919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4f1919"/>
                </a:solidFill>
                <a:latin typeface="Cambria"/>
              </a:rPr>
              <a:t>В этой пословице речь идёт о звуковом явлении. Т.к. в бочке, внутри которой пусто, есть пространство для распространения звука, в то время, как внутри бочки с каким-либо содержимым звук бы поглощался и был менее звонким и громким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Картинки по запросу рисунок телеги"/>
          <p:cNvPicPr/>
          <p:nvPr/>
        </p:nvPicPr>
        <p:blipFill>
          <a:blip r:embed="rId1"/>
          <a:stretch/>
        </p:blipFill>
        <p:spPr>
          <a:xfrm>
            <a:off x="395280" y="3213000"/>
            <a:ext cx="4176720" cy="2200320"/>
          </a:xfrm>
          <a:prstGeom prst="rect">
            <a:avLst/>
          </a:prstGeom>
          <a:ln w="0">
            <a:noFill/>
          </a:ln>
        </p:spPr>
      </p:pic>
      <p:pic>
        <p:nvPicPr>
          <p:cNvPr id="421" name="Заголовок 1" descr=""/>
          <p:cNvPicPr/>
          <p:nvPr/>
        </p:nvPicPr>
        <p:blipFill>
          <a:blip r:embed="rId2"/>
          <a:stretch/>
        </p:blipFill>
        <p:spPr>
          <a:xfrm>
            <a:off x="457200" y="25560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427280" y="1699920"/>
            <a:ext cx="4546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Трение скольжени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т смазки - трение велико, оно вызывает колебания на оси телеги, при этом появляется скрипящий звук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Стрелка вниз 6"/>
          <p:cNvSpPr/>
          <p:nvPr/>
        </p:nvSpPr>
        <p:spPr>
          <a:xfrm>
            <a:off x="3132000" y="3716280"/>
            <a:ext cx="287640" cy="86508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72a376"/>
          </a:solidFill>
          <a:ln w="38160">
            <a:solidFill>
              <a:srgbClr val="9d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4" name="Стрелка вниз 8"/>
          <p:cNvSpPr/>
          <p:nvPr/>
        </p:nvSpPr>
        <p:spPr>
          <a:xfrm>
            <a:off x="846000" y="3902040"/>
            <a:ext cx="287640" cy="86508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72a376"/>
          </a:solidFill>
          <a:ln w="38160">
            <a:solidFill>
              <a:srgbClr val="9d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7200" y="-73080"/>
            <a:ext cx="8229600" cy="179244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3" descr="07956f6608bdc30cf4dc7103792170bd.jpg"/>
          <p:cNvPicPr/>
          <p:nvPr/>
        </p:nvPicPr>
        <p:blipFill>
          <a:blip r:embed="rId2"/>
          <a:stretch/>
        </p:blipFill>
        <p:spPr>
          <a:xfrm rot="20619000">
            <a:off x="651960" y="1871280"/>
            <a:ext cx="2816280" cy="215568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4" descr="T1xl6.jpeg"/>
          <p:cNvPicPr/>
          <p:nvPr/>
        </p:nvPicPr>
        <p:blipFill>
          <a:blip r:embed="rId3"/>
          <a:stretch/>
        </p:blipFill>
        <p:spPr>
          <a:xfrm rot="20571000">
            <a:off x="3606840" y="3120840"/>
            <a:ext cx="482436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91680" cy="1463760"/>
          </a:xfrm>
          <a:prstGeom prst="rect">
            <a:avLst/>
          </a:prstGeom>
          <a:ln w="0">
            <a:noFill/>
          </a:ln>
        </p:spPr>
      </p:pic>
      <p:pic>
        <p:nvPicPr>
          <p:cNvPr id="429" name="Содержимое 3" descr="photo2.jpg"/>
          <p:cNvPicPr/>
          <p:nvPr/>
        </p:nvPicPr>
        <p:blipFill>
          <a:blip r:embed="rId2"/>
          <a:stretch/>
        </p:blipFill>
        <p:spPr>
          <a:xfrm>
            <a:off x="2286000" y="1571760"/>
            <a:ext cx="40165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8T22:07:47Z</dcterms:created>
  <dc:creator>User</dc:creator>
  <dc:description/>
  <dc:language>en-US</dc:language>
  <cp:lastModifiedBy>User</cp:lastModifiedBy>
  <dcterms:modified xsi:type="dcterms:W3CDTF">2019-12-19T13:40:15Z</dcterms:modified>
  <cp:revision>13</cp:revision>
  <dc:subject/>
  <dc:title>Исследовательская работа по физике на тему:«Физика в литературе»</dc:title>
</cp:coreProperties>
</file>