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6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2.jpeg" ContentType="image/jpeg"/>
  <Override PartName="/ppt/media/image15.wmf" ContentType="image/x-wmf"/>
  <Override PartName="/ppt/media/image1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2DC0-F6A2-4EDE-92A5-A697901BC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1BE2-BD2F-403E-A5F9-CAC52053EA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9A86-1751-4EC8-A216-E823316282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A26B-4E8B-4CD1-8A72-7C402B0614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7B76-195B-421C-A786-6E34F1B03E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сновные причины ожир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E1CD-E823-4134-9167-8F76E767BC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9A87-F517-46AB-83B8-0A5AD9192E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гормон  контролирует усвоение глюкоз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ая  железа вырабатывает гормон инсули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гда возникает заболевание сахарный диабе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9874-6713-4156-8653-AA7D7A20D2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A9BB-6D41-438D-9866-DBD878809C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функцию выполняет иммунная систем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зывается аллергие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69A-7E0A-4185-A586-75C0E25B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141-E517-4CE6-A893-1FB3D12A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96A-64A6-4B28-BFE7-BF09BD3E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CEF-259C-4EBD-9A3B-A77F4ED3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DC52-1160-44F0-A997-C03B67C2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F999-72DE-43A2-85C2-DD35B565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7FF7-6297-43FF-9865-788C4A90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0293-F865-41C2-B3FB-AD88AB4C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B4EE-91C5-4A6E-9CC8-4801EF10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5EFD-EFD0-481F-A51B-512BA0A2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53B8-0C50-432F-ADA5-47830444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0A6-5A07-487D-B316-2E5C79B8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BE50-170B-426B-961C-7ED75D57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AC71-9197-4E74-98F8-52E1F8A6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75D6-486F-47DC-A12D-B8F0D524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77C8-1541-42EC-A0D6-D14CB491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3B5D-03E9-4C04-8DF6-09DD04F2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9B4-FD54-45D8-8C5C-F84294BE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D4D-D518-47C3-BBE4-D5E14D3B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D3A-9013-498B-8A71-71FB9ADB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1D3-2029-44FE-B9A3-9B4E0E34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DEF-B99A-4452-9985-94BD2272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1A4-F3F1-4EAD-98F4-00B54453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6AE-2F69-405E-9F37-210BDD94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6C17-50DB-48B8-9DDE-EC2EEB004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1E77-41F9-4533-9DB9-A1DCC4A8DE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rambler.ru/srch?query=&#1087;&#1088;&#1080;&#1082;&#1086;&#1083;&#1099;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3.jpeg"/><Relationship Id="rId6" Type="http://schemas.openxmlformats.org/officeDocument/2006/relationships/image" Target="../media/image7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143000" y="974160"/>
            <a:ext cx="7238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6520"/>
                <a:tab algn="l" pos="88758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«Гигиена питани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6520"/>
                <a:tab algn="l" pos="88758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6520"/>
                <a:tab algn="l" pos="88758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6520"/>
                <a:tab algn="l" pos="88758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6520"/>
                <a:tab algn="l" pos="88758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6520"/>
                <a:tab algn="l" pos="88758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6520"/>
                <a:tab algn="l" pos="88758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6520"/>
                <a:tab algn="l" pos="88758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00"/>
                </a:solidFill>
                <a:latin typeface="Arial"/>
              </a:rPr>
              <a:t>Учитель биологи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6520"/>
                <a:tab algn="l" pos="88758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00"/>
                </a:solidFill>
                <a:latin typeface="Arial"/>
              </a:rPr>
              <a:t>Михайлова Н.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6520"/>
                <a:tab algn="l" pos="88758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00"/>
                </a:solidFill>
                <a:latin typeface="Arial"/>
              </a:rPr>
              <a:t>ГБОУ гимназия№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5440"/>
                <a:tab algn="l" pos="8426520"/>
                <a:tab algn="l" pos="88758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506db35c88c0[1]"/>
          <p:cNvPicPr/>
          <p:nvPr/>
        </p:nvPicPr>
        <p:blipFill>
          <a:blip r:embed="rId1"/>
          <a:stretch/>
        </p:blipFill>
        <p:spPr>
          <a:xfrm>
            <a:off x="1305000" y="19051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3[1]"/>
          <p:cNvPicPr/>
          <p:nvPr/>
        </p:nvPicPr>
        <p:blipFill>
          <a:blip r:embed="rId2"/>
          <a:stretch/>
        </p:blipFill>
        <p:spPr>
          <a:xfrm>
            <a:off x="4495680" y="1905120"/>
            <a:ext cx="3276720" cy="229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44" name="WordArt 3"/>
          <p:cNvSpPr txBox="1"/>
          <p:nvPr/>
        </p:nvSpPr>
        <p:spPr>
          <a:xfrm>
            <a:off x="1619280" y="260280"/>
            <a:ext cx="56325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ff5050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Monotype Corsiva"/>
              </a:rPr>
              <a:t>Принципы здорового</a:t>
            </a:r>
            <a:endParaRPr b="0" i="1" lang="en-US" sz="1800" spc="1" strike="noStrike">
              <a:ln w="12600">
                <a:solidFill>
                  <a:srgbClr val="ff5050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ff5050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Monotype Corsiva"/>
              </a:rPr>
              <a:t>питания</a:t>
            </a:r>
            <a:endParaRPr b="0" i="1" lang="en-US" sz="1800" spc="1" strike="noStrike">
              <a:ln w="12600">
                <a:solidFill>
                  <a:srgbClr val="ff5050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1700280"/>
            <a:ext cx="3240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 u="sng">
                <a:solidFill>
                  <a:srgbClr val="990033"/>
                </a:solidFill>
                <a:uFillTx/>
                <a:latin typeface="Times New Roman"/>
              </a:rPr>
              <a:t>Умеренность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н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а для соблюдения баланса между поступающей с пищей и расходуемой в процессе жизнедеятельности энергией.  Установлено, что в среднем при основном обмене затрачивается около 1 ккал на 1 кг массы тела за 1 ч. У людей, постоянно испытывающих физические нагрузки, основ- ной обмен, как правило, повышается в пределах 30%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684360" y="5157720"/>
            <a:ext cx="1657080" cy="15001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3708360" y="1773360"/>
            <a:ext cx="280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276720" y="1773360"/>
            <a:ext cx="3024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492360" y="1844640"/>
            <a:ext cx="2808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132000" y="1628640"/>
            <a:ext cx="2880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990033"/>
                </a:solidFill>
                <a:uFillTx/>
                <a:latin typeface="Times New Roman"/>
              </a:rPr>
              <a:t>Разнообраз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селение нашей планеты  использует для питания тысячи пищевых продуктов и ещё больше кулинарных блюд. Энергетическая ценность рациона питания зависит от входящих в его состав белков, жиров, углеводов, витаминов, мин веществ и воды. Оптимальным в рационе здорового человека считается соотношение белков, жиров и углеводов, близкое к 1:1,2:4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0" descr=""/>
          <p:cNvPicPr/>
          <p:nvPr/>
        </p:nvPicPr>
        <p:blipFill>
          <a:blip r:embed="rId3"/>
          <a:stretch/>
        </p:blipFill>
        <p:spPr>
          <a:xfrm>
            <a:off x="3851280" y="5445000"/>
            <a:ext cx="1584360" cy="11876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1"/>
          <p:cNvSpPr/>
          <p:nvPr/>
        </p:nvSpPr>
        <p:spPr>
          <a:xfrm>
            <a:off x="6084720" y="1773360"/>
            <a:ext cx="2735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990033"/>
                </a:solidFill>
                <a:uFillTx/>
                <a:latin typeface="Times New Roman"/>
              </a:rPr>
              <a:t>Режим пит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жим питания человека обычно регулируется аппетитом. Но необходимо иметь в виду, что аппетит сохраняется даже после приема пищи. Это связано с необходимостью переваривания и всасывания пищевых веществ. И только после начала поступления их в кровь возбуждение пищевого центра начинает сменяться его торможение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2" descr=""/>
          <p:cNvPicPr/>
          <p:nvPr/>
        </p:nvPicPr>
        <p:blipFill>
          <a:blip r:embed="rId4"/>
          <a:stretch/>
        </p:blipFill>
        <p:spPr>
          <a:xfrm>
            <a:off x="6877080" y="5373720"/>
            <a:ext cx="1208160" cy="1284120"/>
          </a:xfrm>
          <a:prstGeom prst="rect">
            <a:avLst/>
          </a:prstGeom>
          <a:ln w="0">
            <a:noFill/>
          </a:ln>
        </p:spPr>
      </p:pic>
      <p:sp>
        <p:nvSpPr>
          <p:cNvPr id="154" name="Line 13"/>
          <p:cNvSpPr/>
          <p:nvPr/>
        </p:nvSpPr>
        <p:spPr>
          <a:xfrm flipH="1">
            <a:off x="1832040" y="1125360"/>
            <a:ext cx="10144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4500720" y="141300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5940360" y="981000"/>
            <a:ext cx="1368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58" name="WordArt 3"/>
          <p:cNvSpPr txBox="1"/>
          <p:nvPr/>
        </p:nvSpPr>
        <p:spPr>
          <a:xfrm>
            <a:off x="755640" y="0"/>
            <a:ext cx="74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ff5050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Monotype Corsiva"/>
              </a:rPr>
              <a:t>Питание школьников и подростков</a:t>
            </a:r>
            <a:endParaRPr b="0" i="1" lang="en-US" sz="1800" spc="1" strike="noStrike">
              <a:ln w="12600">
                <a:solidFill>
                  <a:srgbClr val="ff5050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50920" y="692280"/>
            <a:ext cx="8424720" cy="59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детей в период школьного и подросткового возраста формируется полове развитие, они быстро растут, прибавляя в весе и мышечной силе. Занятия спортом и физическим трудом ведут к резкому возрастанию энерготрат. Нервная система детей этого возраста находится в состоянии значительного напряжения под влияния интенсивной познавательной информации, сложности школьного обучения. Вот почему так важно обеспечить школьников и подростков полноценной пищей, правильно организовать режим пит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елательно включать в рацион </a:t>
            </a: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сливочное диетическое масло, сметан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Мясо, молоко, молочные продукты, овощи, фрукты, хле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школьники должны получать ежеднев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ром можно дать закуску (</a:t>
            </a: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салат или сыр, колбас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, затем </a:t>
            </a: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мясно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рыбно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юдо с гарниром или</a:t>
            </a: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 каш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творожн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яичн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люда, </a:t>
            </a: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чай, молоко, кофе, хлеб с масл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бед – </a:t>
            </a: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сала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винегр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суп, мяс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рыб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 гарниром, </a:t>
            </a: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компо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ли</a:t>
            </a: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 со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лдник – </a:t>
            </a: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молоко, кефир, выпечку, фрукт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ужин – блюда из </a:t>
            </a:r>
            <a:r>
              <a:rPr b="0" lang="ru-RU" sz="1600" spc="-1" strike="noStrike">
                <a:solidFill>
                  <a:srgbClr val="990033"/>
                </a:solidFill>
                <a:latin typeface="Times New Roman"/>
              </a:rPr>
              <a:t>творога, овощей, яиц и пить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25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В этом возрасте, к сожалению, дети часто нарушают режим питания, едят беспорядочно, часто всухомятку, на ходу. Эти пагубные привычки оказывают пагубное действие на растущий организм. К режиму питания родители должны приучать детей с раннего детств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5">
            <a:hlinkClick r:id="rId2" action="ppaction://hlinksldjump"/>
          </p:cNvPr>
          <p:cNvSpPr/>
          <p:nvPr/>
        </p:nvSpPr>
        <p:spPr>
          <a:xfrm>
            <a:off x="8077320" y="6629400"/>
            <a:ext cx="304560" cy="84240"/>
          </a:xfrm>
          <a:prstGeom prst="flowChartAlternateProcess">
            <a:avLst/>
          </a:prstGeom>
          <a:solidFill>
            <a:srgbClr val="aef2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1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520" y="274680"/>
            <a:ext cx="670572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Правила гигиены п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95280" y="260280"/>
            <a:ext cx="8280360" cy="244008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lackadder ITC"/>
              </a:rPr>
              <a:t>Каждый прием пищи надо начинать с сырых овощей или фруктов. Овощи и и фрукты, съеденные на пустой желудок, стимулируют работу пищеварительных желез, моторику желудочно-кишечного тракта, способствуют нормализации микрофлоры кишечника.. Есть фрукты на десерт - вредно!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Картинка 8 из 3348"/>
          <p:cNvPicPr/>
          <p:nvPr/>
        </p:nvPicPr>
        <p:blipFill>
          <a:blip r:embed="rId1"/>
          <a:stretch/>
        </p:blipFill>
        <p:spPr>
          <a:xfrm>
            <a:off x="1727280" y="2390760"/>
            <a:ext cx="5508720" cy="4133880"/>
          </a:xfrm>
          <a:prstGeom prst="rect">
            <a:avLst/>
          </a:prstGeom>
          <a:ln w="0">
            <a:noFill/>
          </a:ln>
          <a:effectLst>
            <a:outerShdw dist="215356" dir="2700000" blurRad="0" rotWithShape="0">
              <a:srgbClr val="ffff6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щательно пережевывайте пищу. При жевании происходит не только механическое измельчение пищи, но и частичное расщепление углеводов и некоторых белков под действием ферментов, содержащихся в слю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Картинка 2 из 167"/>
          <p:cNvPicPr/>
          <p:nvPr/>
        </p:nvPicPr>
        <p:blipFill>
          <a:blip r:embed="rId1"/>
          <a:stretch/>
        </p:blipFill>
        <p:spPr>
          <a:xfrm>
            <a:off x="1908000" y="2421000"/>
            <a:ext cx="5077080" cy="3800520"/>
          </a:xfrm>
          <a:prstGeom prst="rect">
            <a:avLst/>
          </a:prstGeom>
          <a:ln w="0">
            <a:noFill/>
          </a:ln>
          <a:effectLst>
            <a:outerShdw dist="206639" dir="2848269" blurRad="0" rotWithShape="0">
              <a:srgbClr val="cc66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doni MT Poster Compressed"/>
              </a:rPr>
              <a:t>Не надо пить непосредственно перед приемом пищи, во время и сразу после еды. Пить надо минимум за полчаса до еды и не ранее чем через час после е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Картинка 13 из 378"/>
          <p:cNvPicPr/>
          <p:nvPr/>
        </p:nvPicPr>
        <p:blipFill>
          <a:blip r:embed="rId1"/>
          <a:stretch/>
        </p:blipFill>
        <p:spPr>
          <a:xfrm>
            <a:off x="2843280" y="1484280"/>
            <a:ext cx="3228840" cy="5084640"/>
          </a:xfrm>
          <a:prstGeom prst="rect">
            <a:avLst/>
          </a:prstGeom>
          <a:ln w="0">
            <a:noFill/>
          </a:ln>
          <a:effectLst>
            <a:outerShdw dist="171040" dir="2520846" blurRad="0" rotWithShape="0">
              <a:srgbClr val="00cc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doni MT Poster Compressed"/>
              </a:rPr>
              <a:t>Не употребляйте очень холодную (значительно ниже комнатной температуры) и очень горячую (обжигающую рот и губы) пищу и напи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doni MT Poster Compressed"/>
              </a:rPr>
              <a:t>Сразу после еды не принимайтесь за работу, а немного отдохните.. Перерыв должен составлять не менее 15 минут в случае легкой и не менее получаса в случае тяжелой физической работы .</a:t>
            </a:r>
            <a:r>
              <a:rPr b="0" lang="ru-RU" sz="2000" spc="-1" strike="noStrike">
                <a:solidFill>
                  <a:srgbClr val="ffffff"/>
                </a:solidFill>
                <a:latin typeface="Bodoni MT Poster Compresse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Картинка 1 из 215"/>
          <p:cNvPicPr/>
          <p:nvPr/>
        </p:nvPicPr>
        <p:blipFill>
          <a:blip r:embed="rId1"/>
          <a:stretch/>
        </p:blipFill>
        <p:spPr>
          <a:xfrm>
            <a:off x="684360" y="3213000"/>
            <a:ext cx="3771720" cy="3171960"/>
          </a:xfrm>
          <a:prstGeom prst="rect">
            <a:avLst/>
          </a:prstGeom>
          <a:ln w="0">
            <a:noFill/>
          </a:ln>
          <a:effectLst>
            <a:outerShdw dist="161899" dir="2700000" blurRad="0" rotWithShape="0">
              <a:srgbClr val="cc6600">
                <a:alpha val="50000"/>
              </a:srgbClr>
            </a:outerShdw>
          </a:effectLst>
        </p:spPr>
      </p:pic>
      <p:pic>
        <p:nvPicPr>
          <p:cNvPr id="170" name="Picture 4" descr="Картинка 37 из 28506"/>
          <p:cNvPicPr/>
          <p:nvPr/>
        </p:nvPicPr>
        <p:blipFill>
          <a:blip r:embed="rId2"/>
          <a:stretch/>
        </p:blipFill>
        <p:spPr>
          <a:xfrm>
            <a:off x="4859280" y="3429000"/>
            <a:ext cx="3745080" cy="2747880"/>
          </a:xfrm>
          <a:prstGeom prst="rect">
            <a:avLst/>
          </a:prstGeom>
          <a:ln w="0">
            <a:noFill/>
          </a:ln>
          <a:effectLst>
            <a:outerShdw dist="180599" dir="2360257" blurRad="0" rotWithShape="0">
              <a:srgbClr val="cc66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44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94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1060"/>
                            </p:stCondLst>
                            <p:childTnLst>
                              <p:par>
                                <p:cTn id="2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hiller"/>
              </a:rPr>
              <a:t>Ешьте не торопясь, делайте перерывы между блюдами - хотя бы 5, а лучше 10 минут. Завтрак и ужин должны продолжаться не менее получаса, обед - не менее 40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Картинка 40 из 28405"/>
          <p:cNvPicPr/>
          <p:nvPr/>
        </p:nvPicPr>
        <p:blipFill>
          <a:blip r:embed="rId1"/>
          <a:stretch/>
        </p:blipFill>
        <p:spPr>
          <a:xfrm>
            <a:off x="971640" y="2924280"/>
            <a:ext cx="3816360" cy="2946240"/>
          </a:xfrm>
          <a:prstGeom prst="rect">
            <a:avLst/>
          </a:prstGeom>
          <a:ln w="0">
            <a:noFill/>
          </a:ln>
          <a:effectLst>
            <a:outerShdw dist="233684" dir="2700000" blurRad="0" rotWithShape="0">
              <a:srgbClr val="99cc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 Black"/>
              </a:rPr>
              <a:t>Давайте поиграем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Игра «Согласен - не согласен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76280" y="2976840"/>
            <a:ext cx="8194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авда ли, что ежедневно надо выпивать 2 стакана молок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авда ли, что летом можно запастись витаминами на целый год?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авда ли, что молоко полезнее йогурт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авда ли, что в цитрусовых много витамина С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авда ли, что бананы поднимают настроение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ерно ли, что жевательная резинка сохраняет зубы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14[1]"/>
          <p:cNvPicPr/>
          <p:nvPr/>
        </p:nvPicPr>
        <p:blipFill>
          <a:blip r:embed="rId1"/>
          <a:stretch/>
        </p:blipFill>
        <p:spPr>
          <a:xfrm>
            <a:off x="152280" y="228600"/>
            <a:ext cx="1295640" cy="1447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10[1]"/>
          <p:cNvPicPr/>
          <p:nvPr/>
        </p:nvPicPr>
        <p:blipFill>
          <a:blip r:embed="rId2"/>
          <a:stretch/>
        </p:blipFill>
        <p:spPr>
          <a:xfrm>
            <a:off x="6019920" y="5257800"/>
            <a:ext cx="1714320" cy="120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4[1]"/>
          <p:cNvPicPr/>
          <p:nvPr/>
        </p:nvPicPr>
        <p:blipFill>
          <a:blip r:embed="rId3"/>
          <a:stretch/>
        </p:blipFill>
        <p:spPr>
          <a:xfrm>
            <a:off x="6781680" y="129528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506db35c88c0[1]"/>
          <p:cNvPicPr/>
          <p:nvPr/>
        </p:nvPicPr>
        <p:blipFill>
          <a:blip r:embed="rId4"/>
          <a:stretch/>
        </p:blipFill>
        <p:spPr>
          <a:xfrm>
            <a:off x="304920" y="5029200"/>
            <a:ext cx="2666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жир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>
            <a:lum bright="4000"/>
          </a:blip>
          <a:srcRect l="12920" t="29532" r="11075" b="11813"/>
          <a:stretch/>
        </p:blipFill>
        <p:spPr>
          <a:xfrm>
            <a:off x="609480" y="1600200"/>
            <a:ext cx="76201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755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  Продолжить формировать  у учащихся знания в области здорового питания; понимание, что здоровье - это основа интересной, продуктивной жизни, а основа здоровья - это правильное пит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5" descr=""/>
          <p:cNvPicPr/>
          <p:nvPr/>
        </p:nvPicPr>
        <p:blipFill>
          <a:blip r:embed="rId1">
            <a:lum contrast="48000"/>
          </a:blip>
          <a:srcRect l="0" t="0" r="0" b="17516"/>
          <a:stretch/>
        </p:blipFill>
        <p:spPr>
          <a:xfrm>
            <a:off x="4843440" y="1905120"/>
            <a:ext cx="3703680" cy="3951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то интересно (супертяжеловесы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380880" y="1916280"/>
            <a:ext cx="419112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жч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он Бровер Миннок (1941-1983) США 185см 635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йкл Уокер (1934г) США 188см 538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нщ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си Перл (1926 1972) США 183см 399,1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да Мейтленд (1898- 1932г) США 413,2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ахарный диабе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30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ой источник энергии для человека- глюкоза. Она поступает с пищей и доставляется во все клетки организма. Усвоение глюкозы зависит от гормона поджелудочной железы – инсул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ояние при котором концентрация глюкозы в крови превышает норму- н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ахарным диабе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911840" y="2131920"/>
            <a:ext cx="3929040" cy="3810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2"/>
          <a:srcRect l="14028" t="39376" r="46882" b="13289"/>
          <a:stretch/>
        </p:blipFill>
        <p:spPr>
          <a:xfrm>
            <a:off x="4648320" y="1828800"/>
            <a:ext cx="4173480" cy="4114800"/>
          </a:xfrm>
          <a:prstGeom prst="rect">
            <a:avLst/>
          </a:prstGeom>
          <a:ln w="0">
            <a:noFill/>
          </a:ln>
        </p:spPr>
      </p:pic>
      <p:sp>
        <p:nvSpPr>
          <p:cNvPr id="190" name="Oval 5"/>
          <p:cNvSpPr/>
          <p:nvPr/>
        </p:nvSpPr>
        <p:spPr>
          <a:xfrm>
            <a:off x="4284720" y="4797360"/>
            <a:ext cx="914400" cy="9144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7956720" y="2708280"/>
            <a:ext cx="914400" cy="9144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ллерг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16280"/>
            <a:ext cx="355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мунная система человеку нужна, чтобы защищать его от инфекции. Однако иногда она становится слишком восприимчива и начинает бороться с веществами, которые встречаются в природе повсемест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ллерг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состояние повышенной  чувствительности организма к какому- либо веществ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915080" y="1904760"/>
            <a:ext cx="3930480" cy="4190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rcRect l="50205" t="11813" r="11075" b="21657"/>
          <a:stretch/>
        </p:blipFill>
        <p:spPr>
          <a:xfrm>
            <a:off x="3962520" y="1676520"/>
            <a:ext cx="424944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136520" y="1904760"/>
            <a:ext cx="7266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ЗА ВНИМАНИЕ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68940319530a111c1329b9b6a99870b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962520"/>
            <a:ext cx="3962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7093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Формирование у учащихся представления о продуктах питания и питательных веществ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Формирование правильных ориентиров на выбор продуктов питания, на организацию процесса питания в цел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основание правил гигиены пит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4"/>
          <p:cNvSpPr/>
          <p:nvPr/>
        </p:nvSpPr>
        <p:spPr>
          <a:xfrm>
            <a:off x="1600200" y="2666880"/>
            <a:ext cx="342900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пищ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V="1">
            <a:off x="4648320" y="236196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4876920" y="37339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4572000" y="4572000"/>
            <a:ext cx="9144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6019920" y="1295280"/>
            <a:ext cx="2895480" cy="1067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сточник энер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6019920" y="2666880"/>
            <a:ext cx="2819160" cy="1219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сточн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итательных веще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5715000" y="4267080"/>
            <a:ext cx="2819520" cy="129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сточник витами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228600"/>
            <a:ext cx="685800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ую роль играет пища в жизни челове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3" descr="14[1]"/>
          <p:cNvPicPr/>
          <p:nvPr/>
        </p:nvPicPr>
        <p:blipFill>
          <a:blip r:embed="rId1"/>
          <a:stretch/>
        </p:blipFill>
        <p:spPr>
          <a:xfrm>
            <a:off x="838080" y="4800600"/>
            <a:ext cx="1562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Продукты питания – это продукты животного и растительного происхождения, используемые как в обработанном, так и в необработанном виде при питании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3[1]"/>
          <p:cNvPicPr/>
          <p:nvPr/>
        </p:nvPicPr>
        <p:blipFill>
          <a:blip r:embed="rId1"/>
          <a:stretch/>
        </p:blipFill>
        <p:spPr>
          <a:xfrm>
            <a:off x="4114800" y="3200400"/>
            <a:ext cx="213372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4[1]"/>
          <p:cNvPicPr/>
          <p:nvPr/>
        </p:nvPicPr>
        <p:blipFill>
          <a:blip r:embed="rId2"/>
          <a:stretch/>
        </p:blipFill>
        <p:spPr>
          <a:xfrm>
            <a:off x="6324480" y="480060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10[1]"/>
          <p:cNvPicPr/>
          <p:nvPr/>
        </p:nvPicPr>
        <p:blipFill>
          <a:blip r:embed="rId3"/>
          <a:stretch/>
        </p:blipFill>
        <p:spPr>
          <a:xfrm>
            <a:off x="380880" y="152280"/>
            <a:ext cx="2286000" cy="129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2[1]"/>
          <p:cNvPicPr/>
          <p:nvPr/>
        </p:nvPicPr>
        <p:blipFill>
          <a:blip r:embed="rId4"/>
          <a:stretch/>
        </p:blipFill>
        <p:spPr>
          <a:xfrm>
            <a:off x="6858000" y="274320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14[1]"/>
          <p:cNvPicPr/>
          <p:nvPr/>
        </p:nvPicPr>
        <p:blipFill>
          <a:blip r:embed="rId5"/>
          <a:stretch/>
        </p:blipFill>
        <p:spPr>
          <a:xfrm>
            <a:off x="3581280" y="304920"/>
            <a:ext cx="171468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4_3175[1]"/>
          <p:cNvPicPr/>
          <p:nvPr/>
        </p:nvPicPr>
        <p:blipFill>
          <a:blip r:embed="rId6"/>
          <a:stretch/>
        </p:blipFill>
        <p:spPr>
          <a:xfrm>
            <a:off x="6553080" y="152280"/>
            <a:ext cx="1905120" cy="1524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506db35c88c0[1]"/>
          <p:cNvPicPr/>
          <p:nvPr/>
        </p:nvPicPr>
        <p:blipFill>
          <a:blip r:embed="rId7"/>
          <a:stretch/>
        </p:blipFill>
        <p:spPr>
          <a:xfrm>
            <a:off x="152280" y="3657600"/>
            <a:ext cx="3733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тательные вещества – это жизненно необходимые составные части пищи, используемые организмом как материал для построения живого вещества клеток и служащие источником энергии, необходимой для его жизнедеятельност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белки, жиры, углеводы и др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260px-Triglyceride"/>
          <p:cNvPicPr/>
          <p:nvPr/>
        </p:nvPicPr>
        <p:blipFill>
          <a:blip r:embed="rId1"/>
          <a:stretch/>
        </p:blipFill>
        <p:spPr>
          <a:xfrm>
            <a:off x="609480" y="380880"/>
            <a:ext cx="3429000" cy="121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310px-Lactose"/>
          <p:cNvPicPr/>
          <p:nvPr/>
        </p:nvPicPr>
        <p:blipFill>
          <a:blip r:embed="rId2"/>
          <a:stretch/>
        </p:blipFill>
        <p:spPr>
          <a:xfrm>
            <a:off x="4572000" y="304920"/>
            <a:ext cx="388620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500px-Protein_Composite[1]"/>
          <p:cNvPicPr/>
          <p:nvPr/>
        </p:nvPicPr>
        <p:blipFill>
          <a:blip r:embed="rId3"/>
          <a:stretch/>
        </p:blipFill>
        <p:spPr>
          <a:xfrm>
            <a:off x="1523880" y="4114800"/>
            <a:ext cx="6350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 Black"/>
              </a:rPr>
              <a:t>Выписать в правый столбик продукты питания, а в левый – питательные вещества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26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пуста, фасоль, масло, минеральные соли, рис, колбаса, углевод, хлеб, сало, сливки, жир, белок, витамины, рыба, мяс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3657600"/>
          <a:ext cx="8007480" cy="2438280"/>
        </p:xfrm>
        <a:graphic>
          <a:graphicData uri="http://schemas.openxmlformats.org/drawingml/2006/table">
            <a:tbl>
              <a:tblPr/>
              <a:tblGrid>
                <a:gridCol w="4005360"/>
                <a:gridCol w="4002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дукты пит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итатель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доров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временном мире большое внимание уделяется проблеме правильного питания. Было выяснено, что для каждого человека существует свой индивидуальный рацион питания, который зависит от его возраста, веса, здоровья, физических нагрузок и других фактор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РАВИЛЬНО ЛИ Я ПИТАЮСЬ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50px-Steinpilzrisotto[1]"/>
          <p:cNvPicPr/>
          <p:nvPr/>
        </p:nvPicPr>
        <p:blipFill>
          <a:blip r:embed="rId1"/>
          <a:stretch/>
        </p:blipFill>
        <p:spPr>
          <a:xfrm>
            <a:off x="2971800" y="3733920"/>
            <a:ext cx="3174840" cy="281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210px-Milk_glass[1]"/>
          <p:cNvPicPr/>
          <p:nvPr/>
        </p:nvPicPr>
        <p:blipFill>
          <a:blip r:embed="rId2"/>
          <a:stretch/>
        </p:blipFill>
        <p:spPr>
          <a:xfrm>
            <a:off x="6553080" y="4038480"/>
            <a:ext cx="243864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220px-FoodMeat[1]"/>
          <p:cNvPicPr/>
          <p:nvPr/>
        </p:nvPicPr>
        <p:blipFill>
          <a:blip r:embed="rId3"/>
          <a:stretch/>
        </p:blipFill>
        <p:spPr>
          <a:xfrm>
            <a:off x="457200" y="3429000"/>
            <a:ext cx="201132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14[1]"/>
          <p:cNvPicPr/>
          <p:nvPr/>
        </p:nvPicPr>
        <p:blipFill>
          <a:blip r:embed="rId4"/>
          <a:stretch/>
        </p:blipFill>
        <p:spPr>
          <a:xfrm>
            <a:off x="685800" y="152280"/>
            <a:ext cx="1714680" cy="1600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10[1]"/>
          <p:cNvPicPr/>
          <p:nvPr/>
        </p:nvPicPr>
        <p:blipFill>
          <a:blip r:embed="rId5"/>
          <a:stretch/>
        </p:blipFill>
        <p:spPr>
          <a:xfrm>
            <a:off x="6629400" y="228600"/>
            <a:ext cx="17146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20:21:38Z</dcterms:created>
  <dc:creator>Сергей</dc:creator>
  <dc:description/>
  <dc:language>en-US</dc:language>
  <cp:lastModifiedBy>Teacher</cp:lastModifiedBy>
  <dcterms:modified xsi:type="dcterms:W3CDTF">2019-12-19T14:26:5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