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FF9-1DE2-4713-A2C7-42992B26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DA9-5CAD-40E2-9AFD-F32330DF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9FD-AF5B-488A-B44B-3B87D13F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541-3629-4186-AB9C-CDFCD12B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5687-5806-4099-A73C-CD6E4505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5B1E-2F08-4A94-814D-042DD59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573A-8DBD-46DB-B5B3-1F3EA339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B318-D54C-4977-8989-D79E565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F3C-4B0C-4485-9EFD-0D4948F0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9F93-C7DF-4294-9535-E62CE6F9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8422-E918-4675-A477-39F5D29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D81-D4EA-48BC-964C-E73AA8D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BF1-91A2-4312-9425-0D91208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CDA5-F988-49ED-B1DF-CE4024A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FD73-3C30-4791-A8F6-882133A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C13-7F58-4181-AE78-F06E323E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CE68-F8CF-41B1-BCEA-CE94883E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94DAA-98A7-40A2-AD2C-61972CE0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2C6E9-644B-4BA1-A8B1-B5BED96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4E79B-697A-4ECA-8C9F-82E721F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08933-30BF-49E4-9EE3-8C98B04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027DF-0C70-479E-BC9E-A4302EFD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DA7-28D5-455C-B8A4-7FCBBB8E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635FF-4C0E-42DF-A8F2-50C29FC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4D1FC-EE63-46D7-BDBF-6CA2FF1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E2FBC-A46C-4453-82CF-9588240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EE74A-D6A0-4E13-942C-9B3F029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B460D-A7A9-4679-927D-475B64E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DC0BE-DE4A-44E1-9B08-836170C9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4720E-C3B7-44FD-B62B-5BD126DF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5724-C703-4AEC-95A4-B74EC780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6D58-F11E-45B2-9EB3-C97D0B4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A9AA-6C40-4575-BDDF-7BCF7C7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8C-6A9E-4F73-8B16-3141EBB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8132-F403-4AB1-BCFB-3ECF1EF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586D-99BC-48A5-9C9D-2B94FD33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206B-559C-4E47-9340-88D190B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43A0-EC21-4D5B-9B70-3065171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3454-D020-435C-A4E1-B132744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5EDD-B623-48A0-BA2C-7C1345A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AC01-25CA-4DB0-AC87-C67150A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F7B3-622C-4760-BBB7-BBC30F52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A65A-40A6-4B5F-9913-ABCDBBB2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F933-04F4-45B1-8B5C-25075339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D8D-6DB0-4CB7-8CD4-FC50B37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EBBC-73FB-4A18-A568-9C0F633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9DFB-8516-4D74-B5BD-73C1677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1A4E-0042-43A2-B577-EFBF6F12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63CE-C333-4D5A-8AF7-AFC81EC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AFA8-D212-44C2-B2BF-898834F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AD12-68B1-4921-BC92-657A9DD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031D-49E7-428D-BB8F-1142803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9378-13AE-40C3-A36C-BF36A25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12C0-B792-4926-B351-7D26522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32D1-738C-4B82-AF5D-CAFF351B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063-B91B-4518-9197-78BE820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9BB98-712A-46ED-AB04-A0BA173A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C48B-3F41-4718-BC4B-D05F5CBD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E915-4ECE-4B30-BA54-37FFF4F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52ED-ADC9-4B7F-9C21-C8C6AB8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F01A9-E78D-4FA2-A091-69A0FCE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E910-8B99-41D8-867C-75AB2A4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721D-7197-4553-8DBF-03169249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932E-98E6-437A-A852-BE79844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EA60-E511-4802-B7E3-8E0BCFF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11A6A-AD29-4554-812F-1968F38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1E1-CDE3-47DD-AD41-E57B650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9762-F99F-4D43-B1E7-FB54B4CC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EBB1-F6FB-47F7-9FE5-C05E9232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7725-1B12-4245-8DED-453E768E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D2959-2D1F-4BED-9CA3-04AEF81B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03488-7CE8-498B-A2CD-282B830B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1292D-52CF-4DC1-8E4D-F67468A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904CB-809B-4A65-A6A9-ECB173B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6B54E-1CAA-4D54-81C4-CA7636C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04721-E375-4344-8EC9-EAC3F5C6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BD5EA-1624-4CFC-A961-1AA1DB01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C0B-BFAE-4175-B0B6-53C773D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CAD53-53D6-44E4-AB44-EDB0388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EE155-0C99-48B6-B695-7B3EA09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8A936-7487-4652-BF6E-1CF0046E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4F315-67C2-4E21-A91A-D6FDE672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1779F-C591-4AF2-9632-B293FFAE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786-A02C-49C7-9CE5-4710266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6ACF-6551-4DC3-8A65-27D0589AE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2CF-1B4C-4469-8436-14F998A25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4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58F-239F-488F-A577-A74F7CC35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DF9F-286E-433E-8F95-E79C3E2ED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DC5-EBF7-4CF4-991E-13A04F199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5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F0CD-9DA5-440F-8CDB-AC7EAAF05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8B52-7377-4AEE-877E-644C10A27B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 учитель начальных классов МАОУ СОШ №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Эдуарда Есая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ще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движущийся воздух. Земля в разных местах по-разному нагревается солнцем. От Земли нагревается и воздух. Теплый воздух легче холодн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WordArt 4"/>
          <p:cNvSpPr txBox="1"/>
          <p:nvPr/>
        </p:nvSpPr>
        <p:spPr>
          <a:xfrm>
            <a:off x="2124000" y="333360"/>
            <a:ext cx="489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тер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3" name="Picture 8" descr="сканирование0013"/>
          <p:cNvPicPr/>
          <p:nvPr/>
        </p:nvPicPr>
        <p:blipFill>
          <a:blip r:embed="rId1"/>
          <a:stretch/>
        </p:blipFill>
        <p:spPr>
          <a:xfrm>
            <a:off x="4500720" y="1844640"/>
            <a:ext cx="4248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WordArt 4"/>
          <p:cNvSpPr txBox="1"/>
          <p:nvPr/>
        </p:nvSpPr>
        <p:spPr>
          <a:xfrm>
            <a:off x="1619280" y="0"/>
            <a:ext cx="6561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гадай кроссворд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7" name="Picture 5" descr="сканирование0014"/>
          <p:cNvPicPr/>
          <p:nvPr/>
        </p:nvPicPr>
        <p:blipFill>
          <a:blip r:embed="rId4"/>
          <a:stretch/>
        </p:blipFill>
        <p:spPr>
          <a:xfrm>
            <a:off x="611280" y="177336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Нарисуй отдельно веселый дождик и грустный дожд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Ответь на вопросы: Какими словами можно описать ветер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Нужны ли дождь и ветер в природе и человеку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WordArt 4"/>
          <p:cNvSpPr txBox="1"/>
          <p:nvPr/>
        </p:nvSpPr>
        <p:spPr>
          <a:xfrm>
            <a:off x="971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машнее задани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21" name="Picture 5" descr="96"/>
          <p:cNvPicPr/>
          <p:nvPr/>
        </p:nvPicPr>
        <p:blipFill>
          <a:blip r:embed="rId3"/>
          <a:stretch/>
        </p:blipFill>
        <p:spPr>
          <a:xfrm>
            <a:off x="1547640" y="4797360"/>
            <a:ext cx="23036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Почему идет дождь и дует 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ая задача :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очему на Земле идет дождь и дует ветер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                         Зачем они нужны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умит, но в поле и в саду,а в дом не попадает. И никуда я не иду, покуда он и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ит без крыльев и поет, прохожих задирает. Одним проходу не дает, Других он подгон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AutoShape 8"/>
          <p:cNvSpPr/>
          <p:nvPr/>
        </p:nvSpPr>
        <p:spPr>
          <a:xfrm>
            <a:off x="6516720" y="1989000"/>
            <a:ext cx="1368360" cy="648000"/>
          </a:xfrm>
          <a:prstGeom prst="cloudCallout">
            <a:avLst>
              <a:gd name="adj1" fmla="val -49652"/>
              <a:gd name="adj2" fmla="val -3676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6659280" y="263700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7093080" y="270828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7596360" y="2637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7380360" y="29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6803640" y="3068640"/>
            <a:ext cx="730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14" descr="ветер"/>
          <p:cNvPicPr/>
          <p:nvPr/>
        </p:nvPicPr>
        <p:blipFill>
          <a:blip r:embed="rId3"/>
          <a:stretch/>
        </p:blipFill>
        <p:spPr>
          <a:xfrm>
            <a:off x="4932360" y="3860640"/>
            <a:ext cx="3749760" cy="21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ff"/>
                </a:solidFill>
                <a:latin typeface="Arial"/>
              </a:rPr>
              <a:t>Какие бывают дожди</a:t>
            </a:r>
            <a:r>
              <a:rPr b="1" i="1" lang="en-US" sz="4400" spc="-1" strike="noStrike">
                <a:solidFill>
                  <a:srgbClr val="cc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вень, или проливной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2"/>
          <p:cNvGrpSpPr/>
          <p:nvPr/>
        </p:nvGrpSpPr>
        <p:grpSpPr>
          <a:xfrm>
            <a:off x="5148360" y="2781360"/>
            <a:ext cx="576000" cy="792000"/>
            <a:chOff x="5148360" y="2781360"/>
            <a:chExt cx="576000" cy="792000"/>
          </a:xfrm>
        </p:grpSpPr>
        <p:sp>
          <p:nvSpPr>
            <p:cNvPr id="865" name="AutoShape 7"/>
            <p:cNvSpPr/>
            <p:nvPr/>
          </p:nvSpPr>
          <p:spPr>
            <a:xfrm>
              <a:off x="5148360" y="2781360"/>
              <a:ext cx="576000" cy="2872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8"/>
            <p:cNvSpPr/>
            <p:nvPr/>
          </p:nvSpPr>
          <p:spPr>
            <a:xfrm>
              <a:off x="5292720" y="314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9"/>
            <p:cNvSpPr/>
            <p:nvPr/>
          </p:nvSpPr>
          <p:spPr>
            <a:xfrm>
              <a:off x="5435640" y="314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0"/>
            <p:cNvSpPr/>
            <p:nvPr/>
          </p:nvSpPr>
          <p:spPr>
            <a:xfrm>
              <a:off x="5580000" y="3141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11"/>
            <p:cNvSpPr/>
            <p:nvPr/>
          </p:nvSpPr>
          <p:spPr>
            <a:xfrm>
              <a:off x="5364000" y="3213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12"/>
            <p:cNvSpPr/>
            <p:nvPr/>
          </p:nvSpPr>
          <p:spPr>
            <a:xfrm>
              <a:off x="550872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3"/>
            <p:cNvSpPr/>
            <p:nvPr/>
          </p:nvSpPr>
          <p:spPr>
            <a:xfrm>
              <a:off x="5219640" y="33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4"/>
            <p:cNvSpPr/>
            <p:nvPr/>
          </p:nvSpPr>
          <p:spPr>
            <a:xfrm>
              <a:off x="5364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5"/>
            <p:cNvSpPr/>
            <p:nvPr/>
          </p:nvSpPr>
          <p:spPr>
            <a:xfrm>
              <a:off x="5651640" y="33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5867280" y="1413000"/>
            <a:ext cx="1944720" cy="1368360"/>
            <a:chOff x="5867280" y="1413000"/>
            <a:chExt cx="1944720" cy="1368360"/>
          </a:xfrm>
        </p:grpSpPr>
        <p:sp>
          <p:nvSpPr>
            <p:cNvPr id="875" name="Line 17"/>
            <p:cNvSpPr/>
            <p:nvPr/>
          </p:nvSpPr>
          <p:spPr>
            <a:xfrm>
              <a:off x="61563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18"/>
            <p:cNvSpPr/>
            <p:nvPr/>
          </p:nvSpPr>
          <p:spPr>
            <a:xfrm>
              <a:off x="6227640" y="1844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19"/>
            <p:cNvSpPr/>
            <p:nvPr/>
          </p:nvSpPr>
          <p:spPr>
            <a:xfrm>
              <a:off x="6372360" y="1844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20"/>
            <p:cNvSpPr/>
            <p:nvPr/>
          </p:nvSpPr>
          <p:spPr>
            <a:xfrm>
              <a:off x="6516720" y="184464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2"/>
            <p:cNvSpPr/>
            <p:nvPr/>
          </p:nvSpPr>
          <p:spPr>
            <a:xfrm>
              <a:off x="6588000" y="1844640"/>
              <a:ext cx="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3"/>
            <p:cNvSpPr/>
            <p:nvPr/>
          </p:nvSpPr>
          <p:spPr>
            <a:xfrm>
              <a:off x="680400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6"/>
            <p:cNvSpPr/>
            <p:nvPr/>
          </p:nvSpPr>
          <p:spPr>
            <a:xfrm>
              <a:off x="6948360" y="1916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27"/>
            <p:cNvSpPr/>
            <p:nvPr/>
          </p:nvSpPr>
          <p:spPr>
            <a:xfrm>
              <a:off x="7093080" y="1844640"/>
              <a:ext cx="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28"/>
            <p:cNvSpPr/>
            <p:nvPr/>
          </p:nvSpPr>
          <p:spPr>
            <a:xfrm>
              <a:off x="7308720" y="1844640"/>
              <a:ext cx="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9"/>
            <p:cNvSpPr/>
            <p:nvPr/>
          </p:nvSpPr>
          <p:spPr>
            <a:xfrm>
              <a:off x="6732720" y="184464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30"/>
            <p:cNvSpPr/>
            <p:nvPr/>
          </p:nvSpPr>
          <p:spPr>
            <a:xfrm>
              <a:off x="6877080" y="191628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6"/>
            <p:cNvSpPr/>
            <p:nvPr/>
          </p:nvSpPr>
          <p:spPr>
            <a:xfrm>
              <a:off x="5867280" y="1413000"/>
              <a:ext cx="1944720" cy="576000"/>
            </a:xfrm>
            <a:prstGeom prst="cloudCallout">
              <a:avLst>
                <a:gd name="adj1" fmla="val -43712"/>
                <a:gd name="adj2" fmla="val 3980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Text Box 34"/>
          <p:cNvSpPr/>
          <p:nvPr/>
        </p:nvSpPr>
        <p:spPr>
          <a:xfrm>
            <a:off x="250920" y="270828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итничек – мелкий дождь, как из с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6"/>
          <p:cNvSpPr/>
          <p:nvPr/>
        </p:nvSpPr>
        <p:spPr>
          <a:xfrm>
            <a:off x="2843280" y="4221000"/>
            <a:ext cx="396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осой дождь, или косохл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43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172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Ту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Это темное, густое облако. Если появились тучи – жди дождя.  Капельки воды, из которых состоят тучи, тяжелые. Они не могут долго держаться в небе и падают на землю. Вот и получается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8" descr="рис"/>
          <p:cNvPicPr/>
          <p:nvPr/>
        </p:nvPicPr>
        <p:blipFill>
          <a:blip r:embed="rId1"/>
          <a:stretch/>
        </p:blipFill>
        <p:spPr>
          <a:xfrm>
            <a:off x="4643280" y="1916280"/>
            <a:ext cx="410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Есть на свете конь – всему миру не сдер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Без рук, без ног, по полю рыщет, поет да свищет, деревья ломает, к земле приклоня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7"/>
          <p:cNvSpPr txBox="1"/>
          <p:nvPr/>
        </p:nvSpPr>
        <p:spPr>
          <a:xfrm>
            <a:off x="2916360" y="620640"/>
            <a:ext cx="3457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гадай загадки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7" name="Picture 9" descr="ветер"/>
          <p:cNvPicPr/>
          <p:nvPr/>
        </p:nvPicPr>
        <p:blipFill>
          <a:blip r:embed="rId1"/>
          <a:stretch/>
        </p:blipFill>
        <p:spPr>
          <a:xfrm>
            <a:off x="4792680" y="2808360"/>
            <a:ext cx="37497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ры на Земле бывают разные. Бывают легкие и теплые, приносящие освежающую прохла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бывают сильные и грозные – ураганы, тайфуны и смерчи. Они приносят много разруш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WordArt 4"/>
          <p:cNvSpPr txBox="1"/>
          <p:nvPr/>
        </p:nvSpPr>
        <p:spPr>
          <a:xfrm>
            <a:off x="2268360" y="476280"/>
            <a:ext cx="4496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бывают ветры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901" name="Picture 5" descr="j0090386"/>
          <p:cNvPicPr/>
          <p:nvPr/>
        </p:nvPicPr>
        <p:blipFill>
          <a:blip r:embed="rId1"/>
          <a:stretch/>
        </p:blipFill>
        <p:spPr>
          <a:xfrm>
            <a:off x="6300720" y="2565360"/>
            <a:ext cx="2625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етры переносят семена многих растений, помогают работать мельницам, плыть пару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 еще ветер приносит летом прохладу, очищает воздух от пыли, гари и копоти, выбрасываемых в воздух заводами и маш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WordArt 4"/>
          <p:cNvSpPr txBox="1"/>
          <p:nvPr/>
        </p:nvSpPr>
        <p:spPr>
          <a:xfrm>
            <a:off x="250920" y="260280"/>
            <a:ext cx="84978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ен   ли    ветер    живущим    на    Земле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5" name="Picture 8" descr="j0285360"/>
          <p:cNvPicPr/>
          <p:nvPr/>
        </p:nvPicPr>
        <p:blipFill>
          <a:blip r:embed="rId2"/>
          <a:stretch/>
        </p:blipFill>
        <p:spPr>
          <a:xfrm>
            <a:off x="6300720" y="342900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0" descr="j0284916"/>
          <p:cNvPicPr/>
          <p:nvPr/>
        </p:nvPicPr>
        <p:blipFill>
          <a:blip r:embed="rId3"/>
          <a:stretch/>
        </p:blipFill>
        <p:spPr>
          <a:xfrm>
            <a:off x="5580000" y="1700280"/>
            <a:ext cx="24494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ожет ли человек создать искусственный ветер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ентилятор – предназначен для движения воздуха которым мы ды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квозняк . Если в помещении открыть одновременно форточку и дверь,  то возникает сильное движ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7" descr="329"/>
          <p:cNvPicPr/>
          <p:nvPr/>
        </p:nvPicPr>
        <p:blipFill>
          <a:blip r:embed="rId1"/>
          <a:stretch/>
        </p:blipFill>
        <p:spPr>
          <a:xfrm>
            <a:off x="5149800" y="1844640"/>
            <a:ext cx="2708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3:47:54Z</dcterms:created>
  <dc:creator>Student</dc:creator>
  <dc:description/>
  <dc:language>en-US</dc:language>
  <cp:lastModifiedBy>USER</cp:lastModifiedBy>
  <dcterms:modified xsi:type="dcterms:W3CDTF">2019-12-19T15:31:23Z</dcterms:modified>
  <cp:revision>21</cp:revision>
  <dc:subject/>
  <dc:title>Слайд 1</dc:title>
</cp:coreProperties>
</file>