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BB8-69D9-4045-9A11-356F1A3F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DA8-7778-4FF5-B0E5-D15C4E2B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121-C23C-48E8-B82C-22E32FCC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6E2-7BB0-4C00-AB66-8E935A29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83E-55F1-4E39-9716-6A0B1C25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9C7-DF77-4024-90AB-000E27F4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430-916E-4FF4-889D-028F2FC2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4EB-41F7-4970-97D9-9AC4003D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B36-F89E-49D6-989B-15638E3A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50C-C0D7-43CC-8E32-C3849B14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997-66BE-4B3D-87E5-181727B0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BCE-1C29-48BC-957F-371D59C6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37D2-A675-4765-9800-43B7C7101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in-crisis.ru/_nw/26/3667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rtalinvest.ru/upload/iblock/933/yumhtkh-1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vladnews.ru/uploads/01/20/77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g.oboz.obozrevatel.com/files/NewsPhoto/2008/05/07/235678/85985_image_large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gazetaby.com/i/2008/05/nar121_resize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za-chayem.ru/20081022193605.jpg" TargetMode="External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ipack.ru/board_img/165868_2.gif?1264046654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irc.lv/images/qna/422804_156421.jpe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food.prompages.ru/images/gallary/66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evgen-tatarkin.narod2.ru/rekomenduemii_assortiment/277379_1.jpg?rand=263527218475772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www.regional.com.ua/data/uploaded/ff73a229-03b5-480b-bf0c-0ec6c5b4bce6.jpg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www.yabl.ru/upload/board/advert/adv_1246528716_394.jpg" TargetMode="External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r.ru/images/bread-2602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kugarchi.ru/uploads/posts/2009-04/1239280771_prod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66.rospotrebnadzor.ru/UPLOAD/2009/07/29/produkti_400_0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otvetin.ru/uploads/posts/2009-10/1255196534_produkty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glasweb.com/images/photos/news_35493_1.jpg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lasweb.com/images/photos/news_35493_1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vladnews.ru/uploads/01/20/77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48&amp;ed=1&amp;stype=simage&amp;text=&#1082;&#1072;&#1088;&#1090;&#1080;&#1085;&#1082;&#1080;%20&#1084;&#1072;&#1075;&#1072;&#1079;&#1080;&#1085;&#1086;&#1074;%20&#1080;%20&#1087;&#1088;&#1086;&#1076;&#1091;&#1082;&#1090;&#1086;&#1074;%20&#1087;&#1080;&#1090;&#1072;&#1085;&#1080;&#1103;&amp;spsite=fake-026-120531.ru&amp;img_url=crisiskill.ru/wp-content/uploads/socialniya-magazin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aif.ru/application/public/news/398/1fae250be67aa8954f3cc656cca2431a_big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rc.lv/images/qna/422804_156421.jpe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za-chayem.ru/20081022193605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azetaby.com/i/2008/05/nar121_resiz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66.rospotrebnadzor.ru/UPLOAD/2009/07/29/produkti_400_0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like to go shopping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http://im3-tub.yandex.net/i?id=63358451&amp;tov=3"/>
          <p:cNvPicPr/>
          <p:nvPr/>
        </p:nvPicPr>
        <p:blipFill>
          <a:blip r:embed="rId1"/>
          <a:stretch/>
        </p:blipFill>
        <p:spPr>
          <a:xfrm>
            <a:off x="228600" y="1828800"/>
            <a:ext cx="3556080" cy="2362320"/>
          </a:xfrm>
          <a:prstGeom prst="rect">
            <a:avLst/>
          </a:prstGeom>
          <a:ln w="0">
            <a:noFill/>
          </a:ln>
        </p:spPr>
      </p:pic>
      <p:pic>
        <p:nvPicPr>
          <p:cNvPr id="43" name="i-main-pic" descr="Картинка 5 из 172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35268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ocer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419720" y="1828800"/>
            <a:ext cx="190476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ug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90920" y="3352680"/>
            <a:ext cx="190476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Oi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914400" y="1371600"/>
            <a:ext cx="19051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g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-main-pic" descr="Картинка 19 из 17283"/>
          <p:cNvPicPr/>
          <p:nvPr/>
        </p:nvPicPr>
        <p:blipFill>
          <a:blip r:embed="rId1"/>
          <a:stretch/>
        </p:blipFill>
        <p:spPr>
          <a:xfrm>
            <a:off x="4724280" y="2743200"/>
            <a:ext cx="42022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ngrocer'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952880" y="2057400"/>
            <a:ext cx="19051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p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752480" y="3352680"/>
            <a:ext cx="266724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otato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85800" y="1600200"/>
            <a:ext cx="243828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On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27 из 17283"/>
          <p:cNvPicPr/>
          <p:nvPr/>
        </p:nvPicPr>
        <p:blipFill>
          <a:blip r:embed="rId1"/>
          <a:stretch/>
        </p:blipFill>
        <p:spPr>
          <a:xfrm>
            <a:off x="4952880" y="3352680"/>
            <a:ext cx="3581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4800600"/>
            <a:ext cx="22096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loaf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3520" y="3429000"/>
            <a:ext cx="23619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ja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819520" y="6172200"/>
            <a:ext cx="23619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mo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895480" y="1143000"/>
            <a:ext cx="20574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g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819520" y="1905120"/>
            <a:ext cx="2133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57200" y="4114800"/>
            <a:ext cx="228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cart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33520" y="5486400"/>
            <a:ext cx="23619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kilo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57200" y="6172200"/>
            <a:ext cx="2362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bottl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743200" y="4114800"/>
            <a:ext cx="228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4800600"/>
            <a:ext cx="2362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895480" y="5486400"/>
            <a:ext cx="2210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819520" y="2743200"/>
            <a:ext cx="2133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w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57200" y="2743200"/>
            <a:ext cx="2362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box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895480" y="3429000"/>
            <a:ext cx="20574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533520" y="1905120"/>
            <a:ext cx="23619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ba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33520" y="1143000"/>
            <a:ext cx="23619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do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-main-pic" descr="Картинка 15 из 17283"/>
          <p:cNvPicPr/>
          <p:nvPr/>
        </p:nvPicPr>
        <p:blipFill>
          <a:blip r:embed="rId1"/>
          <a:stretch/>
        </p:blipFill>
        <p:spPr>
          <a:xfrm>
            <a:off x="5638680" y="990720"/>
            <a:ext cx="2954520" cy="1938240"/>
          </a:xfrm>
          <a:prstGeom prst="rect">
            <a:avLst/>
          </a:prstGeom>
          <a:ln w="0">
            <a:noFill/>
          </a:ln>
        </p:spPr>
      </p:pic>
      <p:pic>
        <p:nvPicPr>
          <p:cNvPr id="120" name="i-main-pic" descr="Картинка 78 из 17283"/>
          <p:cNvPicPr/>
          <p:nvPr/>
        </p:nvPicPr>
        <p:blipFill>
          <a:blip r:embed="rId2"/>
          <a:stretch/>
        </p:blipFill>
        <p:spPr>
          <a:xfrm>
            <a:off x="5638680" y="3809880"/>
            <a:ext cx="292104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hello_html_m760cfdaf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733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tche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ce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ngroce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ke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i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per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-main-pic" descr="Картинка 2 из 172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5228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i-main-pic" descr="Картинка 15 из 172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15228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i-main-pic" descr="Картинка 27 из 172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350532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i-main-pic" descr="Картинка 78 из 1728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4952880"/>
            <a:ext cx="25909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i-main-pic" descr="Картинка 197 из 1728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52388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32"/>
          <p:cNvPicPr/>
          <p:nvPr/>
        </p:nvPicPr>
        <p:blipFill>
          <a:blip r:embed="rId11"/>
          <a:stretch/>
        </p:blipFill>
        <p:spPr>
          <a:xfrm>
            <a:off x="6983280" y="2514600"/>
            <a:ext cx="2160720" cy="189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70001_1"/>
          <p:cNvPicPr/>
          <p:nvPr/>
        </p:nvPicPr>
        <p:blipFill>
          <a:blip r:embed="rId12"/>
          <a:stretch/>
        </p:blipFill>
        <p:spPr>
          <a:xfrm>
            <a:off x="990720" y="4495680"/>
            <a:ext cx="31780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-main-pic" descr="Картинка 174 из 172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228600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i-main-pic" descr="Картинка 199 из 172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0"/>
            <a:ext cx="152424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i-main-pic" descr="Картинка 67 из 172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243828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i-main-pic" descr="Картинка 65 из 1728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80060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i-main-pic" descr="Картинка 59 из 1728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29400" y="4419720"/>
            <a:ext cx="152388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i-main-pic" descr="Картинка 18 из 1728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00800" y="380880"/>
            <a:ext cx="1523880" cy="2210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1"/>
          <p:cNvSpPr/>
          <p:nvPr/>
        </p:nvSpPr>
        <p:spPr>
          <a:xfrm>
            <a:off x="380880" y="175248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ack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j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loa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ott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911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main-pic" descr="Картинка 203 из 172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63" name="i-main-pic" descr="Картинка 49 из 172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4038480"/>
            <a:ext cx="2762280" cy="1658880"/>
          </a:xfrm>
          <a:prstGeom prst="rect">
            <a:avLst/>
          </a:prstGeom>
          <a:ln w="0">
            <a:noFill/>
          </a:ln>
        </p:spPr>
      </p:pic>
      <p:pic>
        <p:nvPicPr>
          <p:cNvPr id="64" name="i-main-pic" descr="Картинка 43 из 172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1905120"/>
            <a:ext cx="2381400" cy="1890720"/>
          </a:xfrm>
          <a:prstGeom prst="rect">
            <a:avLst/>
          </a:prstGeom>
          <a:ln w="0">
            <a:noFill/>
          </a:ln>
        </p:spPr>
      </p:pic>
      <p:pic>
        <p:nvPicPr>
          <p:cNvPr id="65" name="i-main-pic" descr="Картинка 20 из 1728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4343400"/>
            <a:ext cx="213372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i-main-pic" descr="Картинка 19 из 1728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24480" y="1752480"/>
            <a:ext cx="2460600" cy="1849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380880" y="1295280"/>
            <a:ext cx="28958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us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co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and how 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w            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ttle            a lit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lo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uch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-main-pic" descr="Картинка 19 из 172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65760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i-main-pic" descr="Картинка 15 из 172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1295280"/>
            <a:ext cx="295416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3" descr="http://im7-tub.yandex.net/i?id=36888770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1295280"/>
            <a:ext cx="2495520" cy="1739880"/>
          </a:xfrm>
          <a:prstGeom prst="rect">
            <a:avLst/>
          </a:prstGeom>
          <a:ln w="0">
            <a:noFill/>
          </a:ln>
        </p:spPr>
      </p:pic>
      <p:pic>
        <p:nvPicPr>
          <p:cNvPr id="74" name="i-main-pic" descr="Картинка 217 из 172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505320"/>
            <a:ext cx="3245040" cy="236052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533520" y="1371600"/>
            <a:ext cx="4114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help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like to bu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does it c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you 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aker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038480" y="1676520"/>
            <a:ext cx="19051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09480" y="1295280"/>
            <a:ext cx="19051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re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828800" y="3200400"/>
            <a:ext cx="19051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 c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-main-pic" descr="Картинка 199 из 172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828800"/>
            <a:ext cx="2784600" cy="2784600"/>
          </a:xfrm>
          <a:prstGeom prst="rect">
            <a:avLst/>
          </a:prstGeom>
          <a:ln w="0">
            <a:noFill/>
          </a:ln>
        </p:spPr>
      </p:pic>
      <p:pic>
        <p:nvPicPr>
          <p:cNvPr id="81" name="i-main-pic" descr="Картинка 197 из 172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267080"/>
            <a:ext cx="3254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utcher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648320" y="1523880"/>
            <a:ext cx="190476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H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905120" y="3048120"/>
            <a:ext cx="198108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1295280"/>
            <a:ext cx="304776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au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-main-pic" descr="Картинка 78 из 172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971800"/>
            <a:ext cx="39751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ai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267080" y="1523880"/>
            <a:ext cx="19051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ut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523880" y="2666880"/>
            <a:ext cx="19051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il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09480" y="1143000"/>
            <a:ext cx="274320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hee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-main-pic" descr="Картинка 43 из 172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895480"/>
            <a:ext cx="40100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1-19T18:20:4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