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D02-8599-4F64-B6E5-83BB93F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889-2572-4EE2-B705-FC5F9A4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DAE-54FB-4A2D-A439-C8A8FB89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8DB-EB74-4B9F-9FE4-2FC9721E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E2A-5D76-4409-8A91-9929BF0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609-95B7-4DF4-BC7F-8BCB38A1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099-9A52-4A5E-B98C-936B45E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0DC-21E2-488E-843B-4F0FC829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DA8-212A-43E1-8031-7D03A8E7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CDE-21DB-446E-B644-CDB187C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4E0-CC63-4570-B1DB-A6902D1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844-D2BA-4AC6-8D15-EE90B58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9B8-3F53-4003-BD85-F7F52D6AB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щева Нина Александ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17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Эдуарда Еса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Капля 22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Капля 23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Капля 24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25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Капля 26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Капля 27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Капля 28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Капля 29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Капля 30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Капля 31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Капля 36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47"/>
          <p:cNvGrpSpPr/>
          <p:nvPr/>
        </p:nvGrpSpPr>
        <p:grpSpPr>
          <a:xfrm>
            <a:off x="457200" y="2743200"/>
            <a:ext cx="5815080" cy="2957400"/>
            <a:chOff x="457200" y="2743200"/>
            <a:chExt cx="5815080" cy="2957400"/>
          </a:xfrm>
        </p:grpSpPr>
        <p:grpSp>
          <p:nvGrpSpPr>
            <p:cNvPr id="167" name="Группа 20"/>
            <p:cNvGrpSpPr/>
            <p:nvPr/>
          </p:nvGrpSpPr>
          <p:grpSpPr>
            <a:xfrm>
              <a:off x="533160" y="2743200"/>
              <a:ext cx="5739120" cy="2957400"/>
              <a:chOff x="533160" y="2743200"/>
              <a:chExt cx="5739120" cy="2957400"/>
            </a:xfrm>
          </p:grpSpPr>
          <p:sp>
            <p:nvSpPr>
              <p:cNvPr id="168" name="Овал 37"/>
              <p:cNvSpPr/>
              <p:nvPr/>
            </p:nvSpPr>
            <p:spPr>
              <a:xfrm>
                <a:off x="2446200" y="3414600"/>
                <a:ext cx="409320" cy="1076400"/>
              </a:xfrm>
              <a:prstGeom prst="ellipse">
                <a:avLst/>
              </a:prstGeom>
              <a:solidFill>
                <a:srgbClr val="66cc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2" descr="I:\для перегрузки\гномы\4.bmp"/>
              <p:cNvPicPr/>
              <p:nvPr/>
            </p:nvPicPr>
            <p:blipFill>
              <a:blip r:embed="rId2"/>
              <a:stretch/>
            </p:blipFill>
            <p:spPr>
              <a:xfrm>
                <a:off x="533160" y="2743200"/>
                <a:ext cx="5739120" cy="295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0" name="Picture 3" descr="D:\новый диск\картинки\картинки овые\фоны\мои\для задач\000000л.jpg"/>
            <p:cNvPicPr/>
            <p:nvPr/>
          </p:nvPicPr>
          <p:blipFill>
            <a:blip r:embed="rId3"/>
            <a:stretch/>
          </p:blipFill>
          <p:spPr>
            <a:xfrm>
              <a:off x="4419720" y="5029200"/>
              <a:ext cx="6858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Группа 40"/>
            <p:cNvGrpSpPr/>
            <p:nvPr/>
          </p:nvGrpSpPr>
          <p:grpSpPr>
            <a:xfrm>
              <a:off x="457200" y="4419720"/>
              <a:ext cx="1500120" cy="944640"/>
              <a:chOff x="457200" y="4419720"/>
              <a:chExt cx="1500120" cy="944640"/>
            </a:xfrm>
          </p:grpSpPr>
          <p:pic>
            <p:nvPicPr>
              <p:cNvPr id="172" name="Picture 2" descr="D:\новый диск\картинки\картинки овые\фоны\мои\для задач\000000алмаз.bmp"/>
              <p:cNvPicPr/>
              <p:nvPr/>
            </p:nvPicPr>
            <p:blipFill>
              <a:blip r:embed="rId4"/>
              <a:stretch/>
            </p:blipFill>
            <p:spPr>
              <a:xfrm>
                <a:off x="457200" y="4848480"/>
                <a:ext cx="59508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3" descr="D:\новый диск\картинки\картинки овые\фоны\мои\для задач\000000л.jpg"/>
              <p:cNvPicPr/>
              <p:nvPr/>
            </p:nvPicPr>
            <p:blipFill>
              <a:blip r:embed="rId5"/>
              <a:stretch/>
            </p:blipFill>
            <p:spPr>
              <a:xfrm>
                <a:off x="814320" y="4848480"/>
                <a:ext cx="553680" cy="49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3" descr="D:\новый диск\картинки\картинки овые\фоны\мои\для задач\000000л.jpg"/>
              <p:cNvPicPr/>
              <p:nvPr/>
            </p:nvPicPr>
            <p:blipFill>
              <a:blip r:embed="rId6"/>
              <a:stretch/>
            </p:blipFill>
            <p:spPr>
              <a:xfrm>
                <a:off x="1171440" y="4723200"/>
                <a:ext cx="50004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3" descr="D:\новый диск\картинки\картинки овые\фоны\мои\для задач\000000л.jpg"/>
              <p:cNvPicPr/>
              <p:nvPr/>
            </p:nvPicPr>
            <p:blipFill>
              <a:blip r:embed="rId7"/>
              <a:stretch/>
            </p:blipFill>
            <p:spPr>
              <a:xfrm>
                <a:off x="1314360" y="4562640"/>
                <a:ext cx="553680" cy="49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3" descr="D:\новый диск\картинки\картинки овые\фоны\мои\для задач\000000л.jpg"/>
              <p:cNvPicPr/>
              <p:nvPr/>
            </p:nvPicPr>
            <p:blipFill>
              <a:blip r:embed="rId8"/>
              <a:stretch/>
            </p:blipFill>
            <p:spPr>
              <a:xfrm>
                <a:off x="957240" y="4419720"/>
                <a:ext cx="51444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3" descr="D:\новый диск\картинки\картинки овые\фоны\мои\для задач\000000л.jpg"/>
              <p:cNvPicPr/>
              <p:nvPr/>
            </p:nvPicPr>
            <p:blipFill>
              <a:blip r:embed="rId9"/>
              <a:stretch/>
            </p:blipFill>
            <p:spPr>
              <a:xfrm>
                <a:off x="1457280" y="4919760"/>
                <a:ext cx="50004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29"/>
          <p:cNvSpPr/>
          <p:nvPr/>
        </p:nvSpPr>
        <p:spPr>
          <a:xfrm>
            <a:off x="4572000" y="1197000"/>
            <a:ext cx="3168720" cy="1295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4 +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91" dur="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animClr clrSpc="rgb">
                                      <p:cBhvr>
                                        <p:cTn id="6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14" dur="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15" dur="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26" dur="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27" dur="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,41,-8)"/>
                                      </p:to>
                                    </p:set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4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46" dur="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47" dur="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58" dur="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59" dur="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70" dur="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71" dur="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682" dur="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683" dur="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animClr clrSpc="rgb">
                                      <p:cBhvr>
                                        <p:cTn id="694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set>
                                      <p:cBhvr>
                                        <p:cTn id="695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Овал 37"/>
          <p:cNvSpPr/>
          <p:nvPr/>
        </p:nvSpPr>
        <p:spPr>
          <a:xfrm>
            <a:off x="4800600" y="2971800"/>
            <a:ext cx="13716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Группа 19"/>
          <p:cNvGrpSpPr/>
          <p:nvPr/>
        </p:nvGrpSpPr>
        <p:grpSpPr>
          <a:xfrm>
            <a:off x="3827880" y="2167560"/>
            <a:ext cx="3215160" cy="2883240"/>
            <a:chOff x="3827880" y="2167560"/>
            <a:chExt cx="3215160" cy="2883240"/>
          </a:xfrm>
        </p:grpSpPr>
        <p:grpSp>
          <p:nvGrpSpPr>
            <p:cNvPr id="181" name="Группа 18"/>
            <p:cNvGrpSpPr/>
            <p:nvPr/>
          </p:nvGrpSpPr>
          <p:grpSpPr>
            <a:xfrm>
              <a:off x="5330880" y="2770560"/>
              <a:ext cx="1067040" cy="690840"/>
              <a:chOff x="5330880" y="2770560"/>
              <a:chExt cx="1067040" cy="690840"/>
            </a:xfrm>
          </p:grpSpPr>
          <p:sp>
            <p:nvSpPr>
              <p:cNvPr id="182" name="Овал 16"/>
              <p:cNvSpPr/>
              <p:nvPr/>
            </p:nvSpPr>
            <p:spPr>
              <a:xfrm rot="826800">
                <a:off x="5383800" y="2849400"/>
                <a:ext cx="726480" cy="533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Овал 17"/>
              <p:cNvSpPr/>
              <p:nvPr/>
            </p:nvSpPr>
            <p:spPr>
              <a:xfrm rot="826800">
                <a:off x="5981400" y="2885760"/>
                <a:ext cx="375120" cy="390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Группа 4"/>
            <p:cNvGrpSpPr/>
            <p:nvPr/>
          </p:nvGrpSpPr>
          <p:grpSpPr>
            <a:xfrm>
              <a:off x="3827880" y="2167560"/>
              <a:ext cx="3215160" cy="2883240"/>
              <a:chOff x="3827880" y="2167560"/>
              <a:chExt cx="3215160" cy="2883240"/>
            </a:xfrm>
          </p:grpSpPr>
          <p:sp>
            <p:nvSpPr>
              <p:cNvPr id="185" name="Блок-схема: объединение 3"/>
              <p:cNvSpPr/>
              <p:nvPr/>
            </p:nvSpPr>
            <p:spPr>
              <a:xfrm rot="2237400">
                <a:off x="4268520" y="3340080"/>
                <a:ext cx="966600" cy="985680"/>
              </a:xfrm>
              <a:prstGeom prst="flowChartMerg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2" descr="I:\для перегрузки\гномы\211889311402t.jpg"/>
              <p:cNvPicPr/>
              <p:nvPr/>
            </p:nvPicPr>
            <p:blipFill>
              <a:blip r:embed="rId2"/>
              <a:stretch/>
            </p:blipFill>
            <p:spPr>
              <a:xfrm rot="1330800">
                <a:off x="4114440" y="2590560"/>
                <a:ext cx="2641680" cy="203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" name="Группа 20"/>
          <p:cNvGrpSpPr/>
          <p:nvPr/>
        </p:nvGrpSpPr>
        <p:grpSpPr>
          <a:xfrm>
            <a:off x="3352680" y="0"/>
            <a:ext cx="2357640" cy="1857240"/>
            <a:chOff x="3352680" y="0"/>
            <a:chExt cx="2357640" cy="1857240"/>
          </a:xfrm>
        </p:grpSpPr>
        <p:sp>
          <p:nvSpPr>
            <p:cNvPr id="188" name="Выноска-облако 6"/>
            <p:cNvSpPr/>
            <p:nvPr/>
          </p:nvSpPr>
          <p:spPr>
            <a:xfrm>
              <a:off x="3352680" y="0"/>
              <a:ext cx="2357640" cy="1857240"/>
            </a:xfrm>
            <a:prstGeom prst="cloudCallout">
              <a:avLst>
                <a:gd name="adj1" fmla="val 3106"/>
                <a:gd name="adj2" fmla="val 91805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4" descr="D:\новый диск\картинки\картинки овые\фоны\клубника\klubnika\klubn081.jpg"/>
            <p:cNvPicPr/>
            <p:nvPr/>
          </p:nvPicPr>
          <p:blipFill>
            <a:blip r:embed="rId3"/>
            <a:stretch/>
          </p:blipFill>
          <p:spPr>
            <a:xfrm>
              <a:off x="4781520" y="21420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" descr="D:\новый диск\картинки\картинки овые\фоны\клубника\klubnika\klubn081.jpg"/>
            <p:cNvPicPr/>
            <p:nvPr/>
          </p:nvPicPr>
          <p:blipFill>
            <a:blip r:embed="rId4"/>
            <a:stretch/>
          </p:blipFill>
          <p:spPr>
            <a:xfrm>
              <a:off x="4781520" y="92844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D:\новый диск\картинки\картинки овые\фоны\клубника\klubnika\klubn081.jpg"/>
            <p:cNvPicPr/>
            <p:nvPr/>
          </p:nvPicPr>
          <p:blipFill>
            <a:blip r:embed="rId5"/>
            <a:stretch/>
          </p:blipFill>
          <p:spPr>
            <a:xfrm>
              <a:off x="4281480" y="2854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" descr="D:\новый диск\картинки\картинки овые\фоны\клубника\klubnika\klubn081.jpg"/>
            <p:cNvPicPr/>
            <p:nvPr/>
          </p:nvPicPr>
          <p:blipFill>
            <a:blip r:embed="rId6"/>
            <a:stretch/>
          </p:blipFill>
          <p:spPr>
            <a:xfrm>
              <a:off x="4281480" y="7858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" descr="D:\новый диск\картинки\картинки овые\фоны\клубника\klubnika\klubn081.jpg"/>
            <p:cNvPicPr/>
            <p:nvPr/>
          </p:nvPicPr>
          <p:blipFill>
            <a:blip r:embed="rId7"/>
            <a:stretch/>
          </p:blipFill>
          <p:spPr>
            <a:xfrm>
              <a:off x="3852720" y="35712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D:\новый диск\картинки\картинки овые\фоны\клубника\klubnika\klubn081.jpg"/>
            <p:cNvPicPr/>
            <p:nvPr/>
          </p:nvPicPr>
          <p:blipFill>
            <a:blip r:embed="rId8"/>
            <a:stretch/>
          </p:blipFill>
          <p:spPr>
            <a:xfrm>
              <a:off x="3781080" y="10000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4" descr="D:\новый диск\картинки\картинки овые\фоны\клубника\klubnika\klubn081.jpg"/>
            <p:cNvPicPr/>
            <p:nvPr/>
          </p:nvPicPr>
          <p:blipFill>
            <a:blip r:embed="rId9"/>
            <a:stretch/>
          </p:blipFill>
          <p:spPr>
            <a:xfrm>
              <a:off x="3423960" y="57132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" descr="D:\новый диск\картинки\картинки овые\фоны\клубника\klubnika\klubn081.jpg"/>
            <p:cNvPicPr/>
            <p:nvPr/>
          </p:nvPicPr>
          <p:blipFill>
            <a:blip r:embed="rId10"/>
            <a:stretch/>
          </p:blipFill>
          <p:spPr>
            <a:xfrm>
              <a:off x="4352760" y="1357200"/>
              <a:ext cx="49212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Капля 25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Капля 26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Капля 27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Капля 28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Капля 29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Капля 30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Капля 31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Капля 32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Капля 33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Капля 34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Капля 35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0" y="1197000"/>
            <a:ext cx="3168720" cy="1295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8 –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740" dur="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741" dur="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752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753" dur="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animClr clrSpc="rgb">
                                      <p:cBhvr>
                                        <p:cTn id="764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7f31"/>
                                      </p:to>
                                    </p:animClr>
                                    <p:set>
                                      <p:cBhvr>
                                        <p:cTn id="765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7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776" dur="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777" dur="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7" dur="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788" dur="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789" dur="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796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00" dur="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01" dur="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08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12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13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20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remove" presetClass="emph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,42,-17)"/>
                                      </p:to>
                                    </p:set>
                                    <p:set>
                                      <p:cBhvr>
                                        <p:cTn id="824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2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28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32" dur="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33" dur="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4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3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44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45" dur="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5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5" dur="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56" dur="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57" dur="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37"/>
          <p:cNvSpPr/>
          <p:nvPr/>
        </p:nvSpPr>
        <p:spPr>
          <a:xfrm>
            <a:off x="4800600" y="2971800"/>
            <a:ext cx="137160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Группа 19"/>
          <p:cNvGrpSpPr/>
          <p:nvPr/>
        </p:nvGrpSpPr>
        <p:grpSpPr>
          <a:xfrm>
            <a:off x="3827880" y="2167560"/>
            <a:ext cx="3215160" cy="2883240"/>
            <a:chOff x="3827880" y="2167560"/>
            <a:chExt cx="3215160" cy="2883240"/>
          </a:xfrm>
        </p:grpSpPr>
        <p:grpSp>
          <p:nvGrpSpPr>
            <p:cNvPr id="211" name="Группа 18"/>
            <p:cNvGrpSpPr/>
            <p:nvPr/>
          </p:nvGrpSpPr>
          <p:grpSpPr>
            <a:xfrm>
              <a:off x="5330880" y="2770560"/>
              <a:ext cx="1067040" cy="690840"/>
              <a:chOff x="5330880" y="2770560"/>
              <a:chExt cx="1067040" cy="690840"/>
            </a:xfrm>
          </p:grpSpPr>
          <p:sp>
            <p:nvSpPr>
              <p:cNvPr id="212" name="Овал 16"/>
              <p:cNvSpPr/>
              <p:nvPr/>
            </p:nvSpPr>
            <p:spPr>
              <a:xfrm rot="826800">
                <a:off x="5383800" y="2849400"/>
                <a:ext cx="726480" cy="533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Овал 17"/>
              <p:cNvSpPr/>
              <p:nvPr/>
            </p:nvSpPr>
            <p:spPr>
              <a:xfrm rot="826800">
                <a:off x="5981400" y="2885760"/>
                <a:ext cx="375120" cy="390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Группа 4"/>
            <p:cNvGrpSpPr/>
            <p:nvPr/>
          </p:nvGrpSpPr>
          <p:grpSpPr>
            <a:xfrm>
              <a:off x="3827880" y="2167560"/>
              <a:ext cx="3215160" cy="2883240"/>
              <a:chOff x="3827880" y="2167560"/>
              <a:chExt cx="3215160" cy="2883240"/>
            </a:xfrm>
          </p:grpSpPr>
          <p:sp>
            <p:nvSpPr>
              <p:cNvPr id="215" name="Блок-схема: объединение 3"/>
              <p:cNvSpPr/>
              <p:nvPr/>
            </p:nvSpPr>
            <p:spPr>
              <a:xfrm rot="2237400">
                <a:off x="4268520" y="3340080"/>
                <a:ext cx="966600" cy="985680"/>
              </a:xfrm>
              <a:prstGeom prst="flowChartMerg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Picture 2" descr="I:\для перегрузки\гномы\211889311402t.jpg"/>
              <p:cNvPicPr/>
              <p:nvPr/>
            </p:nvPicPr>
            <p:blipFill>
              <a:blip r:embed="rId2"/>
              <a:stretch/>
            </p:blipFill>
            <p:spPr>
              <a:xfrm rot="1330800">
                <a:off x="4114440" y="2590560"/>
                <a:ext cx="2641680" cy="203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7" name="Группа 20"/>
          <p:cNvGrpSpPr/>
          <p:nvPr/>
        </p:nvGrpSpPr>
        <p:grpSpPr>
          <a:xfrm>
            <a:off x="3352680" y="0"/>
            <a:ext cx="2357640" cy="1857240"/>
            <a:chOff x="3352680" y="0"/>
            <a:chExt cx="2357640" cy="1857240"/>
          </a:xfrm>
        </p:grpSpPr>
        <p:sp>
          <p:nvSpPr>
            <p:cNvPr id="218" name="Выноска-облако 6"/>
            <p:cNvSpPr/>
            <p:nvPr/>
          </p:nvSpPr>
          <p:spPr>
            <a:xfrm>
              <a:off x="3352680" y="0"/>
              <a:ext cx="2357640" cy="1857240"/>
            </a:xfrm>
            <a:prstGeom prst="cloudCallout">
              <a:avLst>
                <a:gd name="adj1" fmla="val 3106"/>
                <a:gd name="adj2" fmla="val 91805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4" descr="D:\новый диск\картинки\картинки овые\фоны\клубника\klubnika\klubn081.jpg"/>
            <p:cNvPicPr/>
            <p:nvPr/>
          </p:nvPicPr>
          <p:blipFill>
            <a:blip r:embed="rId3"/>
            <a:stretch/>
          </p:blipFill>
          <p:spPr>
            <a:xfrm>
              <a:off x="4781520" y="21420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D:\новый диск\картинки\картинки овые\фоны\клубника\klubnika\klubn081.jpg"/>
            <p:cNvPicPr/>
            <p:nvPr/>
          </p:nvPicPr>
          <p:blipFill>
            <a:blip r:embed="rId4"/>
            <a:stretch/>
          </p:blipFill>
          <p:spPr>
            <a:xfrm>
              <a:off x="4781520" y="92844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D:\новый диск\картинки\картинки овые\фоны\клубника\klubnika\klubn081.jpg"/>
            <p:cNvPicPr/>
            <p:nvPr/>
          </p:nvPicPr>
          <p:blipFill>
            <a:blip r:embed="rId5"/>
            <a:stretch/>
          </p:blipFill>
          <p:spPr>
            <a:xfrm>
              <a:off x="4281480" y="2854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" descr="D:\новый диск\картинки\картинки овые\фоны\клубника\klubnika\klubn081.jpg"/>
            <p:cNvPicPr/>
            <p:nvPr/>
          </p:nvPicPr>
          <p:blipFill>
            <a:blip r:embed="rId6"/>
            <a:stretch/>
          </p:blipFill>
          <p:spPr>
            <a:xfrm>
              <a:off x="4281480" y="7858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D:\новый диск\картинки\картинки овые\фоны\клубника\klubnika\klubn081.jpg"/>
            <p:cNvPicPr/>
            <p:nvPr/>
          </p:nvPicPr>
          <p:blipFill>
            <a:blip r:embed="rId7"/>
            <a:stretch/>
          </p:blipFill>
          <p:spPr>
            <a:xfrm>
              <a:off x="3852720" y="35712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D:\новый диск\картинки\картинки овые\фоны\клубника\klubnika\klubn081.jpg"/>
            <p:cNvPicPr/>
            <p:nvPr/>
          </p:nvPicPr>
          <p:blipFill>
            <a:blip r:embed="rId8"/>
            <a:stretch/>
          </p:blipFill>
          <p:spPr>
            <a:xfrm>
              <a:off x="3781080" y="100008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D:\новый диск\картинки\картинки овые\фоны\клубника\klubnika\klubn081.jpg"/>
            <p:cNvPicPr/>
            <p:nvPr/>
          </p:nvPicPr>
          <p:blipFill>
            <a:blip r:embed="rId9"/>
            <a:stretch/>
          </p:blipFill>
          <p:spPr>
            <a:xfrm>
              <a:off x="3423960" y="571320"/>
              <a:ext cx="6476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" descr="D:\новый диск\картинки\картинки овые\фоны\клубника\klubnika\klubn081.jpg"/>
            <p:cNvPicPr/>
            <p:nvPr/>
          </p:nvPicPr>
          <p:blipFill>
            <a:blip r:embed="rId10"/>
            <a:stretch/>
          </p:blipFill>
          <p:spPr>
            <a:xfrm>
              <a:off x="4352760" y="1357200"/>
              <a:ext cx="492120" cy="45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Капля 25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апля 26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апля 27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Капля 28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Капля 29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Капля 30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Капля 31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Капля 32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Капля 33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апля 34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Капля 35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5"/>
          <p:cNvSpPr/>
          <p:nvPr/>
        </p:nvSpPr>
        <p:spPr>
          <a:xfrm>
            <a:off x="0" y="1197000"/>
            <a:ext cx="3168720" cy="1295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7 –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890" dur="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891" dur="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02" dur="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03" dur="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1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14" dur="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15" dur="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26" dur="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27" dur="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remove" presetClass="emph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,42,-17)"/>
                                      </p:to>
                                    </p:set>
                                    <p:set>
                                      <p:cBhvr>
                                        <p:cTn id="93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93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46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47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58" dur="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59" dur="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remove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animClr clrSpc="rgb">
                                      <p:cBhvr>
                                        <p:cTn id="970" dur="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9522"/>
                                      </p:to>
                                    </p:animClr>
                                    <p:set>
                                      <p:cBhvr>
                                        <p:cTn id="971" dur="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982" dur="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983" dur="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90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994" dur="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995" dur="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5" dur="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1006" dur="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1007" dur="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-19080"/>
            <a:ext cx="9126720" cy="4707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alendar.jpeg"/>
          <p:cNvPicPr/>
          <p:nvPr/>
        </p:nvPicPr>
        <p:blipFill>
          <a:blip r:embed="rId2"/>
          <a:stretch/>
        </p:blipFill>
        <p:spPr>
          <a:xfrm>
            <a:off x="2771640" y="4292640"/>
            <a:ext cx="2961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8"/>
          <p:cNvSpPr txBox="1"/>
          <p:nvPr/>
        </p:nvSpPr>
        <p:spPr>
          <a:xfrm>
            <a:off x="1403280" y="378936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8"/>
          <p:cNvSpPr txBox="1"/>
          <p:nvPr/>
        </p:nvSpPr>
        <p:spPr>
          <a:xfrm>
            <a:off x="1547640" y="378936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1763640" y="378936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1547640" y="3716280"/>
            <a:ext cx="54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I:\для перегрузки\гномы\2.bmp"/>
          <p:cNvPicPr/>
          <p:nvPr/>
        </p:nvPicPr>
        <p:blipFill>
          <a:blip r:embed="rId2"/>
          <a:stretch/>
        </p:blipFill>
        <p:spPr>
          <a:xfrm>
            <a:off x="214200" y="1500120"/>
            <a:ext cx="4118040" cy="4267440"/>
          </a:xfrm>
          <a:prstGeom prst="rect">
            <a:avLst/>
          </a:prstGeom>
          <a:ln w="0">
            <a:noFill/>
          </a:ln>
        </p:spPr>
      </p:pic>
      <p:sp>
        <p:nvSpPr>
          <p:cNvPr id="114" name="Капля 22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Капля 23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апля 24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Капля 25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апля 26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Капля 27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апля 28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Капля 29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Капля 30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Капля 31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Капля 36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5724360" y="404640"/>
            <a:ext cx="3168720" cy="1295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7 -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9,24,-10)"/>
                                      </p:to>
                                    </p:set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11" dur="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12" dur="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23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24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35" dur="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36" dur="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47" dur="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48" dur="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59" dur="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60" dur="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71" dur="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72" dur="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83" dur="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84" dur="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295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296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07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08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19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20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Группа 32"/>
          <p:cNvGrpSpPr/>
          <p:nvPr/>
        </p:nvGrpSpPr>
        <p:grpSpPr>
          <a:xfrm>
            <a:off x="3962880" y="1981800"/>
            <a:ext cx="4342680" cy="4082040"/>
            <a:chOff x="3962880" y="1981800"/>
            <a:chExt cx="4342680" cy="4082040"/>
          </a:xfrm>
        </p:grpSpPr>
        <p:pic>
          <p:nvPicPr>
            <p:cNvPr id="127" name="Picture 2" descr="I:\для перегрузки\гномы\3.bmp"/>
            <p:cNvPicPr/>
            <p:nvPr/>
          </p:nvPicPr>
          <p:blipFill>
            <a:blip r:embed="rId2"/>
            <a:stretch/>
          </p:blipFill>
          <p:spPr>
            <a:xfrm rot="383400">
              <a:off x="4154400" y="2190600"/>
              <a:ext cx="3959280" cy="366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D:\новый диск\картинки\картинки овые\растения\грибы\cfe5de40e9bd.png"/>
            <p:cNvPicPr/>
            <p:nvPr/>
          </p:nvPicPr>
          <p:blipFill>
            <a:blip r:embed="rId3"/>
            <a:stretch/>
          </p:blipFill>
          <p:spPr>
            <a:xfrm flipH="1" rot="383400">
              <a:off x="4821840" y="3569040"/>
              <a:ext cx="1218240" cy="11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" descr="D:\новый диск\картинки\картинки овые\растения\грибы\c7db5047e17e.png"/>
            <p:cNvPicPr/>
            <p:nvPr/>
          </p:nvPicPr>
          <p:blipFill>
            <a:blip r:embed="rId4"/>
            <a:stretch/>
          </p:blipFill>
          <p:spPr>
            <a:xfrm rot="383400">
              <a:off x="5311800" y="3879360"/>
              <a:ext cx="1541880" cy="137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Капля 22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Капля 23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апля 24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апля 25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апля 26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апля 27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Капля 28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Капля 29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Капля 30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Капля 31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Капля 36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1"/>
          <p:cNvSpPr/>
          <p:nvPr/>
        </p:nvSpPr>
        <p:spPr>
          <a:xfrm>
            <a:off x="4140360" y="260280"/>
            <a:ext cx="3168360" cy="1295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32" dur="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33" dur="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1,19,-5)"/>
                                      </p:to>
                                    </p:set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64" dur="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65" dur="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76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77" dur="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388" dur="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389" dur="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00" dur="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01" dur="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12" dur="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13" dur="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24" dur="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25" dur="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36" dur="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37" dur="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animClr clrSpc="rgb">
                                      <p:cBhvr>
                                        <p:cTn id="448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set>
                                      <p:cBhvr>
                                        <p:cTn id="449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Капля 22"/>
          <p:cNvSpPr/>
          <p:nvPr/>
        </p:nvSpPr>
        <p:spPr>
          <a:xfrm>
            <a:off x="0" y="6157800"/>
            <a:ext cx="785880" cy="70020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Капля 23"/>
          <p:cNvSpPr/>
          <p:nvPr/>
        </p:nvSpPr>
        <p:spPr>
          <a:xfrm>
            <a:off x="914400" y="548640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Капля 24"/>
          <p:cNvSpPr/>
          <p:nvPr/>
        </p:nvSpPr>
        <p:spPr>
          <a:xfrm>
            <a:off x="15238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25"/>
          <p:cNvSpPr/>
          <p:nvPr/>
        </p:nvSpPr>
        <p:spPr>
          <a:xfrm>
            <a:off x="2362320" y="5562720"/>
            <a:ext cx="78552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26"/>
          <p:cNvSpPr/>
          <p:nvPr/>
        </p:nvSpPr>
        <p:spPr>
          <a:xfrm>
            <a:off x="3048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27"/>
          <p:cNvSpPr/>
          <p:nvPr/>
        </p:nvSpPr>
        <p:spPr>
          <a:xfrm>
            <a:off x="3962520" y="563868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28"/>
          <p:cNvSpPr/>
          <p:nvPr/>
        </p:nvSpPr>
        <p:spPr>
          <a:xfrm>
            <a:off x="4724280" y="607212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29"/>
          <p:cNvSpPr/>
          <p:nvPr/>
        </p:nvSpPr>
        <p:spPr>
          <a:xfrm>
            <a:off x="5638680" y="5638680"/>
            <a:ext cx="78588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30"/>
          <p:cNvSpPr/>
          <p:nvPr/>
        </p:nvSpPr>
        <p:spPr>
          <a:xfrm>
            <a:off x="6477120" y="6072120"/>
            <a:ext cx="785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31"/>
          <p:cNvSpPr/>
          <p:nvPr/>
        </p:nvSpPr>
        <p:spPr>
          <a:xfrm>
            <a:off x="7391520" y="5562720"/>
            <a:ext cx="857160" cy="78552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36"/>
          <p:cNvSpPr/>
          <p:nvPr/>
        </p:nvSpPr>
        <p:spPr>
          <a:xfrm>
            <a:off x="8153280" y="6072120"/>
            <a:ext cx="857520" cy="785880"/>
          </a:xfrm>
          <a:prstGeom prst="pi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:\для перегрузки\гномы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3857400" cy="4097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8"/>
          <p:cNvSpPr/>
          <p:nvPr/>
        </p:nvSpPr>
        <p:spPr>
          <a:xfrm>
            <a:off x="3780000" y="836640"/>
            <a:ext cx="3168360" cy="12952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5 –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61" dur="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62" dur="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8c1a"/>
                                      </p:to>
                                    </p:animClr>
                                    <p:set>
                                      <p:cBhvr>
                                        <p:cTn id="474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,41,-8)"/>
                                      </p:to>
                                    </p:set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493" dur="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494" dur="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05" dur="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06" dur="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17" dur="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18" dur="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29" dur="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30" dur="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41" dur="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42" dur="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53" dur="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54" dur="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animClr clrSpc="rgb">
                                      <p:cBhvr>
                                        <p:cTn id="565" dur="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a939"/>
                                      </p:to>
                                    </p:animClr>
                                    <p:set>
                                      <p:cBhvr>
                                        <p:cTn id="566" dur="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remove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f9b1f"/>
                                      </p:to>
                                    </p:animClr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9b1f"/>
                                      </p:to>
                                    </p:animClr>
                                    <p:set>
                                      <p:cBhvr>
                                        <p:cTn id="578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19-12-19T16:19:17Z</dcterms:modified>
  <cp:revision>54</cp:revision>
  <dc:subject>Число 10. Запись числа 10</dc:subject>
  <dc:title>Математика. 1 класс</dc:title>
</cp:coreProperties>
</file>