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F050-F913-44EA-9740-5D8ED968FE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D13-11E5-4B3A-A5C4-5A56A550FC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F4A-40A5-4C02-BA6D-4DEB542B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C7B-4388-436B-AA73-2069C1FF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D0F-05BF-4EED-AA17-4A288833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223-AE11-4EC9-B38E-A5FF3DBC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72DF-F778-4370-A25E-8D4ADB4F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15CB-D628-4ADB-8C3F-C7C54936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D22C-1BD6-4943-A984-97F09212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F836-B459-4D65-8187-9B42D4D1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A2B5-F304-43C7-870B-AA3A0E30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7912-1D98-4F11-A36D-2A7E6F1C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D4B6-F39A-4EBA-8DCB-417AE8CE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C04-693A-40E2-A14F-C350CC3D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C2FD-960B-421F-A1A4-B03178A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E317-F38F-4897-BCCC-C1EEDB05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5F84-D7A9-45C0-BD38-70F3C04D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203B-4439-4F9A-B11F-4C766DFF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5C93-462A-41F8-A1B8-E8267E92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17E-2FE6-47B2-9CB2-7BF48D2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C9F-1AAB-489C-AE0A-DFEA3F93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A6E-9B2D-4A7A-92DC-C6E7CADD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F76-48D9-41C0-8DC8-CF78456C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D3C-37CD-4F35-9045-9E3A8B3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FC3-3387-4164-BDC1-D9BD8FC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189-E66A-4E7A-A26C-DEE24D06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3E2-AF14-435C-98A3-EEB9FB7186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2383-D6CA-4397-A053-F759558713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 Black"/>
              </a:rPr>
              <a:t>Создание цикла иллюстраций к сказке </a:t>
            </a:r>
            <a:br>
              <a:rPr sz="4800"/>
            </a:br>
            <a:r>
              <a:rPr b="1" lang="ru-RU" sz="4800" spc="-1" strike="noStrike">
                <a:solidFill>
                  <a:srgbClr val="d9d9ff"/>
                </a:solidFill>
                <a:latin typeface="Arial Black"/>
              </a:rPr>
              <a:t>«Листопадничек» </a:t>
            </a:r>
            <a:br>
              <a:rPr sz="4800"/>
            </a:br>
            <a:r>
              <a:rPr b="1" lang="ru-RU" sz="4800" spc="-1" strike="noStrike">
                <a:solidFill>
                  <a:srgbClr val="d9d9ff"/>
                </a:solidFill>
                <a:latin typeface="Arial Black"/>
              </a:rPr>
              <a:t>И. С. Соколова-Микитова</a:t>
            </a:r>
            <a:endParaRPr b="1" lang="en-US" sz="4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4760" y="3733920"/>
            <a:ext cx="72198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14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уководители проек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4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лдакова Светлана, Косенко Наталья, Орлова Мар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4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аза реализ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ГБОУ Школа №6 Выборгского района города Санкт-Петербурга, 3 «Б»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4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роки прове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16.02-26.02.20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4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4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5105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енью на болоте родились у старой зайчихи зайчата. Называют охотники осенних зайчат листопаднич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1"/>
          <p:cNvPicPr/>
          <p:nvPr/>
        </p:nvPicPr>
        <p:blipFill>
          <a:blip r:embed="rId1"/>
          <a:stretch/>
        </p:blipFill>
        <p:spPr>
          <a:xfrm>
            <a:off x="196920" y="0"/>
            <a:ext cx="876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5486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шла поздняя осень, стало в лесу холодно. Стали собираться птицы к отлету, а животные готовиться к зи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007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бежал маленький зайчонок из родного гнезда искать теплые страны. Бежал Листопадничек по лесу и видит, строят бобры на речке плот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3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5105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ыгнул Листопадничек в хатку бобров. Да и остался у них нянькой для бобр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4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5349960"/>
            <a:ext cx="80074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бежал Листопадничек в кладовую, а там огромный незнакомый зверь. Испугался зайчонок. За долгую зиму много страху натерпелся Листопаднич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5"/>
          <p:cNvPicPr/>
          <p:nvPr/>
        </p:nvPicPr>
        <p:blipFill>
          <a:blip r:embed="rId1"/>
          <a:stretch/>
        </p:blipFill>
        <p:spPr>
          <a:xfrm>
            <a:off x="152280" y="209520"/>
            <a:ext cx="8839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5105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нней весной прорвала река плотину. Да только плавать зайчонок не умел. Посадил бобер Листопадничка на свой хвост. Нырнул он в воду, хвостом вильнул – вылетел зайчонок из 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6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5497200"/>
            <a:ext cx="8007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нулся Листопадничек на родное болото. Рассказал он зайчихе и другим зайчатам, как искал тёплые страны, как у бобров жи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7"/>
          <p:cNvPicPr/>
          <p:nvPr/>
        </p:nvPicPr>
        <p:blipFill>
          <a:blip r:embed="rId1"/>
          <a:stretch/>
        </p:blipFill>
        <p:spPr>
          <a:xfrm>
            <a:off x="152280" y="33480"/>
            <a:ext cx="88394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1920" y="380520"/>
            <a:ext cx="89917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Изучение роли иллюстрации в восприятии художественного текста и создание цикла сюжетных иллюстраций, отражающих ключевые эпизоды сказк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Задачи проекта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351000">
              <a:spcBef>
                <a:spcPts val="624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знакомиться с творчеством писателя И. С. Соколова-Микитова, прочитать сказку «Листопадничек»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351000">
              <a:spcBef>
                <a:spcPts val="624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зучить и проанализировать существующие иллюстраций к сказке «Листопадничек», посмотреть мультипликационный фильм «Листопадничек» (БеларусьФильм, 1977г.)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351000">
              <a:spcBef>
                <a:spcPts val="624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аботать с текстом произведения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351000">
              <a:spcBef>
                <a:spcPts val="624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азработать концепцию иллюстрирования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351000">
              <a:spcBef>
                <a:spcPts val="624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здать цикл сюжетных иллюстраций, помогающих раскрыть содержание произвед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d9ff"/>
                </a:solidFill>
                <a:latin typeface="Arial Black"/>
              </a:rPr>
              <a:t>Этапы работы над проектом</a:t>
            </a:r>
            <a:endParaRPr b="1" lang="en-US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готовительный этап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бор художественного произведения для иллюстрирования, планирование деятельности детей, мотивация детей к выполнению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533160"/>
            <a:ext cx="8616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ой этап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Знакомство детей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.С.Соколова-Микит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тение в классе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ашнее чт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азки «Листопадничек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https://pp.userapi.com/c845221/v845221712/25fc/JvDjpTiblD4.jpg"/>
          <p:cNvPicPr/>
          <p:nvPr/>
        </p:nvPicPr>
        <p:blipFill>
          <a:blip r:embed="rId1"/>
          <a:stretch/>
        </p:blipFill>
        <p:spPr>
          <a:xfrm>
            <a:off x="4978440" y="1295280"/>
            <a:ext cx="40132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560" y="228600"/>
            <a:ext cx="8839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Анализ художественного произведения на уроках литературного чт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Беседа о роли иллюстрации к художественному произведению, анализ существующих иллюстраций к сказ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3ff"/>
              </a:buClr>
              <a:buFont typeface="Arial Black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https://pp.userapi.com/c834303/v834303844/d55d9/Urq2E8XmGfk.jpg"/>
          <p:cNvPicPr/>
          <p:nvPr/>
        </p:nvPicPr>
        <p:blipFill>
          <a:blip r:embed="rId1"/>
          <a:stretch/>
        </p:blipFill>
        <p:spPr>
          <a:xfrm>
            <a:off x="1219320" y="2971800"/>
            <a:ext cx="69339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560" y="380520"/>
            <a:ext cx="8839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осмотр мультипликационного фильма «Листопадничек», анализ его содержания, образов герое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Разработка концепции иллюстрирования           (выбор эпизодов для иллюстрирования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писей 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люстрация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https://pp.userapi.com/c844720/v844720904/2fd3/EVrz1AUbkQw.jpg"/>
          <p:cNvPicPr/>
          <p:nvPr/>
        </p:nvPicPr>
        <p:blipFill>
          <a:blip r:embed="rId1"/>
          <a:stretch/>
        </p:blipFill>
        <p:spPr>
          <a:xfrm>
            <a:off x="304920" y="3111480"/>
            <a:ext cx="5373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Создание цикла иллюст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https://pp.userapi.com/c844520/v844520904/2895/XTmrxKxelTI.jpg"/>
          <p:cNvPicPr/>
          <p:nvPr/>
        </p:nvPicPr>
        <p:blipFill>
          <a:blip r:embed="rId1"/>
          <a:stretch/>
        </p:blipFill>
        <p:spPr>
          <a:xfrm>
            <a:off x="4584600" y="306360"/>
            <a:ext cx="444816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360" y="1066680"/>
            <a:ext cx="7854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ключительный этап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 иллюстраций, рефлексия проектн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обложка"/>
          <p:cNvPicPr/>
          <p:nvPr/>
        </p:nvPicPr>
        <p:blipFill>
          <a:blip r:embed="rId1"/>
          <a:stretch/>
        </p:blipFill>
        <p:spPr>
          <a:xfrm>
            <a:off x="457200" y="228600"/>
            <a:ext cx="84326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8:43:59Z</dcterms:created>
  <dc:creator>Косенко Наталья</dc:creator>
  <dc:description/>
  <dc:language>en-US</dc:language>
  <cp:lastModifiedBy>Варвара Каледа</cp:lastModifiedBy>
  <dcterms:modified xsi:type="dcterms:W3CDTF">2019-12-19T10:29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