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59B-71FE-4490-B747-F29AE254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13F-81DA-4E3D-B696-3DD39A02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180-D579-48CE-A4D0-57D3A95C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4C6-E03D-4259-9CA4-18AF9F04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0984-B600-487C-8954-2E4F083C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F060-8189-4EFC-A61C-F7E9F138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B28-BB45-490D-AB10-8D70FA44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E730-3C68-4413-B123-5DDEC163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373F-B465-427B-9968-B26A78D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8929-EBAD-4F05-B220-11C0E7DD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5E91-8040-4C7E-BB54-258B974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648-C918-4BCA-8E74-E54F1BBD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5E23-0489-40C8-95FD-6E865345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54E3-6379-4049-80D7-3D38C7C8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B012-D116-4246-A7FE-332953A7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772-E173-4ACB-865D-EF23D355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943F-D503-4A37-A8A0-8A67C732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E14-A0BA-43AA-9CD5-A756D6B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292-F09A-4CD2-B5E8-9C51A540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CE0-11C3-4E5C-A12F-83056FFA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BB7-E696-40FF-BBAA-62272A7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FBC-7565-4462-B518-F16F13D9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36C-D7B1-4710-98F2-195D36D9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EAE-C086-4475-96FE-6F1E5EF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6C05-CE5F-4B27-9E80-5AC1AB5840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1C80-6154-4595-8F48-722523EDA4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3429000"/>
            <a:ext cx="84596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Narrow"/>
              </a:rPr>
              <a:t>«Экстремизм в молодежной среде»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ffffcc"/>
                </a:solidFill>
                <a:latin typeface="Arial Narrow"/>
              </a:rPr>
              <a:t>Классный час посвященный толерантности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26920" y="475200"/>
            <a:ext cx="61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юдей неинтересных в мире не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х судьбы – как история плане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каждой  все особое, сво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т планет, похожих на не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 Е. Евтушенк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2144520" cy="21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08848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Игра «Дополни»: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«Быть толерантным - это значит...»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ем в групп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2010 фото римма 002"/>
          <p:cNvPicPr/>
          <p:nvPr/>
        </p:nvPicPr>
        <p:blipFill>
          <a:blip r:embed="rId1"/>
          <a:stretch/>
        </p:blipFill>
        <p:spPr>
          <a:xfrm>
            <a:off x="684360" y="2708280"/>
            <a:ext cx="1998360" cy="2665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2010 фото римма 008"/>
          <p:cNvPicPr/>
          <p:nvPr/>
        </p:nvPicPr>
        <p:blipFill>
          <a:blip r:embed="rId2"/>
          <a:stretch/>
        </p:blipFill>
        <p:spPr>
          <a:xfrm>
            <a:off x="3635280" y="3141720"/>
            <a:ext cx="180972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2010 фото римма 018"/>
          <p:cNvPicPr/>
          <p:nvPr/>
        </p:nvPicPr>
        <p:blipFill>
          <a:blip r:embed="rId3"/>
          <a:stretch/>
        </p:blipFill>
        <p:spPr>
          <a:xfrm>
            <a:off x="6084720" y="2421000"/>
            <a:ext cx="1872000" cy="29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-4680" y="388800"/>
            <a:ext cx="882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Ин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редставление человека о сво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сключительности, низкий уровень воспитанности, чув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искомфортности, существования в окружающей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ействительности, желание власти, неприятие противополож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ных взглядов, традиций, обыча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81560" y="4724280"/>
            <a:ext cx="81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уть человека, хорошо знающего себ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комфортно чувствующего себя в окружающей сред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нимающегодругих людей, и готового всегда прийти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мощь, человека с доброжелательным отношением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ным культурам, взглядам, традици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Новый год 2011 427"/>
          <p:cNvPicPr/>
          <p:nvPr/>
        </p:nvPicPr>
        <p:blipFill>
          <a:blip r:embed="rId1"/>
          <a:stretch/>
        </p:blipFill>
        <p:spPr>
          <a:xfrm>
            <a:off x="2941560" y="2227320"/>
            <a:ext cx="3260880" cy="24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28472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80000" y="2157480"/>
            <a:ext cx="421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важение мнения дру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онимание и принят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Чуткость, любознател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Снисход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верие, гума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430520" y="2133720"/>
            <a:ext cx="45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поним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нор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Выражение пренебре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внодуш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Ци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мотивированная агрес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304480" cy="31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Narrow"/>
              </a:rPr>
              <a:t>Работа по группам.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 Narrow"/>
              </a:rPr>
              <a:t>Необходимо продумать, изобразить и объяснить эмблему толерантности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7308720" y="5516640"/>
            <a:ext cx="1362240" cy="101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2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10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олерант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значает уважение, принятие и правильное понимание богатого многообразия культур нашего мира, форм самовыражения и способов проявлений человеческой индивидуальности (переводится как «терпимость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обровольчество (волонтерство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бровольный благотворительный труд людей на благо нуждающихся в помощи, сознательная деятельность по преобразованию социальной действительности при условии вовлечения граждан в эту деятельность на добровольной осно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987640" y="5338800"/>
            <a:ext cx="2160720" cy="12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такое экстремизм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948040" y="1981080"/>
            <a:ext cx="271440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6715080" y="22575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826920" y="9079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227640" y="458136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2627280" y="416736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лья Кубраков обвиняется в совершении преступлений, предусмотренных частью 2 статьи 105, частью 2 статьи 116 и частью 2 статьи 213 УК РФ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747 -0.62549 E">
                                      <p:cBhvr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4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Илья Кубраков обвиняется в совершении преступлений, предусмотренных частью 2 статьи 105, частью 2 статьи 116 и частью 2 статьи 213 УК РФ. 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52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тья 213. Хулиг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32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к до 20 лет лишения 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50920" y="3213000"/>
            <a:ext cx="48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тья 105. Убийств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50920" y="527112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атья 116 УК РФ. Побо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Основные нормативные правовые акты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Понятие «экстремизм» определено и упоминается в нормативных правовых актах, в числе которы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1. Конституция Российской Федерации. Экстремизм во всех своих проявлениях в разной степени, но всегда посягает именно на то, что закрепляет Конституция РФ: основы конституционного строя, права и свободы человека и гражданина, порядок и принципы государственного устройства и местного самоуправле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2. Федеральный закон от 25 июля 2002 года № 114-ФЗ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3. Федеральный закон от 05 июля 2002 года № 112-ФЗ «О внесении изменений и дополнений в законодательные акты Российской Федерации в связи с принятием Федерального закона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4. Федеральный закон от 6 октября 2003 года № 131-ФЗ «Об общих принципах организации местного самоуправления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5. Федеральный закон от 24 июля 2007 года № 211-ФЗ «О внесении изменений в отдельные законодательные акты Российской Федерации в связи с совершенствованием государственного управления в области противодействия экстремизму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6. Указ Президента Российской Федерации от 23 марта 1995 года № 310 (в редакции от 03.11.2004) «О мерах по обеспечению согласованных действий органов государственной власти в борьбе с проявлениями фашизма и иных форм политического экстремизма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7. Постановление Правительства Российской Федерации о 18.01.2003 г. № 27 (в редакции от 08.12.2008) «Об утверждении Положения о порядке определения перечня организаций и физических лиц, в отношении которых имеются сведения об их участии в экстремистской деятельности, и доведения этого перечня до сведения организаций, осуществляющих операции с денежными средствами или иным имуществом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7786800" y="5229360"/>
            <a:ext cx="1357200" cy="187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1 0.12538 L -0.92569 -0.89891 E">
                                      <p:cBhvr>
                                        <p:cTn id="102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4273560" cy="109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из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39640" y="1484280"/>
            <a:ext cx="655308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ой толковый словарь дает следующее определение экстремизму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экстремизм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приверженность крайним взглядам и мер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ы насилия  относятся к категории экстремистских, ес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они направлены на то, чтобы  причинить вред не непосредственному противнику, а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149560" cy="177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3612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Экстремистская деятельность (экстремизм) – это</a:t>
            </a: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0360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насильственное изменение основ конституционного строя и нарушение целостности Российской Федерации; · публичное оправдание терроризма и иная террористическая деятельность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збуждение социальной, расовой, национальной или религиозной роз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ропаганда исключительности, превосходства либо неполноценности человека по признаку его социальной, расовой, национальной, религиозной или языковой принадлежности или отношения к религи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совершение преступлений по мотивам политической, идеологической, расовой, национальной или религиозной ненависти или вражды либо по мотивам ненависти или вражды в отношении какой-либо социальной групп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; · 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 · организация и подготовка указанных деяний, а также подстрекательство к их осуществлени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· финансирование указанных деяний либо иное содействие в их организации, подготовке и осуществлении, в том числе путём предоставления учебной, полиграфической и материально-технической базы, телефонной и иных видов связи или оказания информационных услу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8185320" y="5942160"/>
            <a:ext cx="958680" cy="9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21 -0.034 L -0.94757 -0.93245 E">
                                      <p:cBhvr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2232000" cy="1666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альное поведение -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79280" y="764640"/>
            <a:ext cx="716436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крайние способы достижения социальной справедливости, каких-то благ, привилегий, как для себя, так и депривированных социальных групп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еррор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крайнее проявление экстремизма явление, связанное с насилием, угрожающее жизни и здоровью гражд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ционал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форма общественного единства, основанная на идее национального превосходства и национальной исключи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ас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совокупность концепций, основу которых составляют положения о физической и психической неравноценности человеческих расс и о решающем влиянии расовых различий на историю и культуру человеческого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аш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идеология и практика, утверждающие превосходство и исключительность определенной нации или расы и направленные на разжигание национальной нетерпимости, дискриминацию, применение насилия и терроризма, установления культа вожд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3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SC00628"/>
          <p:cNvPicPr/>
          <p:nvPr/>
        </p:nvPicPr>
        <p:blipFill>
          <a:blip r:embed="rId1"/>
          <a:stretch/>
        </p:blipFill>
        <p:spPr>
          <a:xfrm>
            <a:off x="2819520" y="10666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0" y="1125360"/>
            <a:ext cx="291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оставе современной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ссийской Федерации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ста этносов, в том числе около тридцати нац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Предлагаю всем сосредоточиться на следующих вопросах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1980720"/>
            <a:ext cx="755964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помните, как вы в детстве переживали оби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чего вы огорчалис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проявлял к вам жалость и сострадание в трудную минут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Что такое терпение? Что такое толерантнос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чем их схожес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ы понимаете выражение «толерантность в общении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ли терпим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границы терпимос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6-11-29T01:02:04Z</dcterms:modified>
  <cp:revision>42</cp:revision>
  <dc:subject/>
  <dc:title>PowerPoint Presentation</dc:title>
</cp:coreProperties>
</file>