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gif" ContentType="image/gif"/>
  <Override PartName="/ppt/media/image11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7E22-417C-457C-A16B-4B5DB9B78D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D3C-EF5F-4978-9C49-34264C7B7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8E98-964D-4EA5-B113-9FDFAB7C9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DCE-B209-48AE-BF2F-87E795C9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D04-2116-42A0-9DBB-3FA02FE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C86-181F-4110-AC0C-901929F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C34-C210-4142-A07F-F44982E9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EF6-63DF-4608-9808-C156F9BD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3766-0B31-4AE4-9B13-9CCD15A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36C4-599D-438C-A01E-27ECAE8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AFD0-F341-47EC-987C-7B584E9B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D34-A3E1-479A-9170-7409004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98C9-9572-4BAE-AEA2-784200B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0DDA-1ADA-4CE3-9C9B-9FB652C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4FB-EC60-4C89-B69F-6316880D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42E6-09BE-4296-ADC9-0512ED1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6F42-1C68-44AF-B206-3144DC0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C68-D765-4516-8BB0-F28A577C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E5D-20A9-4D26-8B74-8B8FBDD6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693-F5DE-42E4-802B-FDA50687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B93-CED2-4E29-BB0E-D8309D7B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C40-431C-4331-9373-7E86F29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31A-309F-4262-953B-9821F52F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7D1-431D-484C-AC84-3050719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BBC-7C69-45CA-BB95-42308E2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E7C-1FF6-4A25-A4C2-5193687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24F-577C-4B99-850C-3530A35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72B-0528-4FEF-B136-F4F070277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7E4-7F60-42CD-828B-7C469E399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Возрастные особенности детей 3-4 л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Calibri"/>
              </a:rPr>
              <a:t>Подготовила:воспита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Calibri"/>
              </a:rPr>
              <a:t>Бекетова Еле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forumsmile.ru/u/f/5/2/f528265ff31d7ee184897ab4e3f59a3d.gif"/>
          <p:cNvPicPr/>
          <p:nvPr/>
        </p:nvPicPr>
        <p:blipFill>
          <a:blip r:embed="rId1"/>
          <a:stretch/>
        </p:blipFill>
        <p:spPr>
          <a:xfrm>
            <a:off x="6732720" y="4653000"/>
            <a:ext cx="2027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50920" y="1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бесценивание ребенк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ичности близк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84360" y="2708280"/>
            <a:ext cx="80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Arial"/>
              </a:rPr>
              <a:t>может начать называть  близких людей бранными словами, которых ранее никогда не употреблял, замахиваться на них, отказывается играть с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http://forumsmile.ru/u/0/2/8/028f906b682de060d8e2caf1403ffcf1.gif"/>
          <p:cNvPicPr/>
          <p:nvPr/>
        </p:nvPicPr>
        <p:blipFill>
          <a:blip r:embed="rId1"/>
          <a:stretch/>
        </p:blipFill>
        <p:spPr>
          <a:xfrm>
            <a:off x="0" y="0"/>
            <a:ext cx="25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79280" y="6991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ремление к деспотическому подавлению окружающи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539640" y="220500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Часто встречается в семьях с единственным ребёнком, или этот ребёнок (3-4 лет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самый младший из де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http://forumsmile.ru/u/b/3/4/b34676a904bd2ae375edd3f101e96ce6.gif"/>
          <p:cNvPicPr/>
          <p:nvPr/>
        </p:nvPicPr>
        <p:blipFill>
          <a:blip r:embed="rId1"/>
          <a:stretch/>
        </p:blipFill>
        <p:spPr>
          <a:xfrm>
            <a:off x="4716360" y="4508640"/>
            <a:ext cx="20876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ам как его родителям важно:</a:t>
            </a:r>
            <a:br>
              <a:rPr sz="28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 терпением и пониманием относиться к проявлениям </a:t>
            </a:r>
            <a:br>
              <a:rPr sz="36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противо-воли»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ребенка.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мнить, что так называемое упрямство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—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 реакция ребенка, который настаивает на чем-то  не потому,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что ему этого очень хочется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 потому, что ему важно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бы с его мнением считались.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899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м, как его родителям важно:</a:t>
            </a:r>
            <a:br>
              <a:rPr sz="6000"/>
            </a:br>
            <a:r>
              <a:rPr b="1" lang="en-US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Бережно обращаться с чувствами ребенка. Сопереживать его горю, понимать злость, разделять с ним радость, чувствовать его усталость.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Осознавать, что речевые обороты и запас слов будут формироваться у него главным образом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             из той речи, которую он слышит в семь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http://forumsmile.ru/u/9/4/2/94208d162d37da078121aa7ff1000255.gif"/>
          <p:cNvPicPr/>
          <p:nvPr/>
        </p:nvPicPr>
        <p:blipFill>
          <a:blip r:embed="rId1"/>
          <a:stretch/>
        </p:blipFill>
        <p:spPr>
          <a:xfrm>
            <a:off x="6875640" y="4437000"/>
            <a:ext cx="2268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Выноска-облако 6"/>
          <p:cNvSpPr/>
          <p:nvPr/>
        </p:nvSpPr>
        <p:spPr>
          <a:xfrm>
            <a:off x="-252360" y="765000"/>
            <a:ext cx="5184720" cy="38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очень хорошо знаю, что не обязательно предоставлять мне все, что я запрашив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просто испытываю ва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7"/>
          <p:cNvSpPr/>
          <p:nvPr/>
        </p:nvSpPr>
        <p:spPr>
          <a:xfrm>
            <a:off x="4140360" y="692280"/>
            <a:ext cx="5003640" cy="3644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 делайте для меня и за меня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то я в состоянии сделать для себя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Я могу продолжать использовать вас в качестве прислуг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8"/>
          <p:cNvSpPr/>
          <p:nvPr/>
        </p:nvSpPr>
        <p:spPr>
          <a:xfrm>
            <a:off x="2411280" y="3716280"/>
            <a:ext cx="5256360" cy="3313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заставляйте меня чувствовать себя младше, чем я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 отыграюсь на вас за это, став «плаксой» и «нытиком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Анимашки Дети"/>
          <p:cNvPicPr/>
          <p:nvPr/>
        </p:nvPicPr>
        <p:blipFill>
          <a:blip r:embed="rId1"/>
          <a:stretch/>
        </p:blipFill>
        <p:spPr>
          <a:xfrm>
            <a:off x="673272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Анимашки Дети"/>
          <p:cNvPicPr/>
          <p:nvPr/>
        </p:nvPicPr>
        <p:blipFill>
          <a:blip r:embed="rId2"/>
          <a:stretch/>
        </p:blipFill>
        <p:spPr>
          <a:xfrm flipH="1">
            <a:off x="-181080" y="4300560"/>
            <a:ext cx="2449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Выноска-облако 7"/>
          <p:cNvSpPr/>
          <p:nvPr/>
        </p:nvSpPr>
        <p:spPr>
          <a:xfrm>
            <a:off x="0" y="836640"/>
            <a:ext cx="500364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требуйте от меня объяс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ачем я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иногда и сам не знаю, почему поступаю так, а не инач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4"/>
          <p:cNvSpPr/>
          <p:nvPr/>
        </p:nvSpPr>
        <p:spPr>
          <a:xfrm>
            <a:off x="1979640" y="3402000"/>
            <a:ext cx="4932360" cy="3456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бойтесь быть твердыми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предпочитаю именно такой под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Это позволяет мне определить свое мест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8"/>
          <p:cNvSpPr/>
          <p:nvPr/>
        </p:nvSpPr>
        <p:spPr>
          <a:xfrm>
            <a:off x="4211640" y="620640"/>
            <a:ext cx="5508720" cy="3600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оправляйте ме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при посторонних лю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Я обращу гораздо больше внимания на ваше замечание, если вы скажете мне все спокойно с глазу на гла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Анимашки Дети"/>
          <p:cNvPicPr/>
          <p:nvPr/>
        </p:nvPicPr>
        <p:blipFill>
          <a:blip r:embed="rId1"/>
          <a:stretch/>
        </p:blipFill>
        <p:spPr>
          <a:xfrm>
            <a:off x="6659640" y="4005360"/>
            <a:ext cx="20048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Выноска-облако 7"/>
          <p:cNvSpPr/>
          <p:nvPr/>
        </p:nvSpPr>
        <p:spPr>
          <a:xfrm>
            <a:off x="0" y="549360"/>
            <a:ext cx="558000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придирайтесь ко мне и не ворчите на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Если вы будете это дел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буду вынужден защищ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творяясь глухи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8"/>
          <p:cNvSpPr/>
          <p:nvPr/>
        </p:nvSpPr>
        <p:spPr>
          <a:xfrm>
            <a:off x="3635280" y="476280"/>
            <a:ext cx="5508720" cy="4078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ытайтесь обсуждать мое поведение в самый разгар конфли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Будет нормально, если вы предпримите определенные шаги, но поговорите со мной об этом несколько поздне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9"/>
          <p:cNvSpPr/>
          <p:nvPr/>
        </p:nvSpPr>
        <p:spPr>
          <a:xfrm>
            <a:off x="0" y="4005360"/>
            <a:ext cx="6012000" cy="27082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кроме того,  пожалуйста,   любите меня 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какой я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Анимашки Дети"/>
          <p:cNvPicPr/>
          <p:nvPr/>
        </p:nvPicPr>
        <p:blipFill>
          <a:blip r:embed="rId1"/>
          <a:stretch/>
        </p:blipFill>
        <p:spPr>
          <a:xfrm>
            <a:off x="5526000" y="4149720"/>
            <a:ext cx="3618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900igr.net/datas/obschestvoznanie/Semja-1/0142-142-Spasibo-za-vnimanie.jpg"/>
          <p:cNvPicPr/>
          <p:nvPr/>
        </p:nvPicPr>
        <p:blipFill>
          <a:blip r:embed="rId1"/>
          <a:srcRect l="4839" t="0" r="6130" b="0"/>
          <a:stretch/>
        </p:blipFill>
        <p:spPr>
          <a:xfrm>
            <a:off x="468360" y="549360"/>
            <a:ext cx="8280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549000"/>
            <a:ext cx="85168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ёнку исполнилось 3 года - это возраст, который можно рассматривать как определенный рубеж развития ребенка с момента его рождения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Это важный рубеж в его жизни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forumsmile.ru/u/5/0/9/50954c24a615d89eac00ea12c59c687c.gif"/>
          <p:cNvPicPr/>
          <p:nvPr/>
        </p:nvPicPr>
        <p:blipFill>
          <a:blip r:embed="rId1"/>
          <a:stretch/>
        </p:blipFill>
        <p:spPr>
          <a:xfrm>
            <a:off x="0" y="1413000"/>
            <a:ext cx="1368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Что-же в этом возрасте происходит у вашего ребенка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исходит формирование 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ПРОТИВО-ВОЛИ», </a:t>
            </a:r>
            <a:br>
              <a:rPr sz="40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 выражается в желании делать все по-своему.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• Проявления осознания себя как отдельного человека будут выражаться в его потребности отвергать почти все, что предлагают родители, и делать что-то  самому, даже если ему этого не очень хочется или пока не по силам.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Игра с предметами может иметь уже какое-то сюжетное наполнение, она все более становится образно-ролевой. Но в этом возрасте ребенку достаточно поиграть 10—15 минут,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отом ему хочется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ереключиться на что-то  другое.</a:t>
            </a:r>
            <a:br>
              <a:rPr sz="2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Появляется много новых слов. Ребенок активно осваивает речь, придумывая несуществующие слова, придавая уже известным словам свой особенный личностный смысл.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forumsmile.ru/u/6/a/5/6a5d514fc7787076ff404d457cdd08ad.gif"/>
          <p:cNvPicPr/>
          <p:nvPr/>
        </p:nvPicPr>
        <p:blipFill>
          <a:blip r:embed="rId1"/>
          <a:stretch/>
        </p:blipFill>
        <p:spPr>
          <a:xfrm>
            <a:off x="7236000" y="2060640"/>
            <a:ext cx="14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50920" y="55764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упрямства,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торое отличается от настойчивости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бёнок добивается своего только потому, что он так захотел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ttp://forumsmile.ru/u/9/2/a/92abaa4322143ad2c0c0f6f5f5d8188b.gif"/>
          <p:cNvPicPr/>
          <p:nvPr/>
        </p:nvPicPr>
        <p:blipFill>
          <a:blip r:embed="rId1"/>
          <a:stretch/>
        </p:blipFill>
        <p:spPr>
          <a:xfrm>
            <a:off x="6516720" y="1916280"/>
            <a:ext cx="389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84360" y="329040"/>
            <a:ext cx="7530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 негатив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роявляется как будто даже против воли самого ребёнка и часто в ущерб его собственным интере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Ребёнок, действуя наперекор взросл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оступает и наперекор собственным ощуще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впечатлениям и жела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forumsmile.ru/u/d/0/7/d0758e3d13f8607374b62c4c6463dcbe.gif"/>
          <p:cNvPicPr/>
          <p:nvPr/>
        </p:nvPicPr>
        <p:blipFill>
          <a:blip r:embed="rId1"/>
          <a:stretch/>
        </p:blipFill>
        <p:spPr>
          <a:xfrm>
            <a:off x="-1260360" y="2492280"/>
            <a:ext cx="44640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908000" y="765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птивост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971640" y="2924280"/>
            <a:ext cx="753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каприз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по любому повод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forumsmile.ru/u/7/b/7/7b795a05e79d43850c811d937f597bbe.gif"/>
          <p:cNvPicPr/>
          <p:nvPr/>
        </p:nvPicPr>
        <p:blipFill>
          <a:blip r:embed="rId1"/>
          <a:stretch/>
        </p:blipFill>
        <p:spPr>
          <a:xfrm>
            <a:off x="250920" y="907920"/>
            <a:ext cx="20318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763640" y="128556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всё хо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 </a:t>
            </a: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делать сам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борется за свою самостоятельн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42360" y="189000"/>
            <a:ext cx="85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своеволия: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http://forumsmile.ru/u/f/8/1/f81fe1c51667cc5201455ee53bed3c9b.gif"/>
          <p:cNvPicPr/>
          <p:nvPr/>
        </p:nvPicPr>
        <p:blipFill>
          <a:blip r:embed="rId1"/>
          <a:stretch/>
        </p:blipFill>
        <p:spPr>
          <a:xfrm>
            <a:off x="0" y="1916280"/>
            <a:ext cx="26272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995840" y="196560"/>
            <a:ext cx="50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нт проти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ружающих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62800" y="2147040"/>
            <a:ext cx="836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как будто наход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 состоянии  жестокого конфли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со всеми людь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постоянно ссориться с ни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едет  себя очень агресси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29:24Z</dcterms:created>
  <dc:creator>Федотова Виктория Александровна</dc:creator>
  <dc:description/>
  <dc:language>en-US</dc:language>
  <cp:lastModifiedBy>User</cp:lastModifiedBy>
  <dcterms:modified xsi:type="dcterms:W3CDTF">2019-09-09T17:09:49Z</dcterms:modified>
  <cp:revision>52</cp:revision>
  <dc:subject/>
  <dc:title>Слайд 1</dc:title>
</cp:coreProperties>
</file>