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4A6-8F96-4445-824A-0BA2311F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7DD-D4C7-4B16-A780-14B2A4F0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454-456E-41D2-8766-4262A52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4FB-055F-4E18-87C6-AB2DB476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B5C5-A2ED-448A-8264-9B912AF4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CDDF-4375-489D-A61B-78AA904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C558-E30D-4F11-99A8-3CD8B38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841-42D0-4A27-A5C9-07D0D27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B607-8F76-4480-8E18-84F39F28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504D-685D-4621-BC44-5BA7B1C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0542-B3FE-4077-B5FA-DC3909D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F97-4C91-4E57-9055-AD0F877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EA28-336A-4E65-9DA4-7339A97D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F34-28B7-4CE6-A53D-3E71278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11DD-2771-4B8A-AF2F-1BB719B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E0CE-3407-493A-8721-080CAD8D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BD42-F268-43BE-B857-31FBDFC4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274B-564A-4449-B3A4-055ADD13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64B3-32F1-44AF-9642-F2466DE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5869-C434-46B6-8814-260199C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E861-0E32-4269-AE0A-B2110AB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ABDC-68CB-424C-8953-B6627F4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60A-B518-4C41-8962-7688590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7F38-EA9F-4D7E-85D2-4607A02F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834B-FC1F-4033-B058-5BAE403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3FCA-C1BC-4B7E-AA98-D498B38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82E3-3CCE-4A41-8850-7034977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5EB3-4156-460A-8818-3D9E09C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B513-FB64-4E5C-AE78-4705CBA6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DADB-1266-4D07-B8D5-E171DF6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94EC-06C4-4FE8-B873-DE2EA5D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DA1D-B70B-4847-8E0E-7E1A562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AC7B-46D3-462D-A444-1FC1F63B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A03-1F86-4AB1-B229-A1B593A9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FFAC-0082-422F-95CF-13CF988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3C0D-3E5B-45BB-97DC-9F0604BE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7C01-D3ED-4659-920F-FCC7917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F0AEF-4452-4E0E-911F-482C6FF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1676-A512-4952-A128-C1BBC39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0ADB-F8F5-4F20-9531-683AA48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93C2-D439-49B6-8ADC-69EA3571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A4A7-1192-4731-AFCC-A9948B09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05FC-5B71-4C2C-BD4D-E0675E1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46CA-EE3D-4565-892D-226644DA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2CA-C6D1-468E-8CDE-154E4358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6202-6062-4B91-A54F-FBD7CC4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9574-173E-459A-9153-C4AD452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976A-8247-4DAA-A8E4-50300C6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4D514-0339-43D4-889E-8F49F315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6620-7F08-4040-B7FA-2BD9CD9B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A389-1043-4287-BFF6-9898B6D5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01F4-B88E-4B62-9921-252C1A0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5639-B1CD-4685-BC7B-F3E77BA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66B8-5C54-48F8-8C8D-E9AB6BF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2DF5-E707-47F1-865D-8BA46B00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666-135A-4E94-A4D4-0DA7EF7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6771-BD47-4602-9D66-48C1A1FA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5BC-597E-402D-B216-70927B6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0B0-2F4B-4373-BC62-8B18E72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1F6-0334-452C-9274-EDFDA1E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A1A-0B45-493E-9CB2-764F338C7F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C70-D2D7-42D7-B6A7-5873CB2876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ED9-3647-4ACF-8DA7-CEAB0240F2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AED-2D3D-4786-862E-B2AFEDD8F0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555-33F3-4850-B64D-B9898EC9C6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528040" cy="321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900" spc="-1" strike="noStrike">
                <a:solidFill>
                  <a:srgbClr val="000000"/>
                </a:solidFill>
                <a:latin typeface="Times New Roman"/>
              </a:rPr>
              <a:t>Элементы   машиноведения</a:t>
            </a:r>
            <a:br>
              <a:rPr sz="4900"/>
            </a:br>
            <a:r>
              <a:rPr b="1" i="1" lang="ru-RU" sz="6500" spc="-1" strike="noStrike">
                <a:solidFill>
                  <a:srgbClr val="a50021"/>
                </a:solidFill>
                <a:latin typeface="Times New Roman"/>
              </a:rPr>
              <a:t>Бытовая   швейная  машина</a:t>
            </a:r>
            <a:endParaRPr b="1" lang="en-US" sz="6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6516720" y="472428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Двигатель   материал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( Зубчатая  рейка ) 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гловодитель  с  игло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Иглодержател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Челночное  устройств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420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Регулятор  длины  стежк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гулятор  натяжения   верхней  ни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Рычаг  обратного ход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( реверс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елночное   устройство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4" descr="Рисунок 003 - копия - копия"/>
          <p:cNvPicPr/>
          <p:nvPr/>
        </p:nvPicPr>
        <p:blipFill>
          <a:blip r:embed="rId1"/>
          <a:srcRect l="33636" t="16579" r="8064" b="23341"/>
          <a:stretch/>
        </p:blipFill>
        <p:spPr>
          <a:xfrm>
            <a:off x="755640" y="2060640"/>
            <a:ext cx="3097080" cy="345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Рисунок 054 - копия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57840" y="1785960"/>
            <a:ext cx="3456000" cy="3355920"/>
          </a:xfrm>
          <a:prstGeom prst="rect">
            <a:avLst/>
          </a:prstGeom>
          <a:ln w="0">
            <a:noFill/>
          </a:ln>
        </p:spPr>
      </p:pic>
      <p:sp>
        <p:nvSpPr>
          <p:cNvPr id="250" name="Line 10"/>
          <p:cNvSpPr/>
          <p:nvPr/>
        </p:nvSpPr>
        <p:spPr>
          <a:xfrm>
            <a:off x="2484360" y="5013360"/>
            <a:ext cx="7192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 flipH="1">
            <a:off x="5724000" y="4869000"/>
            <a:ext cx="57636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20364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435640" y="5805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684360" y="56437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пульный  колп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867280" y="5734080"/>
            <a:ext cx="22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пул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тройство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шпульного   колпач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Picture 4" descr="Рисунок 003 - копия"/>
          <p:cNvPicPr/>
          <p:nvPr/>
        </p:nvPicPr>
        <p:blipFill>
          <a:blip r:embed="rId1"/>
          <a:stretch/>
        </p:blipFill>
        <p:spPr>
          <a:xfrm>
            <a:off x="250920" y="1600200"/>
            <a:ext cx="4537080" cy="452592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3FC-6028-4882-9453-4C9A1223C49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003640" y="1844640"/>
            <a:ext cx="38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тановочный пал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ре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рп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ластинчатая пруж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щ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При  работе  на  швейной  машине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надо  соблюдать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a50021"/>
                </a:solidFill>
                <a:uFillTx/>
                <a:latin typeface="Times New Roman"/>
              </a:rPr>
              <a:t>правила  техники  безопа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1" descr="C:\Users\Алена\Desktop\kanikuly-v-prostokvashino-shvey.jpg"/>
          <p:cNvPicPr/>
          <p:nvPr/>
        </p:nvPicPr>
        <p:blipFill>
          <a:blip r:embed="rId1"/>
          <a:stretch/>
        </p:blipFill>
        <p:spPr>
          <a:xfrm>
            <a:off x="2124000" y="2492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1.Волосы  спрятать  под  косынку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Verdana"/>
              </a:rPr>
              <a:t>2.Свет  должен  падать на рабочую поверхность  с   левой стороны  или  спереди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3.Стул должен стоять так, чтобы игла находилась прямо перед вами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Verdana"/>
              </a:rPr>
              <a:t>4.Перед работой проверять, не осталось ли в изделии  булавок  или  игл.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5.Перед работой проверять исправность  электрического шнур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Verdana"/>
              </a:rPr>
              <a:t>6.Следить за правильным положением рук, ног,  корпуса.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7.На  швейную машину не класть посторонние  предметы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Verdana"/>
              </a:rPr>
              <a:t>8.Установку шпульного колпачка, заправку верхней   нитки производить при выключенной машине.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Заправляя нитку в машинную иглу, не держите ноги на педали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9.Не наклоняться близко к движущимся и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ращающимся частям швейной машины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Verdana"/>
              </a:rPr>
              <a:t>10.Осторожно обращаться с педалью, нажимать на нее плавно, без рывков.</a:t>
            </a:r>
            <a:r>
              <a:rPr b="0" lang="ru-RU" sz="23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Практическая  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83628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накомство  с  бытовой  швейной маши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ы и оборудование: учебник, рабочая тетрадь, швейная машина, карт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ти  и  показать  на швейной машине  основные детали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а  выполняется  в групп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прос по деталям  швейной маш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роанализировать ответы  друг друга и оценить 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8d3e"/>
                </a:solidFill>
                <a:latin typeface="Times New Roman"/>
              </a:rPr>
              <a:t>ПОДВЕДЕНИЕ   ИТОГОВ</a:t>
            </a:r>
            <a:endParaRPr b="1" lang="en-US" sz="4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АНАЛИЗ   ВЫПОЛНЕННОЙ РАБОТЫ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5"/>
          <p:cNvPicPr/>
          <p:nvPr/>
        </p:nvPicPr>
        <p:blipFill>
          <a:blip r:embed="rId1"/>
          <a:stretch/>
        </p:blipFill>
        <p:spPr>
          <a:xfrm>
            <a:off x="2124000" y="3645000"/>
            <a:ext cx="44640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жнения   на  швейной  машине  без ниток</a:t>
            </a:r>
            <a:br>
              <a:rPr sz="29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Сесть  правильно  за  швейную  машину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тработать  приемы  холостого  и  рабочего хо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тработать  запуск  и  остановку  маш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становить  рабочий  ход  маш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Выполнить  безниточные  строчки  на  бумаге или ткани,  отработав  приемы  « опустить  и  поднять  прижимную   лапку,  поворот  на  бумаге  с иглой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Times New Roman"/>
              </a:rPr>
              <a:t>Закрепление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овы  преимущества шить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швейной машин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ставят стул  для работы на швейной машине и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 приводов  швейной  маш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ови   детали  швейной маш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098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Опро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692280"/>
          <a:ext cx="9144000" cy="6254640"/>
        </p:xfrm>
        <a:graphic>
          <a:graphicData uri="http://schemas.openxmlformats.org/drawingml/2006/table">
            <a:tbl>
              <a:tblPr/>
              <a:tblGrid>
                <a:gridCol w="900000"/>
                <a:gridCol w="863640"/>
                <a:gridCol w="7380360"/>
              </a:tblGrid>
              <a:tr h="4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ити, которые прокладывает челнок, называются “уточные”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ля хлопчатобумажных тканей сырьем являются стебли растения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и изготовлении ткани по краям образуется кромка?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кань растягивается больше по долевой нит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 лицевой стороны печатный рисунок виден слабо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У пестротканой ткани рисунок виден одинаково с лицевой и изнаночной стороны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Нити, идущие вдоль ткани называются “основные”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Нити основы пушистые, непрочны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Хлопок выращивают в странах с холодным климатом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Хлопчатобумажные ткани используют для изготовления летней одежды?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Times New Roman"/>
              </a:rPr>
              <a:t>Домашнее   задание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торить  названия  деталей  швейной  маш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Постарайся  их  запомнить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ая  тетра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пчатобумажную  ткань (р-р  примерно  20 см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ынку ( 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4286160" y="4500720"/>
            <a:ext cx="2521080" cy="2154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5857920"/>
            <a:ext cx="8183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СПАСИБО   ЗА   УРОК !!!</a:t>
            </a:r>
            <a:r>
              <a:rPr b="1" i="1" lang="ru-RU" sz="5400" spc="-1" strike="noStrike" u="sng">
                <a:solidFill>
                  <a:srgbClr val="a50021"/>
                </a:solidFill>
                <a:uFillTx/>
                <a:latin typeface="Verdana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е   швейные   машины  используются  в домашних  условиях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4" descr="Рисунок 051 - копия"/>
          <p:cNvPicPr/>
          <p:nvPr/>
        </p:nvPicPr>
        <p:blipFill>
          <a:blip r:embed="rId1"/>
          <a:stretch/>
        </p:blipFill>
        <p:spPr>
          <a:xfrm>
            <a:off x="179280" y="2205000"/>
            <a:ext cx="2613240" cy="374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Рисунок 051 - копия (2)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987640" y="2205000"/>
            <a:ext cx="2625840" cy="4176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Рисунок 05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724360" y="1557360"/>
            <a:ext cx="3125880" cy="4319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50920" y="587700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79280" y="177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Ручной    при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00360" y="3573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Нож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ри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580000" y="5661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Электрический при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Определите   вид  привода  в швейной  машин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6072120" y="1071720"/>
            <a:ext cx="2592360" cy="360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176720" cy="30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3929040" y="785880"/>
            <a:ext cx="28796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стройство  бытовой  швейной машин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Рисунок 050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Платформ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тойка  рука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Рука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аховое  колесо (маховик)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ращать на себя 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Стержень  для  катуш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оталка ( механизм намотки  шпульки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Нитенаправител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итепритягиватель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Лапка  прижимная 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ычаг  прижимной лапки 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8d3e"/>
                </a:solidFill>
                <a:latin typeface="Times New Roman"/>
              </a:rPr>
              <a:t>Физкультминутка</a:t>
            </a:r>
            <a:endParaRPr b="1" lang="en-US" sz="4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4" descr="bdee23efedc7"/>
          <p:cNvPicPr/>
          <p:nvPr/>
        </p:nvPicPr>
        <p:blipFill>
          <a:blip r:embed="rId1"/>
          <a:stretch/>
        </p:blipFill>
        <p:spPr>
          <a:xfrm>
            <a:off x="2500200" y="428760"/>
            <a:ext cx="4175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8:02:12Z</dcterms:created>
  <dc:creator>User</dc:creator>
  <dc:description/>
  <dc:language>en-US</dc:language>
  <cp:lastModifiedBy>Fumi</cp:lastModifiedBy>
  <dcterms:modified xsi:type="dcterms:W3CDTF">2019-12-19T18:03:07Z</dcterms:modified>
  <cp:revision>39</cp:revision>
  <dc:subject/>
  <dc:title>Бытовая швейная машина</dc:title>
</cp:coreProperties>
</file>