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A84-32EF-452A-8B64-9FA65F73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57F-B87C-4869-BF1E-F7672E79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5EF-919E-456D-9205-67D18522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820-43BB-4AC7-9057-62F8604E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BEA-EED5-47C4-9939-F42DB050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647F-17B7-4D37-9A3C-BA415184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3902-6842-41DC-AEE4-705F6DB5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F3D3-1367-42AC-8D5D-FE17F84E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19E-744C-4931-88AE-0A9003EB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12EE-E6ED-42C7-A388-FE2A4270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9BE2-A350-4799-82A1-326A2A5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F5E-A48E-47BD-8AC5-1499F99E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64C-F53D-48C9-8826-EE960657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D9B4-4F75-4E6E-AF53-89095E1B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954E-F71E-4CD9-B3DA-D03E7331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8975-57BE-4D13-B391-A8AF4EA5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1462-445D-47CF-961B-A43F3B95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0B8-6E92-4666-B674-61562C4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FBD-4954-4057-A7C5-4F8CD288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A60-AD34-4884-8959-EE83F382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832-9865-4793-B68B-B568D692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456-F26B-4288-86BD-3BB9FEE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B15-8593-4646-BF3D-11D13DF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AE6-0229-4CFA-8077-A7E1AF25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D532-68ED-472E-AAAD-94C245AA23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E29-921F-4CD2-A793-205674486C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7240" y="274284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сследовательская работа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Вольная воля»</a:t>
            </a:r>
            <a:br>
              <a:rPr sz="4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 вкладе наших земляков – графа С.П.Румянцева и князя С.П.Голицына в дело освобождения крестьян от крепостной зависимости.</a:t>
            </a: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Проект подготовила: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Горшунова Анастасия, </a:t>
            </a: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                                  ученица 8Б класса</a:t>
            </a:r>
            <a:br>
              <a:rPr sz="1600"/>
            </a:b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Руководитель:Ягодкина Н.А.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, учитель истории и                                       обществознания МАОУ СОШ №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9" descr="731c031792f0t"/>
          <p:cNvPicPr/>
          <p:nvPr/>
        </p:nvPicPr>
        <p:blipFill>
          <a:blip r:embed="rId1"/>
          <a:srcRect l="0" t="8062" r="5621" b="0"/>
          <a:stretch/>
        </p:blipFill>
        <p:spPr>
          <a:xfrm>
            <a:off x="152280" y="152280"/>
            <a:ext cx="1800360" cy="236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133360" y="1066320"/>
            <a:ext cx="61722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828440" y="22860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Муниципальное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втономное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общеобразовательное учреждение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средняя общеобразовательная школа №3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11" descr="alex2"/>
          <p:cNvPicPr/>
          <p:nvPr/>
        </p:nvPicPr>
        <p:blipFill>
          <a:blip r:embed="rId2"/>
          <a:srcRect l="2338" t="5047" r="0" b="2449"/>
          <a:stretch/>
        </p:blipFill>
        <p:spPr>
          <a:xfrm>
            <a:off x="6813720" y="228600"/>
            <a:ext cx="2101680" cy="24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vorontsov_og1-28"/>
          <p:cNvPicPr/>
          <p:nvPr/>
        </p:nvPicPr>
        <p:blipFill>
          <a:blip r:embed="rId3"/>
          <a:srcRect l="4268" t="0" r="3957" b="1434"/>
          <a:stretch/>
        </p:blipFill>
        <p:spPr>
          <a:xfrm>
            <a:off x="228600" y="2590920"/>
            <a:ext cx="34084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Александр Второй за отмену крепостного права получил народный титул «Освободитель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3" descr="alex2"/>
          <p:cNvPicPr/>
          <p:nvPr/>
        </p:nvPicPr>
        <p:blipFill>
          <a:blip r:embed="rId1"/>
          <a:stretch/>
        </p:blipFill>
        <p:spPr>
          <a:xfrm>
            <a:off x="228600" y="1219320"/>
            <a:ext cx="4035600" cy="510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l2_m"/>
          <p:cNvPicPr/>
          <p:nvPr/>
        </p:nvPicPr>
        <p:blipFill>
          <a:blip r:embed="rId2"/>
          <a:stretch/>
        </p:blipFill>
        <p:spPr>
          <a:xfrm>
            <a:off x="4495680" y="990720"/>
            <a:ext cx="4440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9 февраля 1861 г. в Петербурге  Александр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писал  Манифест об отмене крепостного права и Положение о крестьянах, выходящих из крепостной зависимости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 отмену крепостного права царь получил народный  титул «Освободитель». Гусиное перо, которым он подписал документ, хранилось как историческая реликвия до 1917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 крестьянской реформой последовали другие реформы: земская, городская, судебная, военная, образов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ного было сделано для развития народного просвещения: утроилось число учебных заведений,  в городах открылись университеты, доступ к образованию получили и женщ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лександр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ошел в историю государства Российского как царь - реформатор, царь - освобод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560" y="277560"/>
            <a:ext cx="6172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Александр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и благодарные крестьяне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3" descr="pivovar2"/>
          <p:cNvPicPr/>
          <p:nvPr/>
        </p:nvPicPr>
        <p:blipFill>
          <a:blip r:embed="rId1"/>
          <a:srcRect l="11830" t="0" r="0" b="7932"/>
          <a:stretch/>
        </p:blipFill>
        <p:spPr>
          <a:xfrm>
            <a:off x="2666880" y="2286000"/>
            <a:ext cx="6248520" cy="4419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eks430000000000171713"/>
          <p:cNvPicPr/>
          <p:nvPr/>
        </p:nvPicPr>
        <p:blipFill>
          <a:blip r:embed="rId2"/>
          <a:stretch/>
        </p:blipFill>
        <p:spPr>
          <a:xfrm>
            <a:off x="228600" y="152280"/>
            <a:ext cx="23320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равюра 1883г. Крестьяне благодарят  императора Александра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3" descr="e7ab508410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6386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ергей Павлович Голицын –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внук Сергея Петровича Румянцева, продолжатель дела своего деда об освобождении крестьян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3" descr="05"/>
          <p:cNvPicPr/>
          <p:nvPr/>
        </p:nvPicPr>
        <p:blipFill>
          <a:blip r:embed="rId1"/>
          <a:srcRect l="4163" t="2859" r="6253" b="12862"/>
          <a:stretch/>
        </p:blipFill>
        <p:spPr>
          <a:xfrm>
            <a:off x="457200" y="152280"/>
            <a:ext cx="3943440" cy="541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8"/>
          <p:cNvPicPr/>
          <p:nvPr/>
        </p:nvPicPr>
        <p:blipFill>
          <a:blip r:embed="rId2"/>
          <a:stretch/>
        </p:blipFill>
        <p:spPr>
          <a:xfrm>
            <a:off x="4648320" y="152280"/>
            <a:ext cx="4117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олицыны занимались благотворительностью, что в те времена считалось  совершенно естественным явлени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Троицком была открыта богадельня, где принимали обездоленных, больных и немощных странни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ргей Павлович Голицын был избран московским дворянством  кандидатом по Богородскому уезду в члены губернского комитета по составлению проекта Положения об устройстве быта помещичьих крестьян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го перу принадлежит брошюра для народа «Памятная Правда», где он ознакомил крестьян с предполагаемой реформ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Троицком открывает школу на 50 учеников, вносит единовременно 1000 рублей и обязуется вносить ежегодно по 150 рублей. Школа названа «Школой 19 февраля 1886 года имени Александра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troiskoe-kaynardji_027_deadokey"/>
          <p:cNvPicPr/>
          <p:nvPr/>
        </p:nvPicPr>
        <p:blipFill>
          <a:blip r:embed="rId1"/>
          <a:srcRect l="15519" t="0" r="0" b="36713"/>
          <a:stretch/>
        </p:blipFill>
        <p:spPr>
          <a:xfrm>
            <a:off x="152280" y="3733920"/>
            <a:ext cx="4267440" cy="2971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805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егодня мы можем только догадываться, как жили крестьян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о времена графа  С.П. Румянцева и князя С.П. Голицы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11" descr="ludi_6"/>
          <p:cNvPicPr/>
          <p:nvPr/>
        </p:nvPicPr>
        <p:blipFill>
          <a:blip r:embed="rId2"/>
          <a:srcRect l="8340" t="10445" r="5904" b="9500"/>
          <a:stretch/>
        </p:blipFill>
        <p:spPr>
          <a:xfrm>
            <a:off x="152280" y="990720"/>
            <a:ext cx="4038840" cy="2657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troi3"/>
          <p:cNvPicPr/>
          <p:nvPr/>
        </p:nvPicPr>
        <p:blipFill>
          <a:blip r:embed="rId3"/>
          <a:srcRect l="0" t="0" r="3121" b="3381"/>
          <a:stretch/>
        </p:blipFill>
        <p:spPr>
          <a:xfrm>
            <a:off x="4495680" y="1523880"/>
            <a:ext cx="464832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17328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Памятник царю – освободителю в Петербурге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Picture 3" descr="Aleksandr_II_Finland_Helsinki_Senatskaya_Square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5791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амятник  царю-освободителю  в  Москве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Монумент построен  в  1911  году, а после  1917  года  уничтожен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8" descr="Крепостное право"/>
          <p:cNvPicPr/>
          <p:nvPr/>
        </p:nvPicPr>
        <p:blipFill>
          <a:blip r:embed="rId1"/>
          <a:srcRect l="0" t="5972" r="4674" b="2986"/>
          <a:stretch/>
        </p:blipFill>
        <p:spPr>
          <a:xfrm>
            <a:off x="228600" y="22860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воды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ширены школьные знания по вопросу отмены крепостного права в Российской импери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йдены и изучены документы, рассказывающие о наших земляках – графе Румянцеве и князе Голицыне, принимавших активное участие в освобождении крестьян задолго до  крестьянской реформы 1861 год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йдены и изучены документы, повествующие об освобождении крестьян в количестве 676 душ без выкупа графом Румянцевым С.П.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шло подтверждение предположение об особом расположении крестьян к своему благодетелю графу Румянцеву – желание установить ему памятник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казано, что князь Голицын  активно занимался благотворительностью в отношении крестьян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Цели и задачи исследовательской работ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зучить краеведческий материал и выявить дворян, которые освобождали  своих крепостных задолго до реформы 1861 год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айти и изучить документы, подтверждающие факты, что в нашей местности крестьян освободили гораздо раньше, чем это было сделано по всей Росси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пределить роль наших земляков – графа С.П.Румянцева и князя С.П.Голицына в историческом событии – отмене крепостного права в Российской импери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доказать, что граф Румянцев был инициатором освобождения крестьян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eksandr-1"/>
          <p:cNvPicPr/>
          <p:nvPr/>
        </p:nvPicPr>
        <p:blipFill>
          <a:blip r:embed="rId1"/>
          <a:srcRect l="0" t="11866" r="0" b="0"/>
          <a:stretch/>
        </p:blipFill>
        <p:spPr>
          <a:xfrm>
            <a:off x="0" y="609480"/>
            <a:ext cx="3648240" cy="449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_20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504960" y="17521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 1803 году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ергей Петрович Румянцев выступил с инициативой создания указа о  свободных хлебопашцах. Он подал царю - Александру Первому  записку, в которой предлагал предоставить помещикам право отпускать крестьян на волю, наделяя их земле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мператор Российский Александр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был готов провести реформы и изменить бедственное положение крестьян, но как это сделать, чтобы сохранить и дворянские привилегии, и изменить участь самого многочисленного сословия – крестьянства, он пока не зна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государстве было множество нерешенных вопросов, но молодой император был полон идей эпохи Просвещения и стремился преобразовать Россию в соответствии с ни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801 г. издан указ, позволяющий лицам недворянског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исхождения покупать землю в собственность. С этим был тесно связан указ 1803 года «О вольных хлебопашцах», по которому помещики получали возможность освобождать крестьян за выкуп с земле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каз носил рекомендательный характер: к 1861 году было освобождено около 1,5 % крепостны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1112-092"/>
          <p:cNvPicPr/>
          <p:nvPr/>
        </p:nvPicPr>
        <p:blipFill>
          <a:blip r:embed="rId1"/>
          <a:stretch/>
        </p:blipFill>
        <p:spPr>
          <a:xfrm>
            <a:off x="1828800" y="152280"/>
            <a:ext cx="4892760" cy="5639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04560" y="57913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лександр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передает  «Указ о вольных хлебопашцах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рафу Сергею Петровичу Румянцеву 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(Гравюра)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  Граф Сергей Петрович Румянцев был инициатором Указ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О вольных хлебопашцах», который лег в основу Положе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б освобождении крестьян от зависимост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  отпустил на волю с землей 676 душ крепостных крестьян из нескольких Подмосковных деревень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   в селе Тарутино соорудил памятник, чтобы увековечить победу русских воинов над французами в  войне 1812 г., на средства вырученные за освобождение крестьян с землей,  ставших вольными хлебопашцам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   в селе Фенино поставил памятник Екатерине Второй в память о ее посещении Троицкого имения его отца; на этом памятнике имелась надпись о том, что в 1833 г. граф освободил своих крестьян с землей и без выкуп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раф Сергей Петрович Румянцев в имении Троицкое-Кайнаржди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 настоящее время прекрасно сохранился только храмовый комплекс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7" descr="2001-442"/>
          <p:cNvPicPr/>
          <p:nvPr/>
        </p:nvPicPr>
        <p:blipFill>
          <a:blip r:embed="rId1"/>
          <a:srcRect l="0" t="11112" r="2171" b="2907"/>
          <a:stretch/>
        </p:blipFill>
        <p:spPr>
          <a:xfrm>
            <a:off x="304920" y="228600"/>
            <a:ext cx="399096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Троицкая церковь"/>
          <p:cNvPicPr/>
          <p:nvPr/>
        </p:nvPicPr>
        <p:blipFill>
          <a:blip r:embed="rId2"/>
          <a:srcRect l="0" t="0" r="0" b="6812"/>
          <a:stretch/>
        </p:blipFill>
        <p:spPr>
          <a:xfrm>
            <a:off x="4572000" y="609480"/>
            <a:ext cx="4375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Изображение11"/>
          <p:cNvPicPr/>
          <p:nvPr/>
        </p:nvPicPr>
        <p:blipFill>
          <a:blip r:embed="rId1"/>
          <a:srcRect l="5356" t="0" r="0" b="3338"/>
          <a:stretch/>
        </p:blipFill>
        <p:spPr>
          <a:xfrm>
            <a:off x="152280" y="2286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495320" y="609120"/>
            <a:ext cx="4496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амятник на въезде в Фенино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далеко от усадьбы Троицкое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памятнике две надписи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От Екатерины дана сему месту знаменитость, оглашающая навсегда заслуги графа Румянцева-Задунайского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Крестьяне приобрели безвозмездную свободу в 1833 году от благоговеющей благодарности графа Сергея Румянцева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егодня на месте этого памятника установлена стела в честь памяти земляков, павших в Великой Отечественной войне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Храмовый комплекс прекрасно сохранился до настоящего времен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3" descr="Изображение29"/>
          <p:cNvPicPr/>
          <p:nvPr/>
        </p:nvPicPr>
        <p:blipFill>
          <a:blip r:embed="rId1"/>
          <a:srcRect l="8395" t="5028" r="11362" b="3370"/>
          <a:stretch/>
        </p:blipFill>
        <p:spPr>
          <a:xfrm>
            <a:off x="380880" y="0"/>
            <a:ext cx="3502080" cy="5257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troiskoe-kaynardji_000_deadokey"/>
          <p:cNvPicPr/>
          <p:nvPr/>
        </p:nvPicPr>
        <p:blipFill>
          <a:blip r:embed="rId2"/>
          <a:srcRect l="0" t="0" r="0" b="6895"/>
          <a:stretch/>
        </p:blipFill>
        <p:spPr>
          <a:xfrm>
            <a:off x="4038480" y="152280"/>
            <a:ext cx="49849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17T07:23:55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