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4.gif" ContentType="image/gif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7DF7-9FC6-42A7-86AC-3C34B8224C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лед за опылением начинается процесс оплодотворения семязачатков. Давай попробуем разобраться, как происходит процесс оплодотво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AFC2-97B4-48A2-8D9A-DBCB214D2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C83C-924B-4600-9C43-C08A5706D1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ое размножение покрытосеменных растений связано с цветком. Его важнейшие ча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чинки, в них образуются мужские половые клетки – сперм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стик, в нем образуются женские половые клетки – яйцеклет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стике и тычинках происходят сложные процессы, связанные с половым размножением (оплодотворение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одотворение – это процесс слияния двух половых клето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эти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C8F9-23CA-4449-817F-06D682B7F5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ыльниках тычинок происходит деление клеток, в результате которого образуется пыльца, состоящая из пыльцевых зер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ыльцевое зерно покрыто двумя оболочками. Наружная оболочка неровная, с шипиками и выростами, которые помогают пыльцевому зерну удерживаться на рыльце пе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 пыльцевого зерна развиваются: вегетативная клетка и два спер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8B08-1BF9-4449-992C-0928CDA126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же время в пестике цветка образуется яйцекле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лости завязи пестика находится семязачаток (семяпоч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язачаток одет покровом. На вершине его есть узкий канал – пыльцевход, который ведет в зародышевый меш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родышевом мешке растений располагаются: яйцеклетка, крупная клетка и направляющие кл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EB4F-D799-44B0-BD15-5BE88A43B7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озревания пыльца в результате опыления попадает на рыльце пестика. Помнишь, мы говорили с тобой о клейкой жидкости? Она выделяется у многих цветков на рыльце и помогает пыльце удерживаться на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ыльца сразу начинает прорастать, образуя пыльцевые трубки. Каждая пыльцевая трубка прорастает через столбик пестика до тех пор, пока не достигнет семязачатка. По мере роста пыльцевой трубки по ней передвигаются спе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51DA-B2D8-470A-806E-FF337BF49A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ыльцевая трубка достигает зародышевого мешка, то спермии из нее выходят внутрь семязача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них сливается с яйцеклеткой, в результате образуется зиг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сливается с крупной кле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вшаяся зигота многократно делится, и в результате образуется зародыш с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ная клетка тоже делится, образуя клетки эндосперма, в которых накапливается запас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окровов семязачатка развивается семенная кожура. Формируется с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плодотворения к завязи притекают питательные вещества, и она постепенно превращается в спелый плод. Околоплодник, защищающий семена от неблагоприятных условий, развивается из стенок завяз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0349-2AE2-4425-9A9A-76DAE4EA51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 растений при оплодотворении происходит 2 слияния: первый спермий сливается с яйцеклеткой, второй – с крупной центральной кле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роцесс открыл в 1898 году русский ботаник Навашин Сергей Гаврилович (1857 – 1930) и назвал его двойным оплодотворением. Двойное оплодотворение характерно только для цветковых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284E-77DB-4F5D-9DA5-20DBBD673D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2 правильных от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F1B-CA45-483A-B9E3-9861D58E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ABC-0CD5-4868-8103-4F3735C7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6AF-517B-4A3E-99CE-17AB30A3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3D1-ABB1-47A1-8BB7-0A1A4112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007B-577C-4A58-8B7C-F40639FC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C434-AE06-4F59-BFE9-6AD4594C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4320-E140-454E-B772-D7C0B6E8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486D-D8CD-49AA-856C-45DDEDC6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ACC0-8FC0-4382-A471-ABFF04B2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60F6-187C-43EC-94F1-CC77EDD8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16D2-5C7E-4247-96A3-6E2678E5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093-C096-455E-965D-AE0DF06F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EC5E-D135-4842-8765-9F1E6BED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ABC2-C209-4B84-AB80-2882AF2C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1FF8-E072-424F-8A0B-35AE766F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97B8-FE4D-43B8-9A34-DC2B36C5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76B0-113C-40EC-902B-721B9AF1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98D-8348-43E8-A71F-037ADC7F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4CF-0F1E-4E4B-A4A0-2AB32E4F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FE0-E5CA-4C49-A9C9-2C7CCF24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9CB-96C7-4ABC-BBD4-3D9720BE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682-7D29-45F1-B0CA-03588B73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90B-8171-4421-8B8E-5718271A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AD4-3E32-48C1-836E-34E82989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5F5A-C4F5-4DB5-ABEA-9FAE710A87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A7C7-15B4-4E4D-B413-8F1E29219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18.gi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1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12.png"/><Relationship Id="rId7" Type="http://schemas.openxmlformats.org/officeDocument/2006/relationships/image" Target="../media/image17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21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066680" y="1352520"/>
            <a:ext cx="7010640" cy="2036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500200" y="3642840"/>
            <a:ext cx="4214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8480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1785960" y="4784760"/>
            <a:ext cx="5499000" cy="5857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763640" y="558936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§ 44, повторить § 40-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4" descr="sun-regular"/>
          <p:cNvPicPr/>
          <p:nvPr/>
        </p:nvPicPr>
        <p:blipFill>
          <a:blip r:embed="rId2"/>
          <a:srcRect l="0" t="10544" r="0" b="10544"/>
          <a:stretch/>
        </p:blipFill>
        <p:spPr>
          <a:xfrm>
            <a:off x="3059280" y="1628640"/>
            <a:ext cx="28843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, как происходит процесс оплодотвор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о значение полового размно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26960" y="268200"/>
            <a:ext cx="828360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цветок-(гол)"/>
          <p:cNvPicPr/>
          <p:nvPr/>
        </p:nvPicPr>
        <p:blipFill>
          <a:blip r:embed="rId2"/>
          <a:stretch/>
        </p:blipFill>
        <p:spPr>
          <a:xfrm>
            <a:off x="1655640" y="1557360"/>
            <a:ext cx="4154760" cy="34956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4"/>
          <p:cNvGrpSpPr/>
          <p:nvPr/>
        </p:nvGrpSpPr>
        <p:grpSpPr>
          <a:xfrm>
            <a:off x="4356000" y="2349360"/>
            <a:ext cx="4464000" cy="459720"/>
            <a:chOff x="4356000" y="2349360"/>
            <a:chExt cx="4464000" cy="459720"/>
          </a:xfrm>
        </p:grpSpPr>
        <p:sp>
          <p:nvSpPr>
            <p:cNvPr id="96" name="Text Box 5"/>
            <p:cNvSpPr/>
            <p:nvPr/>
          </p:nvSpPr>
          <p:spPr>
            <a:xfrm>
              <a:off x="6840360" y="2349360"/>
              <a:ext cx="19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ычин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"/>
            <p:cNvSpPr/>
            <p:nvPr/>
          </p:nvSpPr>
          <p:spPr>
            <a:xfrm flipH="1" flipV="1">
              <a:off x="4356000" y="2565000"/>
              <a:ext cx="234000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7"/>
          <p:cNvGrpSpPr/>
          <p:nvPr/>
        </p:nvGrpSpPr>
        <p:grpSpPr>
          <a:xfrm>
            <a:off x="3851280" y="3403440"/>
            <a:ext cx="4968720" cy="459720"/>
            <a:chOff x="3851280" y="3403440"/>
            <a:chExt cx="4968720" cy="459720"/>
          </a:xfrm>
        </p:grpSpPr>
        <p:sp>
          <p:nvSpPr>
            <p:cNvPr id="99" name="Text Box 8"/>
            <p:cNvSpPr/>
            <p:nvPr/>
          </p:nvSpPr>
          <p:spPr>
            <a:xfrm>
              <a:off x="6840360" y="3403440"/>
              <a:ext cx="19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ест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 flipH="1">
              <a:off x="3851280" y="3638520"/>
              <a:ext cx="2844720" cy="6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26920" y="5229000"/>
            <a:ext cx="8088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omic Sans MS"/>
              </a:rPr>
              <a:t>   </a:t>
            </a:r>
            <a:r>
              <a:rPr b="1" i="1" lang="ru-RU" sz="3200" spc="-1" strike="noStrike">
                <a:solidFill>
                  <a:srgbClr val="632523"/>
                </a:solidFill>
                <a:latin typeface="Comic Sans MS"/>
              </a:rPr>
              <a:t>Оплодотворение</a:t>
            </a:r>
            <a:r>
              <a:rPr b="0" lang="ru-RU" sz="3200" spc="-1" strike="noStrike">
                <a:solidFill>
                  <a:srgbClr val="632523"/>
                </a:solidFill>
                <a:latin typeface="Comic Sans MS"/>
              </a:rPr>
              <a:t> – это процесс слияния     двух половых кл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цветок-(гол)"/>
          <p:cNvPicPr/>
          <p:nvPr/>
        </p:nvPicPr>
        <p:blipFill>
          <a:blip r:embed="rId1"/>
          <a:stretch/>
        </p:blipFill>
        <p:spPr>
          <a:xfrm>
            <a:off x="395280" y="2657520"/>
            <a:ext cx="4299120" cy="36162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3218040" y="2925720"/>
            <a:ext cx="3708360" cy="755640"/>
            <a:chOff x="3218040" y="2925720"/>
            <a:chExt cx="3708360" cy="755640"/>
          </a:xfrm>
        </p:grpSpPr>
        <p:sp>
          <p:nvSpPr>
            <p:cNvPr id="104" name="Text Box 4"/>
            <p:cNvSpPr/>
            <p:nvPr/>
          </p:nvSpPr>
          <p:spPr>
            <a:xfrm>
              <a:off x="5486400" y="292572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ыль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5"/>
            <p:cNvSpPr/>
            <p:nvPr/>
          </p:nvSpPr>
          <p:spPr>
            <a:xfrm flipH="1">
              <a:off x="3218040" y="3141720"/>
              <a:ext cx="2232000" cy="53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Rectangle 6" descr=""/>
          <p:cNvPicPr/>
          <p:nvPr/>
        </p:nvPicPr>
        <p:blipFill>
          <a:blip r:embed="rId2"/>
          <a:stretch/>
        </p:blipFill>
        <p:spPr>
          <a:xfrm>
            <a:off x="171360" y="79200"/>
            <a:ext cx="8979120" cy="1384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пыльца"/>
          <p:cNvPicPr/>
          <p:nvPr/>
        </p:nvPicPr>
        <p:blipFill>
          <a:blip r:embed="rId3"/>
          <a:stretch/>
        </p:blipFill>
        <p:spPr>
          <a:xfrm>
            <a:off x="1149480" y="1700280"/>
            <a:ext cx="4070160" cy="431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оболочка пыльцы"/>
          <p:cNvPicPr/>
          <p:nvPr/>
        </p:nvPicPr>
        <p:blipFill>
          <a:blip r:embed="rId4"/>
          <a:stretch/>
        </p:blipFill>
        <p:spPr>
          <a:xfrm>
            <a:off x="1149480" y="1700280"/>
            <a:ext cx="4070160" cy="4317840"/>
          </a:xfrm>
          <a:prstGeom prst="rect">
            <a:avLst/>
          </a:prstGeom>
          <a:ln w="0">
            <a:noFill/>
          </a:ln>
        </p:spPr>
      </p:pic>
      <p:sp>
        <p:nvSpPr>
          <p:cNvPr id="109" name="Oval 9"/>
          <p:cNvSpPr/>
          <p:nvPr/>
        </p:nvSpPr>
        <p:spPr>
          <a:xfrm>
            <a:off x="1943280" y="2960640"/>
            <a:ext cx="2628720" cy="20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2695320" y="3039480"/>
            <a:ext cx="1052640" cy="923040"/>
            <a:chOff x="2695320" y="3039480"/>
            <a:chExt cx="1052640" cy="923040"/>
          </a:xfrm>
        </p:grpSpPr>
        <p:sp>
          <p:nvSpPr>
            <p:cNvPr id="111" name="Oval 11"/>
            <p:cNvSpPr/>
            <p:nvPr/>
          </p:nvSpPr>
          <p:spPr>
            <a:xfrm rot="20722200">
              <a:off x="2771280" y="3141360"/>
              <a:ext cx="900360" cy="718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2"/>
            <p:cNvSpPr/>
            <p:nvPr/>
          </p:nvSpPr>
          <p:spPr>
            <a:xfrm>
              <a:off x="3184560" y="3381120"/>
              <a:ext cx="149040" cy="13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3"/>
          <p:cNvGrpSpPr/>
          <p:nvPr/>
        </p:nvGrpSpPr>
        <p:grpSpPr>
          <a:xfrm>
            <a:off x="3399480" y="4055760"/>
            <a:ext cx="940320" cy="618120"/>
            <a:chOff x="3399480" y="4055760"/>
            <a:chExt cx="940320" cy="618120"/>
          </a:xfrm>
        </p:grpSpPr>
        <p:sp>
          <p:nvSpPr>
            <p:cNvPr id="114" name="Oval 14"/>
            <p:cNvSpPr/>
            <p:nvPr/>
          </p:nvSpPr>
          <p:spPr>
            <a:xfrm rot="20211000">
              <a:off x="3419640" y="4221000"/>
              <a:ext cx="900000" cy="287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5"/>
            <p:cNvSpPr/>
            <p:nvPr/>
          </p:nvSpPr>
          <p:spPr>
            <a:xfrm rot="20211000">
              <a:off x="3940920" y="4231080"/>
              <a:ext cx="149400" cy="13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6"/>
          <p:cNvGrpSpPr/>
          <p:nvPr/>
        </p:nvGrpSpPr>
        <p:grpSpPr>
          <a:xfrm>
            <a:off x="2429280" y="4296240"/>
            <a:ext cx="934200" cy="426600"/>
            <a:chOff x="2429280" y="4296240"/>
            <a:chExt cx="934200" cy="426600"/>
          </a:xfrm>
        </p:grpSpPr>
        <p:sp>
          <p:nvSpPr>
            <p:cNvPr id="117" name="Oval 17"/>
            <p:cNvSpPr/>
            <p:nvPr/>
          </p:nvSpPr>
          <p:spPr>
            <a:xfrm flipH="1" rot="548400">
              <a:off x="2445840" y="4365720"/>
              <a:ext cx="900000" cy="287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8"/>
            <p:cNvSpPr/>
            <p:nvPr/>
          </p:nvSpPr>
          <p:spPr>
            <a:xfrm flipH="1" rot="548400">
              <a:off x="2663280" y="4413240"/>
              <a:ext cx="149400" cy="13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9"/>
          <p:cNvGrpSpPr/>
          <p:nvPr/>
        </p:nvGrpSpPr>
        <p:grpSpPr>
          <a:xfrm>
            <a:off x="3168720" y="2216160"/>
            <a:ext cx="5975280" cy="459720"/>
            <a:chOff x="3168720" y="2216160"/>
            <a:chExt cx="5975280" cy="459720"/>
          </a:xfrm>
        </p:grpSpPr>
        <p:sp>
          <p:nvSpPr>
            <p:cNvPr id="120" name="Text Box 20"/>
            <p:cNvSpPr/>
            <p:nvPr/>
          </p:nvSpPr>
          <p:spPr>
            <a:xfrm>
              <a:off x="5580000" y="2216160"/>
              <a:ext cx="35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олоч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1"/>
            <p:cNvSpPr/>
            <p:nvPr/>
          </p:nvSpPr>
          <p:spPr>
            <a:xfrm flipH="1">
              <a:off x="3168720" y="2444760"/>
              <a:ext cx="2340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"/>
          <p:cNvGrpSpPr/>
          <p:nvPr/>
        </p:nvGrpSpPr>
        <p:grpSpPr>
          <a:xfrm>
            <a:off x="3312720" y="3151080"/>
            <a:ext cx="5831280" cy="459720"/>
            <a:chOff x="3312720" y="3151080"/>
            <a:chExt cx="5831280" cy="459720"/>
          </a:xfrm>
        </p:grpSpPr>
        <p:sp>
          <p:nvSpPr>
            <p:cNvPr id="123" name="Text Box 23"/>
            <p:cNvSpPr/>
            <p:nvPr/>
          </p:nvSpPr>
          <p:spPr>
            <a:xfrm>
              <a:off x="5580000" y="3151080"/>
              <a:ext cx="35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гетативная клет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 flipH="1">
              <a:off x="3312720" y="3379680"/>
              <a:ext cx="21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5"/>
          <p:cNvGrpSpPr/>
          <p:nvPr/>
        </p:nvGrpSpPr>
        <p:grpSpPr>
          <a:xfrm>
            <a:off x="4392720" y="3681360"/>
            <a:ext cx="4751280" cy="459720"/>
            <a:chOff x="4392720" y="3681360"/>
            <a:chExt cx="4751280" cy="459720"/>
          </a:xfrm>
        </p:grpSpPr>
        <p:sp>
          <p:nvSpPr>
            <p:cNvPr id="126" name="Text Box 26"/>
            <p:cNvSpPr/>
            <p:nvPr/>
          </p:nvSpPr>
          <p:spPr>
            <a:xfrm>
              <a:off x="5580000" y="3681360"/>
              <a:ext cx="35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ыльцевое зер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7"/>
            <p:cNvSpPr/>
            <p:nvPr/>
          </p:nvSpPr>
          <p:spPr>
            <a:xfrm flipH="1">
              <a:off x="4392720" y="3909960"/>
              <a:ext cx="11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28"/>
          <p:cNvGrpSpPr/>
          <p:nvPr/>
        </p:nvGrpSpPr>
        <p:grpSpPr>
          <a:xfrm>
            <a:off x="3132000" y="4309920"/>
            <a:ext cx="6012000" cy="1029600"/>
            <a:chOff x="3132000" y="4309920"/>
            <a:chExt cx="6012000" cy="1029600"/>
          </a:xfrm>
        </p:grpSpPr>
        <p:sp>
          <p:nvSpPr>
            <p:cNvPr id="129" name="Text Box 29"/>
            <p:cNvSpPr/>
            <p:nvPr/>
          </p:nvSpPr>
          <p:spPr>
            <a:xfrm>
              <a:off x="5580000" y="4879800"/>
              <a:ext cx="35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ерм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 flipH="1" flipV="1">
              <a:off x="4103280" y="4309920"/>
              <a:ext cx="1405080" cy="81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1"/>
            <p:cNvSpPr/>
            <p:nvPr/>
          </p:nvSpPr>
          <p:spPr>
            <a:xfrm flipH="1" flipV="1">
              <a:off x="3132000" y="4484160"/>
              <a:ext cx="2376720" cy="63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8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Пестик 1"/>
          <p:cNvPicPr/>
          <p:nvPr/>
        </p:nvPicPr>
        <p:blipFill>
          <a:blip r:embed="rId2"/>
          <a:stretch/>
        </p:blipFill>
        <p:spPr>
          <a:xfrm>
            <a:off x="1258920" y="1557360"/>
            <a:ext cx="2519280" cy="493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семязачаток"/>
          <p:cNvPicPr/>
          <p:nvPr/>
        </p:nvPicPr>
        <p:blipFill>
          <a:blip r:embed="rId3"/>
          <a:stretch/>
        </p:blipFill>
        <p:spPr>
          <a:xfrm>
            <a:off x="1382760" y="3494160"/>
            <a:ext cx="2263680" cy="2625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крупная клетка"/>
          <p:cNvPicPr/>
          <p:nvPr/>
        </p:nvPicPr>
        <p:blipFill>
          <a:blip r:embed="rId4"/>
          <a:stretch/>
        </p:blipFill>
        <p:spPr>
          <a:xfrm>
            <a:off x="2039760" y="3940200"/>
            <a:ext cx="1163880" cy="1562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клетки"/>
          <p:cNvPicPr/>
          <p:nvPr/>
        </p:nvPicPr>
        <p:blipFill>
          <a:blip r:embed="rId5"/>
          <a:stretch/>
        </p:blipFill>
        <p:spPr>
          <a:xfrm>
            <a:off x="1887480" y="3940200"/>
            <a:ext cx="1308240" cy="1555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клетка 1"/>
          <p:cNvPicPr/>
          <p:nvPr/>
        </p:nvPicPr>
        <p:blipFill>
          <a:blip r:embed="rId6"/>
          <a:stretch/>
        </p:blipFill>
        <p:spPr>
          <a:xfrm>
            <a:off x="2217600" y="500868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яйцеклетка"/>
          <p:cNvPicPr/>
          <p:nvPr/>
        </p:nvPicPr>
        <p:blipFill>
          <a:blip r:embed="rId7"/>
          <a:stretch/>
        </p:blipFill>
        <p:spPr>
          <a:xfrm>
            <a:off x="2394000" y="4361040"/>
            <a:ext cx="360360" cy="593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Зародышевой мешок"/>
          <p:cNvPicPr/>
          <p:nvPr/>
        </p:nvPicPr>
        <p:blipFill>
          <a:blip r:embed="rId8"/>
          <a:stretch/>
        </p:blipFill>
        <p:spPr>
          <a:xfrm>
            <a:off x="1671480" y="3746520"/>
            <a:ext cx="1824120" cy="237312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0"/>
          <p:cNvGrpSpPr/>
          <p:nvPr/>
        </p:nvGrpSpPr>
        <p:grpSpPr>
          <a:xfrm>
            <a:off x="2808360" y="2852640"/>
            <a:ext cx="5832360" cy="755640"/>
            <a:chOff x="2808360" y="2852640"/>
            <a:chExt cx="5832360" cy="755640"/>
          </a:xfrm>
        </p:grpSpPr>
        <p:sp>
          <p:nvSpPr>
            <p:cNvPr id="141" name="Text Box 11"/>
            <p:cNvSpPr/>
            <p:nvPr/>
          </p:nvSpPr>
          <p:spPr>
            <a:xfrm>
              <a:off x="5076720" y="2852640"/>
              <a:ext cx="35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емязачат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2"/>
            <p:cNvSpPr/>
            <p:nvPr/>
          </p:nvSpPr>
          <p:spPr>
            <a:xfrm flipH="1">
              <a:off x="2808360" y="3068640"/>
              <a:ext cx="2232000" cy="53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3"/>
          <p:cNvGrpSpPr/>
          <p:nvPr/>
        </p:nvGrpSpPr>
        <p:grpSpPr>
          <a:xfrm>
            <a:off x="2195640" y="5637240"/>
            <a:ext cx="6445080" cy="673920"/>
            <a:chOff x="2195640" y="5637240"/>
            <a:chExt cx="6445080" cy="673920"/>
          </a:xfrm>
        </p:grpSpPr>
        <p:sp>
          <p:nvSpPr>
            <p:cNvPr id="144" name="Text Box 14"/>
            <p:cNvSpPr/>
            <p:nvPr/>
          </p:nvSpPr>
          <p:spPr>
            <a:xfrm>
              <a:off x="5076720" y="5851440"/>
              <a:ext cx="35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ыльцев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 flipH="1" flipV="1">
              <a:off x="2195640" y="5637240"/>
              <a:ext cx="2808000" cy="455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6"/>
          <p:cNvGrpSpPr/>
          <p:nvPr/>
        </p:nvGrpSpPr>
        <p:grpSpPr>
          <a:xfrm>
            <a:off x="2879640" y="4051440"/>
            <a:ext cx="5761080" cy="459720"/>
            <a:chOff x="2879640" y="4051440"/>
            <a:chExt cx="5761080" cy="459720"/>
          </a:xfrm>
        </p:grpSpPr>
        <p:sp>
          <p:nvSpPr>
            <p:cNvPr id="147" name="Text Box 17"/>
            <p:cNvSpPr/>
            <p:nvPr/>
          </p:nvSpPr>
          <p:spPr>
            <a:xfrm>
              <a:off x="5076720" y="4051440"/>
              <a:ext cx="35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ародышевый меш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8"/>
            <p:cNvSpPr/>
            <p:nvPr/>
          </p:nvSpPr>
          <p:spPr>
            <a:xfrm flipH="1">
              <a:off x="2879640" y="4292640"/>
              <a:ext cx="2160720" cy="1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9"/>
          <p:cNvGrpSpPr/>
          <p:nvPr/>
        </p:nvGrpSpPr>
        <p:grpSpPr>
          <a:xfrm>
            <a:off x="2376000" y="5251320"/>
            <a:ext cx="6264720" cy="459720"/>
            <a:chOff x="2376000" y="5251320"/>
            <a:chExt cx="6264720" cy="459720"/>
          </a:xfrm>
        </p:grpSpPr>
        <p:sp>
          <p:nvSpPr>
            <p:cNvPr id="150" name="Text Box 20"/>
            <p:cNvSpPr/>
            <p:nvPr/>
          </p:nvSpPr>
          <p:spPr>
            <a:xfrm>
              <a:off x="5076720" y="5251320"/>
              <a:ext cx="35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яйцеклет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1"/>
            <p:cNvSpPr/>
            <p:nvPr/>
          </p:nvSpPr>
          <p:spPr>
            <a:xfrm flipH="1" flipV="1">
              <a:off x="2376000" y="5265720"/>
              <a:ext cx="259092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2"/>
          <p:cNvGrpSpPr/>
          <p:nvPr/>
        </p:nvGrpSpPr>
        <p:grpSpPr>
          <a:xfrm>
            <a:off x="2626920" y="4651200"/>
            <a:ext cx="6013800" cy="459720"/>
            <a:chOff x="2626920" y="4651200"/>
            <a:chExt cx="6013800" cy="459720"/>
          </a:xfrm>
        </p:grpSpPr>
        <p:sp>
          <p:nvSpPr>
            <p:cNvPr id="153" name="Text Box 23"/>
            <p:cNvSpPr/>
            <p:nvPr/>
          </p:nvSpPr>
          <p:spPr>
            <a:xfrm>
              <a:off x="5076720" y="4651200"/>
              <a:ext cx="35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рупная клет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4"/>
            <p:cNvSpPr/>
            <p:nvPr/>
          </p:nvSpPr>
          <p:spPr>
            <a:xfrm flipH="1" flipV="1">
              <a:off x="2626920" y="4760640"/>
              <a:ext cx="241308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25"/>
          <p:cNvGrpSpPr/>
          <p:nvPr/>
        </p:nvGrpSpPr>
        <p:grpSpPr>
          <a:xfrm>
            <a:off x="3058920" y="3451320"/>
            <a:ext cx="5581800" cy="625320"/>
            <a:chOff x="3058920" y="3451320"/>
            <a:chExt cx="5581800" cy="625320"/>
          </a:xfrm>
        </p:grpSpPr>
        <p:sp>
          <p:nvSpPr>
            <p:cNvPr id="156" name="Text Box 26"/>
            <p:cNvSpPr/>
            <p:nvPr/>
          </p:nvSpPr>
          <p:spPr>
            <a:xfrm>
              <a:off x="5076720" y="3451320"/>
              <a:ext cx="35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правляющие клет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3058920" y="3608280"/>
              <a:ext cx="1944360" cy="46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24" descr="b39"/>
          <p:cNvPicPr/>
          <p:nvPr/>
        </p:nvPicPr>
        <p:blipFill>
          <a:blip r:embed="rId9"/>
          <a:stretch/>
        </p:blipFill>
        <p:spPr>
          <a:xfrm>
            <a:off x="7764480" y="545292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Rectangle 2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81576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3"/>
          <p:cNvGrpSpPr/>
          <p:nvPr/>
        </p:nvGrpSpPr>
        <p:grpSpPr>
          <a:xfrm>
            <a:off x="1084320" y="1773360"/>
            <a:ext cx="2335320" cy="4572000"/>
            <a:chOff x="1084320" y="1773360"/>
            <a:chExt cx="2335320" cy="4572000"/>
          </a:xfrm>
        </p:grpSpPr>
        <p:pic>
          <p:nvPicPr>
            <p:cNvPr id="161" name="Picture 4" descr="Пестик 1"/>
            <p:cNvPicPr/>
            <p:nvPr/>
          </p:nvPicPr>
          <p:blipFill>
            <a:blip r:embed="rId2"/>
            <a:stretch/>
          </p:blipFill>
          <p:spPr>
            <a:xfrm>
              <a:off x="1084320" y="1773360"/>
              <a:ext cx="233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5" descr="семязачаток"/>
            <p:cNvPicPr/>
            <p:nvPr/>
          </p:nvPicPr>
          <p:blipFill>
            <a:blip r:embed="rId3"/>
            <a:stretch/>
          </p:blipFill>
          <p:spPr>
            <a:xfrm>
              <a:off x="1198800" y="3568320"/>
              <a:ext cx="2098080" cy="24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" descr="крупная клетка"/>
            <p:cNvPicPr/>
            <p:nvPr/>
          </p:nvPicPr>
          <p:blipFill>
            <a:blip r:embed="rId4"/>
            <a:stretch/>
          </p:blipFill>
          <p:spPr>
            <a:xfrm>
              <a:off x="1807920" y="3981960"/>
              <a:ext cx="107856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7" descr="клетки"/>
            <p:cNvPicPr/>
            <p:nvPr/>
          </p:nvPicPr>
          <p:blipFill>
            <a:blip r:embed="rId5"/>
            <a:stretch/>
          </p:blipFill>
          <p:spPr>
            <a:xfrm>
              <a:off x="1666800" y="3981960"/>
              <a:ext cx="1212480" cy="14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8" descr="клетка 1"/>
            <p:cNvPicPr/>
            <p:nvPr/>
          </p:nvPicPr>
          <p:blipFill>
            <a:blip r:embed="rId6"/>
            <a:stretch/>
          </p:blipFill>
          <p:spPr>
            <a:xfrm>
              <a:off x="1972800" y="4971960"/>
              <a:ext cx="350280" cy="40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9" descr="яйцеклетка"/>
            <p:cNvPicPr/>
            <p:nvPr/>
          </p:nvPicPr>
          <p:blipFill>
            <a:blip r:embed="rId7"/>
            <a:stretch/>
          </p:blipFill>
          <p:spPr>
            <a:xfrm>
              <a:off x="2136240" y="4371840"/>
              <a:ext cx="333720" cy="55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0" descr="Зародышевой мешок"/>
            <p:cNvPicPr/>
            <p:nvPr/>
          </p:nvPicPr>
          <p:blipFill>
            <a:blip r:embed="rId8"/>
            <a:stretch/>
          </p:blipFill>
          <p:spPr>
            <a:xfrm>
              <a:off x="1466640" y="3802320"/>
              <a:ext cx="1690920" cy="219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8" name="Picture 11" descr="пыльца"/>
          <p:cNvPicPr/>
          <p:nvPr/>
        </p:nvPicPr>
        <p:blipFill>
          <a:blip r:embed="rId9"/>
          <a:stretch/>
        </p:blipFill>
        <p:spPr>
          <a:xfrm>
            <a:off x="-760320" y="692280"/>
            <a:ext cx="536400" cy="566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пыльца"/>
          <p:cNvPicPr/>
          <p:nvPr/>
        </p:nvPicPr>
        <p:blipFill>
          <a:blip r:embed="rId10"/>
          <a:stretch/>
        </p:blipFill>
        <p:spPr>
          <a:xfrm>
            <a:off x="-789120" y="1530360"/>
            <a:ext cx="536760" cy="566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прорастание пыльцы"/>
          <p:cNvPicPr/>
          <p:nvPr/>
        </p:nvPicPr>
        <p:blipFill>
          <a:blip r:embed="rId11"/>
          <a:stretch/>
        </p:blipFill>
        <p:spPr>
          <a:xfrm>
            <a:off x="1593720" y="1625760"/>
            <a:ext cx="601920" cy="169524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4"/>
          <p:cNvGrpSpPr/>
          <p:nvPr/>
        </p:nvGrpSpPr>
        <p:grpSpPr>
          <a:xfrm>
            <a:off x="1653120" y="1757520"/>
            <a:ext cx="290160" cy="188280"/>
            <a:chOff x="1653120" y="1757520"/>
            <a:chExt cx="290160" cy="188280"/>
          </a:xfrm>
        </p:grpSpPr>
        <p:grpSp>
          <p:nvGrpSpPr>
            <p:cNvPr id="172" name="Group 15"/>
            <p:cNvGrpSpPr/>
            <p:nvPr/>
          </p:nvGrpSpPr>
          <p:grpSpPr>
            <a:xfrm>
              <a:off x="1700640" y="1757520"/>
              <a:ext cx="156600" cy="126360"/>
              <a:chOff x="1700640" y="1757520"/>
              <a:chExt cx="156600" cy="126360"/>
            </a:xfrm>
          </p:grpSpPr>
          <p:sp>
            <p:nvSpPr>
              <p:cNvPr id="173" name="Oval 16"/>
              <p:cNvSpPr/>
              <p:nvPr/>
            </p:nvSpPr>
            <p:spPr>
              <a:xfrm rot="20722200">
                <a:off x="1710360" y="1773000"/>
                <a:ext cx="137160" cy="950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17"/>
              <p:cNvSpPr/>
              <p:nvPr/>
            </p:nvSpPr>
            <p:spPr>
              <a:xfrm>
                <a:off x="1773360" y="1805040"/>
                <a:ext cx="22680" cy="1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18"/>
            <p:cNvGrpSpPr/>
            <p:nvPr/>
          </p:nvGrpSpPr>
          <p:grpSpPr>
            <a:xfrm>
              <a:off x="1802160" y="1852200"/>
              <a:ext cx="141120" cy="88920"/>
              <a:chOff x="1802160" y="1852200"/>
              <a:chExt cx="141120" cy="88920"/>
            </a:xfrm>
          </p:grpSpPr>
          <p:sp>
            <p:nvSpPr>
              <p:cNvPr id="176" name="Oval 19"/>
              <p:cNvSpPr/>
              <p:nvPr/>
            </p:nvSpPr>
            <p:spPr>
              <a:xfrm rot="20211000">
                <a:off x="1803960" y="1877400"/>
                <a:ext cx="137160" cy="378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20"/>
              <p:cNvSpPr/>
              <p:nvPr/>
            </p:nvSpPr>
            <p:spPr>
              <a:xfrm rot="20211000">
                <a:off x="1883160" y="1877400"/>
                <a:ext cx="22680" cy="1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21"/>
            <p:cNvGrpSpPr/>
            <p:nvPr/>
          </p:nvGrpSpPr>
          <p:grpSpPr>
            <a:xfrm>
              <a:off x="1653120" y="1886400"/>
              <a:ext cx="141480" cy="59400"/>
              <a:chOff x="1653120" y="1886400"/>
              <a:chExt cx="141480" cy="59400"/>
            </a:xfrm>
          </p:grpSpPr>
          <p:sp>
            <p:nvSpPr>
              <p:cNvPr id="179" name="Oval 22"/>
              <p:cNvSpPr/>
              <p:nvPr/>
            </p:nvSpPr>
            <p:spPr>
              <a:xfrm flipH="1" rot="548400">
                <a:off x="1654560" y="1896840"/>
                <a:ext cx="137160" cy="378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23"/>
              <p:cNvSpPr/>
              <p:nvPr/>
            </p:nvSpPr>
            <p:spPr>
              <a:xfrm flipH="1" rot="548400">
                <a:off x="1688760" y="1902600"/>
                <a:ext cx="22680" cy="1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1" name="Picture 24" descr="прорастание пыльцы бол"/>
          <p:cNvPicPr/>
          <p:nvPr/>
        </p:nvPicPr>
        <p:blipFill>
          <a:blip r:embed="rId12"/>
          <a:stretch/>
        </p:blipFill>
        <p:spPr>
          <a:xfrm>
            <a:off x="1260360" y="1557360"/>
            <a:ext cx="1764000" cy="43797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25"/>
          <p:cNvGrpSpPr/>
          <p:nvPr/>
        </p:nvGrpSpPr>
        <p:grpSpPr>
          <a:xfrm>
            <a:off x="2747880" y="1612800"/>
            <a:ext cx="156240" cy="126720"/>
            <a:chOff x="2747880" y="1612800"/>
            <a:chExt cx="156240" cy="126720"/>
          </a:xfrm>
        </p:grpSpPr>
        <p:sp>
          <p:nvSpPr>
            <p:cNvPr id="183" name="Oval 26"/>
            <p:cNvSpPr/>
            <p:nvPr/>
          </p:nvSpPr>
          <p:spPr>
            <a:xfrm rot="20722200">
              <a:off x="2757600" y="1628280"/>
              <a:ext cx="136440" cy="95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7"/>
            <p:cNvSpPr/>
            <p:nvPr/>
          </p:nvSpPr>
          <p:spPr>
            <a:xfrm>
              <a:off x="2820240" y="1660320"/>
              <a:ext cx="2232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28"/>
          <p:cNvGrpSpPr/>
          <p:nvPr/>
        </p:nvGrpSpPr>
        <p:grpSpPr>
          <a:xfrm>
            <a:off x="2808360" y="1744560"/>
            <a:ext cx="38160" cy="136800"/>
            <a:chOff x="2808360" y="1744560"/>
            <a:chExt cx="38160" cy="136800"/>
          </a:xfrm>
        </p:grpSpPr>
        <p:sp>
          <p:nvSpPr>
            <p:cNvPr id="186" name="Oval 29"/>
            <p:cNvSpPr/>
            <p:nvPr/>
          </p:nvSpPr>
          <p:spPr>
            <a:xfrm rot="16200000">
              <a:off x="2759040" y="1793880"/>
              <a:ext cx="136800" cy="38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0"/>
            <p:cNvSpPr/>
            <p:nvPr/>
          </p:nvSpPr>
          <p:spPr>
            <a:xfrm rot="16200000">
              <a:off x="2815920" y="1779480"/>
              <a:ext cx="2268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1"/>
          <p:cNvGrpSpPr/>
          <p:nvPr/>
        </p:nvGrpSpPr>
        <p:grpSpPr>
          <a:xfrm>
            <a:off x="2662200" y="1744560"/>
            <a:ext cx="38160" cy="136800"/>
            <a:chOff x="2662200" y="1744560"/>
            <a:chExt cx="38160" cy="136800"/>
          </a:xfrm>
        </p:grpSpPr>
        <p:sp>
          <p:nvSpPr>
            <p:cNvPr id="189" name="Oval 32"/>
            <p:cNvSpPr/>
            <p:nvPr/>
          </p:nvSpPr>
          <p:spPr>
            <a:xfrm flipH="1" rot="5400000">
              <a:off x="2612880" y="1793880"/>
              <a:ext cx="136800" cy="38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33"/>
            <p:cNvSpPr/>
            <p:nvPr/>
          </p:nvSpPr>
          <p:spPr>
            <a:xfrm flipH="1" rot="5400000">
              <a:off x="2669760" y="1779480"/>
              <a:ext cx="22680" cy="1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4"/>
          <p:cNvGrpSpPr/>
          <p:nvPr/>
        </p:nvGrpSpPr>
        <p:grpSpPr>
          <a:xfrm>
            <a:off x="2771640" y="1521000"/>
            <a:ext cx="4859640" cy="459720"/>
            <a:chOff x="2771640" y="1521000"/>
            <a:chExt cx="4859640" cy="459720"/>
          </a:xfrm>
        </p:grpSpPr>
        <p:sp>
          <p:nvSpPr>
            <p:cNvPr id="192" name="Text Box 35"/>
            <p:cNvSpPr/>
            <p:nvPr/>
          </p:nvSpPr>
          <p:spPr>
            <a:xfrm>
              <a:off x="4751280" y="1521000"/>
              <a:ext cx="28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ыльцевое зер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6"/>
            <p:cNvSpPr/>
            <p:nvPr/>
          </p:nvSpPr>
          <p:spPr>
            <a:xfrm flipH="1">
              <a:off x="2771640" y="1749600"/>
              <a:ext cx="194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7"/>
          <p:cNvGrpSpPr/>
          <p:nvPr/>
        </p:nvGrpSpPr>
        <p:grpSpPr>
          <a:xfrm>
            <a:off x="2341080" y="2781360"/>
            <a:ext cx="5290200" cy="459720"/>
            <a:chOff x="2341080" y="2781360"/>
            <a:chExt cx="5290200" cy="459720"/>
          </a:xfrm>
        </p:grpSpPr>
        <p:sp>
          <p:nvSpPr>
            <p:cNvPr id="195" name="Text Box 38"/>
            <p:cNvSpPr/>
            <p:nvPr/>
          </p:nvSpPr>
          <p:spPr>
            <a:xfrm>
              <a:off x="4751280" y="2781360"/>
              <a:ext cx="28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ыльцевая труб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9"/>
            <p:cNvSpPr/>
            <p:nvPr/>
          </p:nvSpPr>
          <p:spPr>
            <a:xfrm flipH="1" flipV="1">
              <a:off x="2341080" y="3003120"/>
              <a:ext cx="237492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24" descr="b39"/>
          <p:cNvPicPr/>
          <p:nvPr/>
        </p:nvPicPr>
        <p:blipFill>
          <a:blip r:embed="rId13"/>
          <a:stretch/>
        </p:blipFill>
        <p:spPr>
          <a:xfrm>
            <a:off x="7631280" y="538164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4 -0.00531 C 0.04201 0.02496 0.09548 0.05547 0.13211 0.05408 C 0.16892 0.0527 0.18958 -0.00624 0.20989 -0.01386 C 0.23003 -0.02149 0.24201 -0.00647 0.25382 0.00879 E">
                                      <p:cBhvr>
                                        <p:cTn id="15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694 C 0.03142 -0.04114 0.06424 -0.07534 0.09757 -0.08713 C 0.13073 -0.09892 0.15573 -0.09083 0.19826 -0.07789 C 0.23924 -0.06518 0.3092 -0.03305 0.34427 -0.00994 C 0.37934 0.01317 0.4059 0.04136 0.40833 0.06055 C 0.41076 0.07996 0.38472 0.09336 0.35868 0.107 E">
                                      <p:cBhvr>
                                        <p:cTn id="154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85185E-006 C -0.00712 0.02222 -0.02726 0.08357 -0.04253 0.13264 C -0.05781 0.18171 -0.0776 0.26088 -0.09201 0.29398 C -0.10642 0.32709 -0.11719 0.31551 -0.12899 0.33148 C -0.1408 0.34746 -0.15625 0.35787 -0.16232 0.38982 C -0.1684 0.42176 -0.16788 0.49213 -0.16545 0.52384 C -0.16302 0.55556 -0.15434 0.57176 -0.14722 0.58009 C -0.1401 0.58843 -0.13003 0.57917 -0.12292 0.57361 C -0.1158 0.56783 -0.10833 0.55185 -0.10451 0.54607 E">
                                      <p:cBhvr>
                                        <p:cTn id="181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-1.85185E-006 C 0.00052 0.00371 0.00955 -0.00139 0.00417 0.02222 C -0.00122 0.04584 -0.01945 0.09769 -0.03229 0.14213 C -0.04514 0.18658 -0.05747 0.25602 -0.07292 0.28912 C -0.08837 0.32222 -0.11337 0.32084 -0.12552 0.34051 C -0.13767 0.36019 -0.14167 0.375 -0.14549 0.40695 C -0.14931 0.43889 -0.15052 0.50347 -0.14896 0.53218 C -0.1474 0.56088 -0.1434 0.57246 -0.13594 0.5794 C -0.12847 0.58634 -0.10955 0.57454 -0.10434 0.57361 E">
                                      <p:cBhvr>
                                        <p:cTn id="183" dur="5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околоплодник"/>
          <p:cNvPicPr/>
          <p:nvPr/>
        </p:nvPicPr>
        <p:blipFill>
          <a:blip r:embed="rId1"/>
          <a:stretch/>
        </p:blipFill>
        <p:spPr>
          <a:xfrm rot="941400">
            <a:off x="5754240" y="2338560"/>
            <a:ext cx="3138480" cy="3779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кожура"/>
          <p:cNvPicPr/>
          <p:nvPr/>
        </p:nvPicPr>
        <p:blipFill>
          <a:blip r:embed="rId2"/>
          <a:stretch/>
        </p:blipFill>
        <p:spPr>
          <a:xfrm rot="780000">
            <a:off x="6588000" y="3230640"/>
            <a:ext cx="1411560" cy="1458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Пестик 1"/>
          <p:cNvPicPr/>
          <p:nvPr/>
        </p:nvPicPr>
        <p:blipFill>
          <a:blip r:embed="rId3"/>
          <a:srcRect l="0" t="35378" r="0" b="0"/>
          <a:stretch/>
        </p:blipFill>
        <p:spPr>
          <a:xfrm>
            <a:off x="879480" y="1557360"/>
            <a:ext cx="4124160" cy="5219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эндосперм"/>
          <p:cNvPicPr/>
          <p:nvPr/>
        </p:nvPicPr>
        <p:blipFill>
          <a:blip r:embed="rId4"/>
          <a:stretch/>
        </p:blipFill>
        <p:spPr>
          <a:xfrm rot="940200">
            <a:off x="6702120" y="3322440"/>
            <a:ext cx="1201680" cy="1218960"/>
          </a:xfrm>
          <a:prstGeom prst="rect">
            <a:avLst/>
          </a:prstGeom>
          <a:ln w="0">
            <a:noFill/>
          </a:ln>
        </p:spPr>
      </p:pic>
      <p:pic>
        <p:nvPicPr>
          <p:cNvPr id="202" name="Rectangle 6" descr=""/>
          <p:cNvPicPr/>
          <p:nvPr/>
        </p:nvPicPr>
        <p:blipFill>
          <a:blip r:embed="rId5"/>
          <a:stretch/>
        </p:blipFill>
        <p:spPr>
          <a:xfrm>
            <a:off x="450720" y="-6480"/>
            <a:ext cx="8242560" cy="1067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семязачаток"/>
          <p:cNvPicPr/>
          <p:nvPr/>
        </p:nvPicPr>
        <p:blipFill>
          <a:blip r:embed="rId6"/>
          <a:stretch/>
        </p:blipFill>
        <p:spPr>
          <a:xfrm>
            <a:off x="1008000" y="1836720"/>
            <a:ext cx="3824280" cy="4437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Зародышевой мешок"/>
          <p:cNvPicPr/>
          <p:nvPr/>
        </p:nvPicPr>
        <p:blipFill>
          <a:blip r:embed="rId7"/>
          <a:stretch/>
        </p:blipFill>
        <p:spPr>
          <a:xfrm>
            <a:off x="1447920" y="2241720"/>
            <a:ext cx="3074760" cy="4008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крупная клетка"/>
          <p:cNvPicPr/>
          <p:nvPr/>
        </p:nvPicPr>
        <p:blipFill>
          <a:blip r:embed="rId8"/>
          <a:stretch/>
        </p:blipFill>
        <p:spPr>
          <a:xfrm>
            <a:off x="2065320" y="2637000"/>
            <a:ext cx="1974960" cy="2509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клетки"/>
          <p:cNvPicPr/>
          <p:nvPr/>
        </p:nvPicPr>
        <p:blipFill>
          <a:blip r:embed="rId9"/>
          <a:stretch/>
        </p:blipFill>
        <p:spPr>
          <a:xfrm>
            <a:off x="1844640" y="2673360"/>
            <a:ext cx="2217600" cy="2500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клетка 1"/>
          <p:cNvPicPr/>
          <p:nvPr/>
        </p:nvPicPr>
        <p:blipFill>
          <a:blip r:embed="rId10"/>
          <a:stretch/>
        </p:blipFill>
        <p:spPr>
          <a:xfrm>
            <a:off x="2376360" y="4365720"/>
            <a:ext cx="641520" cy="709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яйцеклетка"/>
          <p:cNvPicPr/>
          <p:nvPr/>
        </p:nvPicPr>
        <p:blipFill>
          <a:blip r:embed="rId11"/>
          <a:stretch/>
        </p:blipFill>
        <p:spPr>
          <a:xfrm>
            <a:off x="2819520" y="3321000"/>
            <a:ext cx="492120" cy="809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прорастание пыльцы бол"/>
          <p:cNvPicPr/>
          <p:nvPr/>
        </p:nvPicPr>
        <p:blipFill>
          <a:blip r:embed="rId12"/>
          <a:srcRect l="0" t="45143" r="0" b="0"/>
          <a:stretch/>
        </p:blipFill>
        <p:spPr>
          <a:xfrm>
            <a:off x="1224000" y="1628640"/>
            <a:ext cx="3276720" cy="446436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4"/>
          <p:cNvGrpSpPr/>
          <p:nvPr/>
        </p:nvGrpSpPr>
        <p:grpSpPr>
          <a:xfrm>
            <a:off x="1979640" y="5589720"/>
            <a:ext cx="108000" cy="341280"/>
            <a:chOff x="1979640" y="5589720"/>
            <a:chExt cx="108000" cy="341280"/>
          </a:xfrm>
        </p:grpSpPr>
        <p:sp>
          <p:nvSpPr>
            <p:cNvPr id="211" name="Oval 15"/>
            <p:cNvSpPr/>
            <p:nvPr/>
          </p:nvSpPr>
          <p:spPr>
            <a:xfrm rot="5400000">
              <a:off x="1863000" y="5706360"/>
              <a:ext cx="341280" cy="108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6"/>
            <p:cNvSpPr/>
            <p:nvPr/>
          </p:nvSpPr>
          <p:spPr>
            <a:xfrm rot="5400000">
              <a:off x="2005920" y="5794560"/>
              <a:ext cx="5652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7"/>
          <p:cNvGrpSpPr/>
          <p:nvPr/>
        </p:nvGrpSpPr>
        <p:grpSpPr>
          <a:xfrm>
            <a:off x="2303280" y="5192640"/>
            <a:ext cx="107640" cy="341280"/>
            <a:chOff x="2303280" y="5192640"/>
            <a:chExt cx="107640" cy="341280"/>
          </a:xfrm>
        </p:grpSpPr>
        <p:sp>
          <p:nvSpPr>
            <p:cNvPr id="214" name="Oval 18"/>
            <p:cNvSpPr/>
            <p:nvPr/>
          </p:nvSpPr>
          <p:spPr>
            <a:xfrm flipH="1" rot="5400000">
              <a:off x="2185920" y="5309280"/>
              <a:ext cx="341280" cy="107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9"/>
            <p:cNvSpPr/>
            <p:nvPr/>
          </p:nvSpPr>
          <p:spPr>
            <a:xfrm flipH="1" rot="5400000">
              <a:off x="2329200" y="5276880"/>
              <a:ext cx="5652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Picture 20" descr="клетка 1(цвет)"/>
          <p:cNvPicPr/>
          <p:nvPr/>
        </p:nvPicPr>
        <p:blipFill>
          <a:blip r:embed="rId13"/>
          <a:stretch/>
        </p:blipFill>
        <p:spPr>
          <a:xfrm>
            <a:off x="2408400" y="4400640"/>
            <a:ext cx="579240" cy="649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1" descr="яйцеклетка (цвет)"/>
          <p:cNvPicPr/>
          <p:nvPr/>
        </p:nvPicPr>
        <p:blipFill>
          <a:blip r:embed="rId14"/>
          <a:stretch/>
        </p:blipFill>
        <p:spPr>
          <a:xfrm>
            <a:off x="2771640" y="3284640"/>
            <a:ext cx="579600" cy="900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2" descr="зародыш"/>
          <p:cNvPicPr/>
          <p:nvPr/>
        </p:nvPicPr>
        <p:blipFill>
          <a:blip r:embed="rId15"/>
          <a:stretch/>
        </p:blipFill>
        <p:spPr>
          <a:xfrm rot="926400">
            <a:off x="7130880" y="3817800"/>
            <a:ext cx="403560" cy="621000"/>
          </a:xfrm>
          <a:prstGeom prst="rect">
            <a:avLst/>
          </a:prstGeom>
          <a:ln w="0">
            <a:noFill/>
          </a:ln>
        </p:spPr>
      </p:pic>
      <p:sp>
        <p:nvSpPr>
          <p:cNvPr id="219" name="Line 23"/>
          <p:cNvSpPr/>
          <p:nvPr/>
        </p:nvSpPr>
        <p:spPr>
          <a:xfrm flipV="1">
            <a:off x="2951280" y="4184640"/>
            <a:ext cx="4357440" cy="396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 flipV="1">
            <a:off x="3311640" y="3644640"/>
            <a:ext cx="3997080" cy="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3995640" y="2529000"/>
            <a:ext cx="331308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4535640" y="2023920"/>
            <a:ext cx="277308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444E-006 C 0.0007 -0.01018 -0.00139 -0.04398 0.00469 -0.06064 C 0.01077 -0.07731 0.02952 -0.09189 0.03611 -0.1 E">
                                      <p:cBhvr>
                                        <p:cTn id="201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C 0.01093 -0.01458 0.04843 -0.06851 0.06579 -0.08796 C 0.08316 -0.1074 0.09444 -0.103 0.10468 -0.11666 C 0.11493 -0.13032 0.12534 -0.14236 0.12691 -0.16944 C 0.12847 -0.19652 0.11666 -0.25671 0.11388 -0.27962 E">
                                      <p:cBhvr>
                                        <p:cTn id="212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157E-EDD0-42CF-9E63-F07B9E8AC8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38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Двойное оплодотворение"/>
          <p:cNvPicPr/>
          <p:nvPr/>
        </p:nvPicPr>
        <p:blipFill>
          <a:blip r:embed="rId2"/>
          <a:stretch/>
        </p:blipFill>
        <p:spPr>
          <a:xfrm>
            <a:off x="4500720" y="1197000"/>
            <a:ext cx="4267080" cy="4905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НАВАШИН Сергей Гаврилович (1857 - 1930)"/>
          <p:cNvPicPr/>
          <p:nvPr/>
        </p:nvPicPr>
        <p:blipFill>
          <a:blip r:embed="rId3"/>
          <a:stretch/>
        </p:blipFill>
        <p:spPr>
          <a:xfrm>
            <a:off x="1042920" y="1413000"/>
            <a:ext cx="29005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385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интенсивности обмена ве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одействие организма со 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количества особей ви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пособленность растений к среде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еление растений по земной поверх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5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6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5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3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3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3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5:54:40Z</dcterms:created>
  <dc:creator>Comp</dc:creator>
  <dc:description/>
  <dc:language>en-US</dc:language>
  <cp:lastModifiedBy>Организаторская</cp:lastModifiedBy>
  <dcterms:modified xsi:type="dcterms:W3CDTF">2017-02-17T06:55:04Z</dcterms:modified>
  <cp:revision>12</cp:revision>
  <dc:subject/>
  <dc:title>Слайд 1</dc:title>
</cp:coreProperties>
</file>