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7CFE-6377-4BB3-988E-83BA1DCD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ABF-395C-4A6F-A86E-36BAB10F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0A0-DF1D-4199-8B73-BAE9E5DC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7735-1AA5-4F64-B38A-B56D3E0F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AC0A-24AD-4065-938F-E933997D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CE8C-79F1-48B1-8C24-0E950CB9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648E-57BF-4BFA-843D-F4AC1002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992E-2227-4AF8-9DD9-9387F2AD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05C1-9CC3-4B0E-B64A-FB5A6E00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7713-4194-4D6F-9CA4-DC734641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B69B-3463-4618-A69F-E94AEE52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F0A-2C73-48E0-8CEE-B6FFE3E0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042D-1739-4CC6-90BF-776D6988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C73E-D44E-44F4-AB2A-EDFABE0C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3F87-698F-47AE-8176-D4A7C279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B210-6974-4776-BC1C-047D3231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7480-9191-465A-A507-DDD3664B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13F69-F601-4EF3-884C-DE45BAD3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6E1F8-A8D4-43F9-B787-13172AB4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BDE1C-592C-403B-9330-48CE8267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7D905-D3F2-432B-B646-137ED285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D4655-20FF-48AC-91F3-23705522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2835-FD4B-4879-874E-216FECC8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F96F1-CF5D-41A1-9073-9B374BCE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061C1-2729-48B9-9E9D-1AE619C3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0089E-D1DE-4D28-B9B4-39D480D3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97BB2-BCDB-4E1D-BD24-536F3017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D12EE-E1B3-48B4-BFC8-6C222D82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F1621-F115-4849-9866-FDC23DC3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9898D-E4DB-4901-9B4D-B3762853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341CA-DBF1-417D-9D28-03677F6F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779D2-FA57-4F89-A48E-CD959CBE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DEC08-B005-4EE1-9DED-840AA2E0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D43-D837-4E79-A022-BE1DA21F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CB46B-7047-4BF9-88F8-32EF45B7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6A80E-BCC1-4871-86B2-E06F405D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A1687-1C91-48C7-9F16-5AC13EE0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7B82A-E8AC-4ACE-993C-06C87AB4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1387E-06ED-4C63-80F4-A2F2417E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A7D6A-1FE1-4D47-8EF0-015523D4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8C9B8-2BE7-415C-843A-25B74196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30389-048B-495F-A5E8-53552421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40D37-FB33-4188-B205-52E27945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08B7A-10F1-4D6A-996B-9207C1BA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70F-8E97-4EFC-8E94-DE95B8C9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5A12A-FF59-4AB4-B29E-3893A824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68324-1F37-40DE-B808-A1FA3C60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3924F-8C48-4484-8914-F638FCE2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6AD59-E6D9-4FC6-B065-E4348D03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01568-F6F8-42C1-98DD-48EAD1B0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A8C73-71B3-4F94-8E7C-29A7A61B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D9D92-B410-42F9-9A79-87180F64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18430-2886-4885-9C15-9B90D817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1D268-EA7C-48D1-9294-5E981B2A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6B698-6CE2-4FD5-B0D2-F31B804E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F2F-D2E3-4A91-9752-0406A8FA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7EB5B-2AFB-4012-8B09-222EB82D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F81-D9CA-4F9A-B94D-5F3DEA9F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3B4-DCAF-4502-BB29-B57ED5CB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3AD-CF41-4B05-AC65-3E4827E5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D2D2-CA5A-4486-9ADA-F92E5A23D0B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A2AE-8280-43D5-B2D7-15BFDCB5E08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1D4A-5A74-4E55-9352-640D3A6D5C0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2046-D66A-4541-AFF6-03361BD7B32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D0D8-FC18-46C9-91D8-2EC1972E668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484360" y="36446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олотилов Данила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чащийся 10 класса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КОУ «Тагайская СШ»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читель Кузнецова О.Н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018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фракрасное излучение и его применение в медицине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Используемые источники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</a:rPr>
              <a:t>«Энциклопедический словарь физика», М., Педагогика, 1991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</a:rPr>
              <a:t>Савельев И. В. “Курс общей физики” т. 3. М., Наука, 1989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</a:rPr>
              <a:t>Гуриков В. А. К вопросу развития теории теплового излучения. - Вопросы истории естествознания и техники. М.: Наука, 1977, вып. 56-57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</a:rPr>
              <a:t>Леконт Ж., Инфракрасное излучение, М., 1958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</a:rPr>
              <a:t>Госсорг Ж. “Инфракрасная термография. Основы, техника, применение”, М., Мир, 1988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</a:rPr>
              <a:t>“</a:t>
            </a:r>
            <a:r>
              <a:rPr b="0" lang="ru-RU" sz="1600" spc="-1" strike="noStrike">
                <a:solidFill>
                  <a:srgbClr val="002060"/>
                </a:solidFill>
                <a:latin typeface="Cambria"/>
              </a:rPr>
              <a:t>Справочник по инфракрасной технике” т. 1.М., Мир, 1995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</a:rPr>
              <a:t>Соловьев С. М. «Инфракрасная фотография», М., 1960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</a:rPr>
              <a:t>Козелкин В. В., Усольцев И. Ф., Основы инфракрасной техники, 2 изд., М., 1974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</a:rPr>
              <a:t>Современные методы контроля материалов без разрушения, под ред. С. Т. Назарова, М., 1961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Perpetua"/>
              </a:rPr>
              <a:t>www.wikipedia.org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Perpetua"/>
              </a:rPr>
              <a:t>www.ecolain39.ru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Perpetua"/>
              </a:rPr>
              <a:t>www.infopedia.ru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ведение. Краткая историческая справка.(1-2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нфракрасное излучение. Физическая сторона вопроса. (3-13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именение в медицине. (14-25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ыводы.(26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спользуемые источники (27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Инфракрасное излучение -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28880" y="1500120"/>
            <a:ext cx="39290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электромагнитное излучение, занимающее  спектральную область между красным концом  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видимого свет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с длиной волны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λ = 0,74 мкм) и микроволновым излучением (λ ~ 1—2 мм).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714320" y="1499760"/>
            <a:ext cx="5715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иапазон инфракрасного излуче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116000" y="2205000"/>
          <a:ext cx="7488360" cy="3475080"/>
        </p:xfrm>
        <a:graphic>
          <a:graphicData uri="http://schemas.openxmlformats.org/drawingml/2006/table">
            <a:tbl>
              <a:tblPr/>
              <a:tblGrid>
                <a:gridCol w="3745080"/>
                <a:gridCol w="37432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лина волн (мк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76-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Ближнее инфракрасное изл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5-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оротковолновое инфракрасное изл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.6-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линноволновое инфракрасное изл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5-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альнее инфракрасное изл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4920" y="5051520"/>
            <a:ext cx="5359320" cy="75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mbria"/>
              </a:rPr>
              <a:t>Картина теплового излучени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5359320" cy="4718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5867280" y="333360"/>
            <a:ext cx="3024360" cy="2505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"/>
          <p:cNvPicPr/>
          <p:nvPr/>
        </p:nvPicPr>
        <p:blipFill>
          <a:blip r:embed="rId3"/>
          <a:stretch/>
        </p:blipFill>
        <p:spPr>
          <a:xfrm>
            <a:off x="5415120" y="4037040"/>
            <a:ext cx="372888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6" name="Объект 3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49780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Применение </a:t>
            </a:r>
            <a:br>
              <a:rPr sz="6600"/>
            </a:b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 в медицине</a:t>
            </a:r>
            <a:endParaRPr b="0" lang="en-US" sz="6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8" name="Рисунок 1" descr=""/>
          <p:cNvPicPr/>
          <p:nvPr/>
        </p:nvPicPr>
        <p:blipFill>
          <a:blip r:embed="rId1"/>
          <a:srcRect l="0" t="0" r="0" b="12442"/>
          <a:stretch/>
        </p:blipFill>
        <p:spPr>
          <a:xfrm>
            <a:off x="5580000" y="3419640"/>
            <a:ext cx="32227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696464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олезни, которые лечат с помощью инфракрасного излучения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>
              <a:lnSpc>
                <a:spcPct val="95000"/>
              </a:lnSpc>
              <a:buClr>
                <a:srgbClr val="d34817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бронхиальная астма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5000"/>
              </a:lnSpc>
              <a:buClr>
                <a:srgbClr val="d34817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грипп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5000"/>
              </a:lnSpc>
              <a:buClr>
                <a:srgbClr val="d34817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невмония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5000"/>
              </a:lnSpc>
              <a:buClr>
                <a:srgbClr val="d34817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онкологические заболевания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5000"/>
              </a:lnSpc>
              <a:buClr>
                <a:srgbClr val="d34817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образование спаек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5000"/>
              </a:lnSpc>
              <a:buClr>
                <a:srgbClr val="d34817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аденома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5000"/>
              </a:lnSpc>
              <a:buClr>
                <a:srgbClr val="d34817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язвенная болезнь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5000"/>
              </a:lnSpc>
              <a:buClr>
                <a:srgbClr val="d34817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эпидемический паротит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5000"/>
              </a:lnSpc>
              <a:buClr>
                <a:srgbClr val="d34817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гангрена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5000"/>
              </a:lnSpc>
              <a:buClr>
                <a:srgbClr val="d34817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ожирение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5000"/>
              </a:lnSpc>
              <a:buClr>
                <a:srgbClr val="d34817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варикозное расширение вен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5000"/>
              </a:lnSpc>
              <a:buClr>
                <a:srgbClr val="d34817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отложение солей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5000"/>
              </a:lnSpc>
              <a:buClr>
                <a:srgbClr val="d34817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шпоры, натоптыши, мозоли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5000"/>
              </a:lnSpc>
              <a:buClr>
                <a:srgbClr val="d34817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кожные заболевания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5000"/>
              </a:lnSpc>
              <a:buClr>
                <a:srgbClr val="d34817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осудистые заболевания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5000"/>
              </a:lnSpc>
              <a:buClr>
                <a:srgbClr val="d34817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лохо заживающие раны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5000"/>
              </a:lnSpc>
              <a:buClr>
                <a:srgbClr val="d34817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ожоги, обморожения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5000"/>
              </a:lnSpc>
              <a:buClr>
                <a:srgbClr val="d34817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заболевания периферической нервной системы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5000"/>
              </a:lnSpc>
              <a:buClr>
                <a:srgbClr val="d34817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аралич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5000"/>
              </a:lnSpc>
              <a:buClr>
                <a:srgbClr val="d34817"/>
              </a:buClr>
              <a:buSzPct val="71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пролежни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5292720" y="2708280"/>
            <a:ext cx="35244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3:46:09Z</dcterms:created>
  <dc:creator>Ксюша</dc:creator>
  <dc:description/>
  <dc:language>en-US</dc:language>
  <cp:lastModifiedBy>Windows User</cp:lastModifiedBy>
  <dcterms:modified xsi:type="dcterms:W3CDTF">2019-12-20T05:10:16Z</dcterms:modified>
  <cp:revision>42</cp:revision>
  <dc:subject/>
  <dc:title>Инфракрасное излучение.</dc:title>
</cp:coreProperties>
</file>