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A47-FC95-4245-98E0-A44CF345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E3A-B391-4ECC-ADF2-C043B191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576-591B-4D53-BE03-6E683C83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8E6-5676-4A0A-87FB-20B9F720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A08-49D7-44DF-B0B3-81D0532E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CF7-F0B5-4C4B-A330-8863002E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5B6-FD55-4764-BEA7-D74A31D4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A87-4E70-4A4C-9CFB-5B61681C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D3C-1212-46C8-90BF-B87D673F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83D-6536-4D3A-BEFD-234200B3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1E6-BA07-4CC1-A0A3-33D01C3C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B3D-A4BC-47D1-B301-82566793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EF73-4973-47CD-ADC8-C1A8E411E6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письменной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оставитель: учитель-логопед Николаева М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Ошибки, обусловленные несформированностью зрительного узнавания, анализа и синтеза, пространственного восприят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мена букв, отличающихся разным положением в пространстве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ш-т, д-в, д-б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мена букв, отличающихся различным количеством одинаковых элементов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: и-ш, ц-щ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мена букв, имеющих дополнительные элементы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и-ц, ш-щ, п-т, х-ж, л-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еркальное написание букв: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с, э, 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пуски, лишние или неправильно расположенные элементы бук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5120" y="189000"/>
            <a:ext cx="6964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ые направления логопедической работы по профилактике дисграфи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268280"/>
            <a:ext cx="7848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libri"/>
              </a:rPr>
              <a:t>Развитие фонематического восприятия</a:t>
            </a: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знавание неречевых звуков, звуков речи. Различение высоты, силы, тембра голоса на материале звуков, слов и фраз. Различение слов, близких по звучанию. Дифференциация фонем и слогов. Развитие навыков элементарного звукового анализа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libri"/>
              </a:rPr>
              <a:t>Работа над звукопроизношением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ежде всего, необходимо устранить все недостатки в произношении фонем (искажение, замена, отсутствие звука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libri"/>
              </a:rPr>
              <a:t>Развитие навыков звукового анализа и синтеза</a:t>
            </a: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ыделение из предложения слов, из слов-слогов, из слогов-звуков. Различение между собой любых звуков речи как гласных, так и согласных. Согласные: звонкие и глухие, твёрдые и мягкие. Выделение любых звуков из состава слова. Умение объединять звуки в слоги, слоги - в слова. Умение определять последовательность звуков в слове и количество слогов. Обогащение словарного запаса и развитие практического умения пользоваться им. Обучение детей разным способам словообразования с помощью различных приставок. Другой вид работы — подбор однокоренных слов. Большая работа проводится по активизации словарного запаса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Calibri"/>
              </a:rPr>
              <a:t>Развитие грамматических навыков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сновными задачами этого этапа являются работа над пониманием и употреблением предлогов, составление предложений по картинкам, сериям картинок, распространение и сокращение предложений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Развитие связной речи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едётся работа по обучению составления описательных рассказов и совершенствованию навыков пересказа небольших текстов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000" y="981000"/>
            <a:ext cx="572292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гры и упражнения 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особствующие устранению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рушений процесса пис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27280" y="3284640"/>
            <a:ext cx="571176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4040280" cy="640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rmAutofit fontScale="99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Прочитай пословицу по первым буквам картин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826920" y="1405080"/>
            <a:ext cx="3529080" cy="4616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57320" y="404640"/>
            <a:ext cx="4041720" cy="640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Упражнение «Расставь буквы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745080" cy="18003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69" name="Прямоугольник 10"/>
          <p:cNvSpPr/>
          <p:nvPr/>
        </p:nvSpPr>
        <p:spPr>
          <a:xfrm>
            <a:off x="4786200" y="3645000"/>
            <a:ext cx="3786480" cy="1571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Нужно расставить буквы по порядку в соответствии с цифрами и написать слова, которые получ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4040280" cy="63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rmAutofit fontScale="45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«Найди все слова в цепочк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3608640" cy="2664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3280" y="259920"/>
            <a:ext cx="4042080" cy="1081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rmAutofit fontScale="97000"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«Спрятанные слов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акие слова здесь спрятались? Запиши их в клетках. Придумай предложения с каждым из сл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529080" cy="4321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9"/>
          <p:cNvSpPr/>
          <p:nvPr/>
        </p:nvSpPr>
        <p:spPr>
          <a:xfrm>
            <a:off x="395280" y="3789360"/>
            <a:ext cx="4032360" cy="26431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1468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Упражнение: «Составь с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468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468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к, о,  с (сок)               е, р, о, м (мо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468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у, д, б (дуб)                ш, а, к, а (каш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468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м, р, и (мир)              а, к, у, р (ру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468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т, о, р (рот)                б, о, н, е (неб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468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ы, с, р (сыр)               а, с, о, к (ко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468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д, м, ы (дым)             д, а, в, о (в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468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F:\логопедия\пед\image_5ce2550812022.jpg"/>
          <p:cNvPicPr/>
          <p:nvPr/>
        </p:nvPicPr>
        <p:blipFill>
          <a:blip r:embed="rId1"/>
          <a:stretch/>
        </p:blipFill>
        <p:spPr>
          <a:xfrm>
            <a:off x="108000" y="765000"/>
            <a:ext cx="4535280" cy="5543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4321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ушения письменной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401760" y="1603440"/>
            <a:ext cx="83088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ис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чное расстройство овладения чтением, проявляющееся в многочисленных повторяющихся ошибках стойкого характера, обусловленное несформированностью психических функций, участвующих в процессе овладения чт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является в затруднениях опознания и узнавания букв; в затруднениях слияния букв в слоги и слогов в слова, что приводит к неправильному воспроизведению звуковой формы слова; в аграмматизме и искажении понимания прочитан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чное нарушение процесса письма, проявляющееся в стойких, повторяющихся ошибках, обусловленных несформированностью высших психических функций, участвующих в процессе овладения пись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чины возникновения нарушений письменной реч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ческие речевые расстрой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ое нарушение речи, недоразвитие устной речи во всех её звень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ержка в формировании определенных функциональных систем, важных для овладения письменной речь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ности становления процесса латерализ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формированность произвольной моторики, недостаточность слухомоторных координаций и чувства рит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ледственная предрасполож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ассификация дисграфических оши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шибки, обусловленные несформированностью фонематических процессов и слухового вос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пуски гласных букв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всят- висят; комнта- комна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пуски согласных букв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комата- комната; вей- все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пуски слогов и частей слова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стрки- стрел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мена гласных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пище- пищу, сесен- сосен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мена согласных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тва-два, роча-рощ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естановка букв и слогов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онко- окно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дописывание букв и слогов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чере- через, на ветка- на ветках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ращивание слов лишними буквами и слогами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детити-дети, сснег- снег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кажение слова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мальни- маленький, чайщик- чащ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итное написание слов и их произвольное деление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д ва- два, в ся – вс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умение определять границы предложения в тексте, слитное написание предложений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Снег покрыл землю. Белым ковром.- Снег покрыл землю белым ковр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рушение смягчения согласных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болшой- большой, толко- тольк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шибки, обусловленные несформированностью лексико-грамматической стороны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рушения согласования слов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с еловый ветки- с еловой ветки, появилось трава - появилась тра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рушения управления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с ветка - с ветки. Умчались к чащу - умчались в чащ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мена слов по звуковому сходств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итное написание предлогов и раздельное написание приставок: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вроще - в роще, на бухли - набух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7:58:55Z</dcterms:created>
  <dc:creator>Valued Acer Customer</dc:creator>
  <dc:description/>
  <dc:language>en-US</dc:language>
  <cp:lastModifiedBy>777</cp:lastModifiedBy>
  <dcterms:modified xsi:type="dcterms:W3CDTF">2019-12-20T16:46:49Z</dcterms:modified>
  <cp:revision>43</cp:revision>
  <dc:subject/>
  <dc:title>Слайд 1</dc:title>
</cp:coreProperties>
</file>