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5C5-65BE-420D-B027-5C3F6511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F09-3198-43F9-83D7-AB3F573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B56-7FDE-4B47-966F-C27F235B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9AF-8701-4ECD-8107-A7D0C3E4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C05-4EEB-4A4F-A75F-A485537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19B-9D30-487F-BFFD-4282958F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493-D082-4343-9A2C-96C0F25C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516-BDC0-473C-9998-2BE80A0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505-4D03-4098-BE72-EB27FC5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235-5B7F-4599-8BAF-ADCB04F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A21-2D26-4968-8D42-13B7AF7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E4D-4760-4F7D-BC87-A7EB69A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3B3-5542-49CB-962D-621667B7C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 учитель начальных классов МАОУ СОШ №17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Эдуарда Есаян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щева Нина Александров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6148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79280" y="55897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Дружна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755960" cy="3168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08000" y="404640"/>
            <a:ext cx="2232000" cy="66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Ув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34000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Доброта                      З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236000" y="1596960"/>
            <a:ext cx="158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Др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843280" y="530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Дове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6012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Семья вся вместе – душа на 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c55bbd3e7a9"/>
          <p:cNvPicPr/>
          <p:nvPr/>
        </p:nvPicPr>
        <p:blipFill>
          <a:blip r:embed="rId1"/>
          <a:stretch/>
        </p:blipFill>
        <p:spPr>
          <a:xfrm>
            <a:off x="324000" y="2060640"/>
            <a:ext cx="6804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50920" y="189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Семью можно сравнить с домом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А на какой дом будет похожа наша семья, зависит только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2600" y="1844640"/>
            <a:ext cx="4236840" cy="271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02240" y="3789360"/>
            <a:ext cx="41450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ние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: «Устами младен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огда все вместе – мама, папа, бабушка, деду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Самый нежный, самый добрый, самый любимый человек для всех людей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, где мы бываем все в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такое маленькое, пищащее, доставляющее много хлопот, но его все равно любят</a:t>
            </a: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ье это самое дорогое, ее берегут, передают из поколения в поко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на вяжет всем носки и печет самые замечательные пирожки и бу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C04-F72B-4CA4-9B1C-E2CACD31157C}" type="slidenum">
              <a:rPr b="0" lang="ru-RU" sz="14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564000" y="1484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524720" y="76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м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76720" y="36752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мейная трад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224760" y="19288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М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724360" y="2324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435640" y="30099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Ребено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693960" y="4378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Бабу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50920" y="53737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емья, мама, дом, ребенок, семейные традиции, баб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ние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 :Назовите  5 ласковых слов  о м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401840" y="1487520"/>
            <a:ext cx="6413400" cy="514512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F0D2-626E-4B40-8477-9D77F7EF5015}" type="slidenum">
              <a:rPr b="0" lang="ru-RU" sz="14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0:47:08Z</dcterms:created>
  <dc:creator>BLACKEDITION</dc:creator>
  <dc:description/>
  <dc:language>en-US</dc:language>
  <cp:lastModifiedBy>USER</cp:lastModifiedBy>
  <dcterms:modified xsi:type="dcterms:W3CDTF">2019-12-20T14:58:55Z</dcterms:modified>
  <cp:revision>16</cp:revision>
  <dc:subject/>
  <dc:title>Семья в моей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9f0000000000010243100207f6000400038000</vt:lpwstr>
  </property>
</Properties>
</file>