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C3E-B4B4-488D-8F78-4DD0600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DD3-91A5-440D-AEBE-EA0D0E8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DFB-2B0E-49B0-96B4-3B9D0681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C66-6B6F-47EF-8A01-2CBE7A1A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06F-8512-42E4-A8B2-90D95DC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E80-A2FC-477B-9BEF-6B52FBA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61EE-BB0A-4D66-9424-D61B19D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FE40-352D-45E5-933B-61E5D8C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382-06E1-4344-B545-1AA26DA7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2944-42E4-44D0-83DA-3F997F1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22D3-1A9E-4EBC-8661-FD36C611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882-BE97-4768-95FB-414F0CA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9CEE-F6ED-48EE-937A-24CAADB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F666-9B08-4603-9B83-B091ADD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883-1995-4C8D-AC15-77C5151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B88-3276-4354-B542-CC4888AB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D17-67FC-4DFB-B7FB-549D7679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E0A-EA56-47DD-B6D4-B666C89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9C7-110D-4759-88DD-92C69E8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937-007C-4718-940E-6CE934C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76D-66D4-42CC-AE52-00D9C6E6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B59-A53D-4FBB-9998-0F93F3F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B44-FA81-4DB9-B103-C16A120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C09-4C95-4FA5-96B6-324078B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A53D-6922-4B2A-8481-BAC5D1956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5842-E655-466C-A31B-B044600D0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тищева Нина Александро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ОУ СОШ №17 им. Эдуарда Еса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х.у\на печать\Hrabri_utenok05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G:\х.у\на печать\Hrabri_utenok06.jpg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/>
          <p:cNvSpPr/>
          <p:nvPr/>
        </p:nvSpPr>
        <p:spPr>
          <a:xfrm>
            <a:off x="1373400" y="914400"/>
            <a:ext cx="6822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глаза ве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познаются в бе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л дело – гуляй см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ловиш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ыбку из п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7500" autoRev="1" fill="remove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" dur="7500" autoRev="1" fill="remove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" dur="7500" autoRev="1" fill="remove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«Нам нужны книги </a:t>
            </a: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обо всем на свет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084640" cy="471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Борис Степанович          Житко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1882 – 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к, зоолог, инженер, химик, художник, человек  с огромным жизненным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5"/>
          <p:cNvPicPr/>
          <p:nvPr/>
        </p:nvPicPr>
        <p:blipFill>
          <a:blip r:embed="rId1"/>
          <a:stretch/>
        </p:blipFill>
        <p:spPr>
          <a:xfrm>
            <a:off x="250920" y="1268280"/>
            <a:ext cx="36115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Box 1" descr=""/>
          <p:cNvPicPr/>
          <p:nvPr/>
        </p:nvPicPr>
        <p:blipFill>
          <a:blip r:embed="rId1"/>
          <a:stretch/>
        </p:blipFill>
        <p:spPr>
          <a:xfrm>
            <a:off x="12600" y="420840"/>
            <a:ext cx="9363240" cy="10307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5"/>
          <p:cNvSpPr/>
          <p:nvPr/>
        </p:nvSpPr>
        <p:spPr>
          <a:xfrm flipH="1">
            <a:off x="7238880" y="638280"/>
            <a:ext cx="15264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1"/>
          <p:cNvSpPr/>
          <p:nvPr/>
        </p:nvSpPr>
        <p:spPr>
          <a:xfrm flipH="1">
            <a:off x="761760" y="63828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5"/>
          <p:cNvSpPr/>
          <p:nvPr/>
        </p:nvSpPr>
        <p:spPr>
          <a:xfrm flipH="1">
            <a:off x="1981080" y="1523880"/>
            <a:ext cx="154080" cy="1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8"/>
          <p:cNvSpPr/>
          <p:nvPr/>
        </p:nvSpPr>
        <p:spPr>
          <a:xfrm flipH="1">
            <a:off x="2531880" y="2516040"/>
            <a:ext cx="152280" cy="1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0"/>
          <p:cNvSpPr/>
          <p:nvPr/>
        </p:nvSpPr>
        <p:spPr>
          <a:xfrm flipH="1">
            <a:off x="5562360" y="1531800"/>
            <a:ext cx="152280" cy="1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2"/>
          <p:cNvSpPr/>
          <p:nvPr/>
        </p:nvSpPr>
        <p:spPr>
          <a:xfrm flipH="1">
            <a:off x="7046640" y="2529000"/>
            <a:ext cx="191880" cy="15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9"/>
          <p:cNvSpPr/>
          <p:nvPr/>
        </p:nvSpPr>
        <p:spPr>
          <a:xfrm flipH="1">
            <a:off x="6672240" y="3429000"/>
            <a:ext cx="185760" cy="1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2"/>
          <p:cNvSpPr/>
          <p:nvPr/>
        </p:nvSpPr>
        <p:spPr>
          <a:xfrm flipH="1">
            <a:off x="6019920" y="4343400"/>
            <a:ext cx="185760" cy="1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3"/>
          <p:cNvSpPr/>
          <p:nvPr/>
        </p:nvSpPr>
        <p:spPr>
          <a:xfrm flipH="1">
            <a:off x="2438280" y="5257800"/>
            <a:ext cx="185760" cy="1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5"/>
          <p:cNvSpPr/>
          <p:nvPr/>
        </p:nvSpPr>
        <p:spPr>
          <a:xfrm flipH="1">
            <a:off x="1065240" y="4343400"/>
            <a:ext cx="154080" cy="1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7"/>
          <p:cNvSpPr/>
          <p:nvPr/>
        </p:nvSpPr>
        <p:spPr>
          <a:xfrm flipH="1">
            <a:off x="2743200" y="3429000"/>
            <a:ext cx="154080" cy="1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нига &quot;Храбрый утенок&quot; - Борис Житков, купить книгу &quot;Храбрый утенок&quot; в Минске - OZ.by"/>
          <p:cNvPicPr/>
          <p:nvPr/>
        </p:nvPicPr>
        <p:blipFill>
          <a:blip r:embed="rId1"/>
          <a:stretch/>
        </p:blipFill>
        <p:spPr>
          <a:xfrm>
            <a:off x="1916280" y="457200"/>
            <a:ext cx="46656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1981080" y="3049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ловарн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295280" y="518148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лу она вырвала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380960" y="91440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еные яй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298160" y="1752480"/>
            <a:ext cx="35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т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304280" y="266688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г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313640" y="3505320"/>
            <a:ext cx="57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ман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332360" y="4343400"/>
            <a:ext cx="47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ась досы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H="1">
            <a:off x="2057040" y="106668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5"/>
          <p:cNvSpPr/>
          <p:nvPr/>
        </p:nvSpPr>
        <p:spPr>
          <a:xfrm flipH="1">
            <a:off x="3885840" y="182880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 flipH="1">
            <a:off x="3352680" y="2819520"/>
            <a:ext cx="15264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 flipH="1">
            <a:off x="2819160" y="365760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1"/>
          <p:cNvSpPr/>
          <p:nvPr/>
        </p:nvSpPr>
        <p:spPr>
          <a:xfrm flipH="1">
            <a:off x="4419360" y="449568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2"/>
          <p:cNvSpPr/>
          <p:nvPr/>
        </p:nvSpPr>
        <p:spPr>
          <a:xfrm flipH="1">
            <a:off x="2742840" y="533412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3"/>
          <p:cNvSpPr/>
          <p:nvPr/>
        </p:nvSpPr>
        <p:spPr>
          <a:xfrm flipH="1">
            <a:off x="5486040" y="533412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4"/>
          <p:cNvSpPr/>
          <p:nvPr/>
        </p:nvSpPr>
        <p:spPr>
          <a:xfrm flipH="1">
            <a:off x="2361960" y="4495680"/>
            <a:ext cx="152280" cy="1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820080" y="154080"/>
            <a:ext cx="8219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Хозяйка кормит ут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тята боятся стре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Болезнь» ут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лёша обещает помо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тёнок сдержал своё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трекоза больше не прилет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G:\х.у\на печать\Hrabri_utenok02.jpg"/>
          <p:cNvPicPr/>
          <p:nvPr/>
        </p:nvPicPr>
        <p:blipFill>
          <a:blip r:embed="rId1"/>
          <a:stretch/>
        </p:blipFill>
        <p:spPr>
          <a:xfrm>
            <a:off x="0" y="533520"/>
            <a:ext cx="908064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:\х.у\на печать\Hrabri_utenok03.jpg"/>
          <p:cNvPicPr/>
          <p:nvPr/>
        </p:nvPicPr>
        <p:blipFill>
          <a:blip r:embed="rId1"/>
          <a:stretch/>
        </p:blipFill>
        <p:spPr>
          <a:xfrm>
            <a:off x="0" y="762120"/>
            <a:ext cx="910908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G:\х.у\на печать\Hrabri_utenok04.jpg"/>
          <p:cNvPicPr/>
          <p:nvPr/>
        </p:nvPicPr>
        <p:blipFill>
          <a:blip r:embed="rId1"/>
          <a:stretch/>
        </p:blipFill>
        <p:spPr>
          <a:xfrm>
            <a:off x="46080" y="380880"/>
            <a:ext cx="91155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1:25:36Z</dcterms:created>
  <dc:creator>Школа3</dc:creator>
  <dc:description/>
  <dc:language>en-US</dc:language>
  <cp:lastModifiedBy>USER</cp:lastModifiedBy>
  <dcterms:modified xsi:type="dcterms:W3CDTF">2019-12-20T14:03:2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