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97B0-B971-4501-AB03-E0DEB0A0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DF9-79B3-4CFC-A0F2-1074D227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8360-6F57-45BB-8EAB-E5118049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3E17-B114-47E1-9401-F3E59D4F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9C62-20B8-41A3-8367-DFE4D9E6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43EB-80F1-4AB4-99F9-DA00C09B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F325-3460-4D14-9048-4A369D54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9569-90CB-4165-B9F6-36E4A99D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2291-ACBF-4F68-A429-17BA8723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0D3C-5D07-468E-9FCB-E8A49184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837E-11CD-43CB-8B88-5914C3B8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7496-B896-4813-ACDC-A7DB025D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1C4E-CD86-4D36-A5A4-FE29C932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F2B3-E6AF-4F5D-8869-48203643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3D80-6967-4A58-8F7F-00C90CC0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3664-C544-423F-9D31-83CAF052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CF97-2C84-4F45-A6E6-0D13F1DD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5A8-51E1-4296-A5E2-B8EFE589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A0BD-8653-498A-9164-9E9E931B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B58F-5F2D-4A08-8FDF-0B18AAE5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7354-77DC-4EA3-B688-3CBBC80B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372-D7A5-4486-A4F9-E55D2CB8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874-9AF8-4FA8-864D-F36EBFC7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274-13D1-4FD3-9672-373C387C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3385-C4FD-41FB-836D-0816D1B112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93C5-F368-4304-A2D0-E576B81309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Times New Roman"/>
              </a:rPr>
              <a:t>Конспект логопедического занятия во 2 классе на тему: «Дифференциация звуков 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Times New Roman"/>
              </a:rPr>
              <a:t>«д»-«т», букв Д-Т в слогах, 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Times New Roman"/>
              </a:rPr>
              <a:t>словах и предложениях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480" y="41907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Подготовила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учитель-логопед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Денисова О.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57400" y="1649520"/>
            <a:ext cx="68580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4572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219276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1 2 3 4 5 6 7 8 9 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476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351160" y="1523880"/>
            <a:ext cx="4430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1897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1897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1897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" y="838080"/>
          <a:ext cx="5554800" cy="1414440"/>
        </p:xfrm>
        <a:graphic>
          <a:graphicData uri="http://schemas.openxmlformats.org/drawingml/2006/table">
            <a:tbl>
              <a:tblPr/>
              <a:tblGrid>
                <a:gridCol w="1897200"/>
                <a:gridCol w="1942920"/>
                <a:gridCol w="171468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капуста" descr=""/>
          <p:cNvPicPr/>
          <p:nvPr/>
        </p:nvPicPr>
        <p:blipFill>
          <a:blip r:embed="rId1"/>
          <a:stretch/>
        </p:blipFill>
        <p:spPr>
          <a:xfrm>
            <a:off x="838080" y="541440"/>
            <a:ext cx="2286000" cy="217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657600" y="762120"/>
            <a:ext cx="2133720" cy="1805040"/>
          </a:xfrm>
          <a:prstGeom prst="rect">
            <a:avLst/>
          </a:prstGeom>
          <a:ln w="0">
            <a:noFill/>
          </a:ln>
        </p:spPr>
      </p:pic>
      <p:pic>
        <p:nvPicPr>
          <p:cNvPr id="110" name="тарелка" descr=""/>
          <p:cNvPicPr/>
          <p:nvPr/>
        </p:nvPicPr>
        <p:blipFill>
          <a:blip r:embed="rId3"/>
          <a:stretch/>
        </p:blipFill>
        <p:spPr>
          <a:xfrm>
            <a:off x="6248520" y="876240"/>
            <a:ext cx="2133360" cy="1782720"/>
          </a:xfrm>
          <a:prstGeom prst="rect">
            <a:avLst/>
          </a:prstGeom>
          <a:ln w="0">
            <a:noFill/>
          </a:ln>
        </p:spPr>
      </p:pic>
      <p:pic>
        <p:nvPicPr>
          <p:cNvPr id="111" name="автобус" descr=""/>
          <p:cNvPicPr/>
          <p:nvPr/>
        </p:nvPicPr>
        <p:blipFill>
          <a:blip r:embed="rId4"/>
          <a:stretch/>
        </p:blipFill>
        <p:spPr>
          <a:xfrm>
            <a:off x="990720" y="320040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112" name="тапки" descr=""/>
          <p:cNvPicPr/>
          <p:nvPr/>
        </p:nvPicPr>
        <p:blipFill>
          <a:blip r:embed="rId5"/>
          <a:stretch/>
        </p:blipFill>
        <p:spPr>
          <a:xfrm>
            <a:off x="3962520" y="3048120"/>
            <a:ext cx="2286000" cy="1508040"/>
          </a:xfrm>
          <a:prstGeom prst="rect">
            <a:avLst/>
          </a:prstGeom>
          <a:ln w="0">
            <a:noFill/>
          </a:ln>
        </p:spPr>
      </p:pic>
      <p:pic>
        <p:nvPicPr>
          <p:cNvPr id="113" name="ведро" descr=""/>
          <p:cNvPicPr/>
          <p:nvPr/>
        </p:nvPicPr>
        <p:blipFill>
          <a:blip r:embed="rId6"/>
          <a:stretch/>
        </p:blipFill>
        <p:spPr>
          <a:xfrm>
            <a:off x="6629400" y="2971800"/>
            <a:ext cx="1728720" cy="1828800"/>
          </a:xfrm>
          <a:prstGeom prst="rect">
            <a:avLst/>
          </a:prstGeom>
          <a:ln w="0">
            <a:noFill/>
          </a:ln>
        </p:spPr>
      </p:pic>
      <p:pic>
        <p:nvPicPr>
          <p:cNvPr id="114" name="карандаш" descr=""/>
          <p:cNvPicPr/>
          <p:nvPr/>
        </p:nvPicPr>
        <p:blipFill>
          <a:blip r:embed="rId7"/>
          <a:stretch/>
        </p:blipFill>
        <p:spPr>
          <a:xfrm>
            <a:off x="914400" y="4724280"/>
            <a:ext cx="1752480" cy="1737000"/>
          </a:xfrm>
          <a:prstGeom prst="rect">
            <a:avLst/>
          </a:prstGeom>
          <a:ln w="0">
            <a:noFill/>
          </a:ln>
        </p:spPr>
      </p:pic>
      <p:pic>
        <p:nvPicPr>
          <p:cNvPr id="115" name="дом" descr=""/>
          <p:cNvPicPr/>
          <p:nvPr/>
        </p:nvPicPr>
        <p:blipFill>
          <a:blip r:embed="rId8"/>
          <a:stretch/>
        </p:blipFill>
        <p:spPr>
          <a:xfrm>
            <a:off x="3962520" y="4978440"/>
            <a:ext cx="1981080" cy="1879560"/>
          </a:xfrm>
          <a:prstGeom prst="rect">
            <a:avLst/>
          </a:prstGeom>
          <a:ln w="0">
            <a:noFill/>
          </a:ln>
        </p:spPr>
      </p:pic>
      <p:pic>
        <p:nvPicPr>
          <p:cNvPr id="116" name="стул" descr=""/>
          <p:cNvPicPr/>
          <p:nvPr/>
        </p:nvPicPr>
        <p:blipFill>
          <a:blip r:embed="rId9"/>
          <a:stretch/>
        </p:blipFill>
        <p:spPr>
          <a:xfrm>
            <a:off x="6553080" y="4800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0"/>
            <a:ext cx="1897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1897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897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удочка2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7" name="600px-Утка_серая" descr=""/>
          <p:cNvPicPr/>
          <p:nvPr/>
        </p:nvPicPr>
        <p:blipFill>
          <a:blip r:embed="rId2"/>
          <a:stretch/>
        </p:blipFill>
        <p:spPr>
          <a:xfrm>
            <a:off x="6019920" y="4495680"/>
            <a:ext cx="2743200" cy="1685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11280" y="2395440"/>
            <a:ext cx="301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66680" y="533520"/>
          <a:ext cx="8763120" cy="5578200"/>
        </p:xfrm>
        <a:graphic>
          <a:graphicData uri="http://schemas.openxmlformats.org/drawingml/2006/table">
            <a:tbl>
              <a:tblPr/>
              <a:tblGrid>
                <a:gridCol w="4649760"/>
                <a:gridCol w="4113360"/>
              </a:tblGrid>
              <a:tr h="74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озере плавала серенькая…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олову нужна хорошая 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1486800" y="3337560"/>
            <a:ext cx="264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06600" y="415656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сихолог</cp:lastModifiedBy>
  <dcterms:modified xsi:type="dcterms:W3CDTF">2019-10-22T07:00:4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