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3AC2-18DA-45DC-9254-630E150B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D60F-4634-4243-980F-CD884AD5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86E9-700F-449F-BA91-A9A76BD9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BC3C-AD08-49EE-A4D4-BD68F96E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70FA-5AF2-4493-A33E-4958BD34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AA18-0885-41D2-9231-19AEB32D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3A6C-1471-4E2E-BB45-E4274AC9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885C-F180-4D72-847E-ACECC281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C231-C66E-4DD1-A428-EC04F3D8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DC13-423F-4952-91DB-FB97182A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F407-C5EA-4B06-834F-FAA100D8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C803-EB05-4544-BEAA-9565A7CB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015E-6BA1-49D8-A2C0-2546CC60C0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328320"/>
            <a:ext cx="8642160" cy="63450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11"/>
          <p:cNvSpPr txBox="1"/>
          <p:nvPr/>
        </p:nvSpPr>
        <p:spPr>
          <a:xfrm>
            <a:off x="900000" y="620640"/>
            <a:ext cx="76327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накомство с прилагательными,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бозначающими цвета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Picture 12" descr="fazan1i"/>
          <p:cNvPicPr/>
          <p:nvPr/>
        </p:nvPicPr>
        <p:blipFill>
          <a:blip r:embed="rId1"/>
          <a:stretch/>
        </p:blipFill>
        <p:spPr>
          <a:xfrm>
            <a:off x="2195640" y="2546280"/>
            <a:ext cx="518472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2"/>
          <p:cNvSpPr/>
          <p:nvPr/>
        </p:nvSpPr>
        <p:spPr>
          <a:xfrm>
            <a:off x="539640" y="549360"/>
            <a:ext cx="2590920" cy="2374920"/>
          </a:xfrm>
          <a:custGeom>
            <a:avLst/>
            <a:gdLst>
              <a:gd name="textAreaLeft" fmla="*/ 1067400 w 2590920"/>
              <a:gd name="textAreaRight" fmla="*/ 1523520 w 2590920"/>
              <a:gd name="textAreaTop" fmla="*/ 978480 h 2374920"/>
              <a:gd name="textAreaBottom" fmla="*/ 1396440 h 237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3"/>
          <p:cNvSpPr/>
          <p:nvPr/>
        </p:nvSpPr>
        <p:spPr>
          <a:xfrm>
            <a:off x="5651640" y="4149720"/>
            <a:ext cx="2881080" cy="2448000"/>
          </a:xfrm>
          <a:custGeom>
            <a:avLst/>
            <a:gdLst>
              <a:gd name="textAreaLeft" fmla="*/ 1186920 w 2881080"/>
              <a:gd name="textAreaRight" fmla="*/ 1694160 w 2881080"/>
              <a:gd name="textAreaTop" fmla="*/ 1008720 h 2448000"/>
              <a:gd name="textAreaBottom" fmla="*/ 1439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4"/>
          <p:cNvSpPr/>
          <p:nvPr/>
        </p:nvSpPr>
        <p:spPr>
          <a:xfrm>
            <a:off x="3635280" y="1052640"/>
            <a:ext cx="56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3708360" y="1052640"/>
            <a:ext cx="115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6"/>
          <p:cNvSpPr/>
          <p:nvPr/>
        </p:nvSpPr>
        <p:spPr>
          <a:xfrm>
            <a:off x="3687840" y="1073160"/>
            <a:ext cx="225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ei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(белый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>
            <a:off x="1835280" y="5013360"/>
            <a:ext cx="302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hwar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(чёрный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3"/>
          <p:cNvSpPr/>
          <p:nvPr/>
        </p:nvSpPr>
        <p:spPr>
          <a:xfrm>
            <a:off x="539640" y="189000"/>
            <a:ext cx="2303640" cy="2592360"/>
          </a:xfrm>
          <a:custGeom>
            <a:avLst/>
            <a:gdLst>
              <a:gd name="textAreaLeft" fmla="*/ 525960 w 2303640"/>
              <a:gd name="textAreaRight" fmla="*/ 1777680 w 2303640"/>
              <a:gd name="textAreaTop" fmla="*/ 591840 h 2592360"/>
              <a:gd name="textAreaBottom" fmla="*/ 200052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6084720" y="3933720"/>
            <a:ext cx="2519640" cy="2592360"/>
          </a:xfrm>
          <a:custGeom>
            <a:avLst/>
            <a:gdLst>
              <a:gd name="textAreaLeft" fmla="*/ 575280 w 2519640"/>
              <a:gd name="textAreaRight" fmla="*/ 1944360 w 2519640"/>
              <a:gd name="textAreaTop" fmla="*/ 591840 h 2592360"/>
              <a:gd name="textAreaBottom" fmla="*/ 200052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995640" y="1216080"/>
            <a:ext cx="30243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r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(красный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1671480" y="5176800"/>
            <a:ext cx="66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2124000" y="4653000"/>
            <a:ext cx="2303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969696"/>
                </a:solidFill>
                <a:latin typeface="Arial"/>
              </a:rPr>
              <a:t>gra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69696"/>
                </a:solidFill>
                <a:latin typeface="Arial"/>
              </a:rPr>
              <a:t>(</a:t>
            </a:r>
            <a:r>
              <a:rPr b="1" i="1" lang="ru-RU" sz="3600" spc="-1" strike="noStrike">
                <a:solidFill>
                  <a:srgbClr val="969696"/>
                </a:solidFill>
                <a:latin typeface="Arial"/>
              </a:rPr>
              <a:t>серый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"/>
          <p:cNvSpPr/>
          <p:nvPr/>
        </p:nvSpPr>
        <p:spPr>
          <a:xfrm>
            <a:off x="539640" y="333360"/>
            <a:ext cx="2448000" cy="273528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"/>
          <p:cNvSpPr/>
          <p:nvPr/>
        </p:nvSpPr>
        <p:spPr>
          <a:xfrm>
            <a:off x="5867280" y="3645000"/>
            <a:ext cx="3024360" cy="2879640"/>
          </a:xfrm>
          <a:custGeom>
            <a:avLst/>
            <a:gdLst>
              <a:gd name="textAreaLeft" fmla="*/ 690480 w 3024360"/>
              <a:gd name="textAreaRight" fmla="*/ 2333880 w 3024360"/>
              <a:gd name="textAreaTop" fmla="*/ 657360 h 2879640"/>
              <a:gd name="textAreaBottom" fmla="*/ 2222280 h 28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687840" y="568440"/>
            <a:ext cx="28288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el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жёлтый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763640" y="4797360"/>
            <a:ext cx="28083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33ccff"/>
                </a:solidFill>
                <a:latin typeface="Arial"/>
              </a:rPr>
              <a:t>bla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33ccff"/>
                </a:solidFill>
                <a:latin typeface="Arial"/>
              </a:rPr>
              <a:t>(</a:t>
            </a:r>
            <a:r>
              <a:rPr b="1" i="1" lang="ru-RU" sz="3600" spc="-1" strike="noStrike">
                <a:solidFill>
                  <a:srgbClr val="33ccff"/>
                </a:solidFill>
                <a:latin typeface="Arial"/>
              </a:rPr>
              <a:t>голубой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2"/>
          <p:cNvSpPr/>
          <p:nvPr/>
        </p:nvSpPr>
        <p:spPr>
          <a:xfrm>
            <a:off x="539640" y="333360"/>
            <a:ext cx="2592360" cy="2521080"/>
          </a:xfrm>
          <a:custGeom>
            <a:avLst/>
            <a:gdLst>
              <a:gd name="textAreaLeft" fmla="*/ 1068120 w 2592360"/>
              <a:gd name="textAreaRight" fmla="*/ 1524240 w 2592360"/>
              <a:gd name="textAreaTop" fmla="*/ 1038600 h 2521080"/>
              <a:gd name="textAreaBottom" fmla="*/ 1482480 h 252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"/>
          <p:cNvSpPr/>
          <p:nvPr/>
        </p:nvSpPr>
        <p:spPr>
          <a:xfrm>
            <a:off x="6012000" y="4005360"/>
            <a:ext cx="2520720" cy="2592360"/>
          </a:xfrm>
          <a:custGeom>
            <a:avLst/>
            <a:gdLst>
              <a:gd name="textAreaLeft" fmla="*/ 575280 w 2520720"/>
              <a:gd name="textAreaRight" fmla="*/ 1945440 w 2520720"/>
              <a:gd name="textAreaTop" fmla="*/ 591840 h 2592360"/>
              <a:gd name="textAreaBottom" fmla="*/ 200052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4284720" y="928800"/>
            <a:ext cx="2448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gr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ü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зелёный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527120" y="604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332000" y="4797360"/>
            <a:ext cx="35272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a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оричневый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527120" y="604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radugai"/>
          <p:cNvPicPr/>
          <p:nvPr/>
        </p:nvPicPr>
        <p:blipFill>
          <a:blip r:embed="rId1"/>
          <a:stretch/>
        </p:blipFill>
        <p:spPr>
          <a:xfrm>
            <a:off x="6458040" y="4005360"/>
            <a:ext cx="2265120" cy="2520720"/>
          </a:xfrm>
          <a:prstGeom prst="rect">
            <a:avLst/>
          </a:prstGeom>
          <a:ln w="0">
            <a:noFill/>
          </a:ln>
        </p:spPr>
      </p:pic>
      <p:sp>
        <p:nvSpPr>
          <p:cNvPr id="66" name="WordArt 4"/>
          <p:cNvSpPr txBox="1"/>
          <p:nvPr/>
        </p:nvSpPr>
        <p:spPr>
          <a:xfrm>
            <a:off x="1547640" y="333360"/>
            <a:ext cx="5943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пиши в словарь и запомни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042920" y="1268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1258920" y="1287360"/>
            <a:ext cx="4537080" cy="39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Times New Roman"/>
              </a:rPr>
              <a:t>schwarz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 – чёр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Times New Roman"/>
              </a:rPr>
              <a:t>wei</a:t>
            </a:r>
            <a:r>
              <a:rPr b="1" lang="el-GR" sz="3200" spc="-1" strike="noStrike">
                <a:solidFill>
                  <a:srgbClr val="0066cc"/>
                </a:solidFill>
                <a:latin typeface="Times New Roman"/>
                <a:ea typeface="Arial"/>
              </a:rPr>
              <a:t>β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Arial"/>
              </a:rPr>
              <a:t> –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Arial"/>
              </a:rPr>
              <a:t>бе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cc"/>
                </a:solidFill>
                <a:latin typeface="Times New Roman"/>
              </a:rPr>
              <a:t>gr</a:t>
            </a:r>
            <a:r>
              <a:rPr b="1" lang="en-US" sz="32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ün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–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елё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rot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–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кра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braun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–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ричне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gelb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–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жёл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blau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–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олу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grau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–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рый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5"/>
          <p:cNvSpPr/>
          <p:nvPr/>
        </p:nvSpPr>
        <p:spPr>
          <a:xfrm>
            <a:off x="1527120" y="604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milki"/>
          <p:cNvPicPr/>
          <p:nvPr/>
        </p:nvPicPr>
        <p:blipFill>
          <a:blip r:embed="rId1"/>
          <a:stretch/>
        </p:blipFill>
        <p:spPr>
          <a:xfrm>
            <a:off x="1908000" y="4995720"/>
            <a:ext cx="2232360" cy="1668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kapusti"/>
          <p:cNvPicPr/>
          <p:nvPr/>
        </p:nvPicPr>
        <p:blipFill>
          <a:blip r:embed="rId2"/>
          <a:stretch/>
        </p:blipFill>
        <p:spPr>
          <a:xfrm>
            <a:off x="6300720" y="4546440"/>
            <a:ext cx="2519280" cy="1879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coat1i"/>
          <p:cNvPicPr/>
          <p:nvPr/>
        </p:nvPicPr>
        <p:blipFill>
          <a:blip r:embed="rId3"/>
          <a:stretch/>
        </p:blipFill>
        <p:spPr>
          <a:xfrm>
            <a:off x="6948360" y="260280"/>
            <a:ext cx="1982880" cy="2205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kurt_bli"/>
          <p:cNvPicPr/>
          <p:nvPr/>
        </p:nvPicPr>
        <p:blipFill>
          <a:blip r:embed="rId4"/>
          <a:stretch/>
        </p:blipFill>
        <p:spPr>
          <a:xfrm>
            <a:off x="250920" y="2565360"/>
            <a:ext cx="1876320" cy="2087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wool2i"/>
          <p:cNvPicPr/>
          <p:nvPr/>
        </p:nvPicPr>
        <p:blipFill>
          <a:blip r:embed="rId5"/>
          <a:stretch/>
        </p:blipFill>
        <p:spPr>
          <a:xfrm>
            <a:off x="826920" y="189000"/>
            <a:ext cx="1746360" cy="194472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14"/>
          <p:cNvSpPr/>
          <p:nvPr/>
        </p:nvSpPr>
        <p:spPr>
          <a:xfrm>
            <a:off x="2484360" y="1268280"/>
            <a:ext cx="4319640" cy="36007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chwar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ra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gr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ü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we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9"/>
          <p:cNvSpPr/>
          <p:nvPr/>
        </p:nvSpPr>
        <p:spPr>
          <a:xfrm>
            <a:off x="2700360" y="17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2"/>
          <p:cNvSpPr/>
          <p:nvPr/>
        </p:nvSpPr>
        <p:spPr>
          <a:xfrm flipH="1">
            <a:off x="2195280" y="2924280"/>
            <a:ext cx="2160360" cy="2887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3"/>
          <p:cNvSpPr/>
          <p:nvPr/>
        </p:nvSpPr>
        <p:spPr>
          <a:xfrm flipH="1">
            <a:off x="3348000" y="4365720"/>
            <a:ext cx="936720" cy="5760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4"/>
          <p:cNvSpPr/>
          <p:nvPr/>
        </p:nvSpPr>
        <p:spPr>
          <a:xfrm>
            <a:off x="5076720" y="3645000"/>
            <a:ext cx="1727280" cy="8636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5"/>
          <p:cNvSpPr/>
          <p:nvPr/>
        </p:nvSpPr>
        <p:spPr>
          <a:xfrm flipH="1" flipV="1">
            <a:off x="2700360" y="1341000"/>
            <a:ext cx="1511280" cy="8636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6"/>
          <p:cNvSpPr/>
          <p:nvPr/>
        </p:nvSpPr>
        <p:spPr>
          <a:xfrm flipV="1">
            <a:off x="5364000" y="1197000"/>
            <a:ext cx="1513080" cy="2160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5"/>
          <p:cNvSpPr/>
          <p:nvPr/>
        </p:nvSpPr>
        <p:spPr>
          <a:xfrm>
            <a:off x="1527120" y="604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Отсканировано 07"/>
          <p:cNvPicPr/>
          <p:nvPr/>
        </p:nvPicPr>
        <p:blipFill>
          <a:blip r:embed="rId1"/>
          <a:stretch/>
        </p:blipFill>
        <p:spPr>
          <a:xfrm>
            <a:off x="714240" y="1214280"/>
            <a:ext cx="1478160" cy="147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Отсканировано 07"/>
          <p:cNvPicPr/>
          <p:nvPr/>
        </p:nvPicPr>
        <p:blipFill>
          <a:blip r:embed="rId2"/>
          <a:srcRect l="3507" t="0" r="3507" b="0"/>
          <a:stretch/>
        </p:blipFill>
        <p:spPr>
          <a:xfrm>
            <a:off x="642960" y="4786200"/>
            <a:ext cx="1908000" cy="1239840"/>
          </a:xfrm>
          <a:prstGeom prst="rect">
            <a:avLst/>
          </a:prstGeom>
          <a:ln w="0">
            <a:noFill/>
          </a:ln>
        </p:spPr>
      </p:pic>
      <p:sp>
        <p:nvSpPr>
          <p:cNvPr id="85" name="WordArt 10"/>
          <p:cNvSpPr txBox="1"/>
          <p:nvPr/>
        </p:nvSpPr>
        <p:spPr>
          <a:xfrm>
            <a:off x="2627280" y="260280"/>
            <a:ext cx="459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кончи предложения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2535120" y="1576440"/>
            <a:ext cx="54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e Lampe ist …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564000" y="3232080"/>
            <a:ext cx="48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r Ball ist …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3714840" y="514368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as Auto ist …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2"/>
          <p:cNvSpPr/>
          <p:nvPr/>
        </p:nvSpPr>
        <p:spPr>
          <a:xfrm>
            <a:off x="6221160" y="157176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gr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ü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4"/>
          <p:cNvSpPr/>
          <p:nvPr/>
        </p:nvSpPr>
        <p:spPr>
          <a:xfrm>
            <a:off x="6148080" y="514368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r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6"/>
          <p:cNvSpPr/>
          <p:nvPr/>
        </p:nvSpPr>
        <p:spPr>
          <a:xfrm>
            <a:off x="714240" y="3071880"/>
            <a:ext cx="164304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15"/>
          <p:cNvSpPr/>
          <p:nvPr/>
        </p:nvSpPr>
        <p:spPr>
          <a:xfrm>
            <a:off x="1071720" y="3214800"/>
            <a:ext cx="1000080" cy="928440"/>
          </a:xfrm>
          <a:prstGeom prst="ellipse">
            <a:avLst/>
          </a:prstGeom>
          <a:solidFill>
            <a:srgbClr val="d9d9d9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7"/>
          <p:cNvSpPr/>
          <p:nvPr/>
        </p:nvSpPr>
        <p:spPr>
          <a:xfrm>
            <a:off x="5863680" y="321480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gr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527120" y="604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3"/>
          <p:cNvSpPr txBox="1"/>
          <p:nvPr/>
        </p:nvSpPr>
        <p:spPr>
          <a:xfrm>
            <a:off x="684360" y="476280"/>
            <a:ext cx="8010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читай внимательно слова и найди слово,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торое не подходит по смыслу.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611280" y="2924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116000" y="3059280"/>
            <a:ext cx="6985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braun,  gelb,  schwarz,  wei</a:t>
            </a:r>
            <a:r>
              <a:rPr b="1" lang="el-GR" sz="4800" spc="-1" strike="noStrike">
                <a:solidFill>
                  <a:srgbClr val="000099"/>
                </a:solidFill>
                <a:latin typeface="Arial"/>
                <a:ea typeface="Arial"/>
              </a:rPr>
              <a:t>β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  <a:ea typeface="Arial"/>
              </a:rPr>
              <a:t>,  wie,  blau, rot, grau, gr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  <a:ea typeface="Times New Roman"/>
              </a:rPr>
              <a:t>ü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8:10:06Z</dcterms:created>
  <dc:creator>1</dc:creator>
  <dc:description/>
  <dc:language>en-US</dc:language>
  <cp:lastModifiedBy>WIN7XP</cp:lastModifiedBy>
  <dcterms:modified xsi:type="dcterms:W3CDTF">2011-11-23T15:41:37Z</dcterms:modified>
  <cp:revision>4</cp:revision>
  <dc:subject/>
  <dc:title>Слайд 1</dc:title>
</cp:coreProperties>
</file>