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5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1.jpeg" ContentType="image/jpeg"/>
  <Override PartName="/ppt/media/image2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93C-348E-458C-AC8F-3FF2A020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A76-6757-4569-B1D2-596D829D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27E-62A7-4EFA-A0AF-6200C5A5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30D-5E58-42EF-9E21-8A5B38F4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2543-F311-47C0-9A01-9FD13960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750C-76FB-474D-B7D9-25D86863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3F1-E5E4-41D2-BB2B-829AA40E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AEC2-EE2B-4A94-99EF-49C9E5B2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06EE-D934-49CA-A1D4-8DF3DFA0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18BD-3944-4B48-89A6-DE2F6A94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4E30-4B45-407A-90FD-DD67D6A7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D0FD-FF6A-49ED-8C14-BAD33EAC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032-8C95-4C79-AC50-1B6F51FB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9BEC-BCB7-4403-AD60-3C5B4AF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900A-D168-4335-82DF-0918E6E8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F538-A331-4A0E-89E1-15524F74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0735-5FE9-47F7-BFF0-73C9FE4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256F-9E30-4F51-B49A-C1DBB380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4347-5360-4240-B3FE-170D4AD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B305-FF71-4B0B-A193-68B64EF5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05E8E-8FA1-4046-84E2-3CDCB066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3D3E-AD2F-46B8-846B-90B8A61F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6208-9DF7-4979-B42E-430D16A2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9B2-87E4-48AE-B8CD-77322731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A045-10CC-4F83-B2E3-B40E24FE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D69D-0E6D-4227-81CD-CE587D1A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90E4-C0A7-4C80-93E6-A11533C4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FDB7-AD88-4C32-AE12-FA0A498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19CB3-4756-4847-922C-2F874518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44B6-F190-429B-A438-29125C1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FE7A-7C12-4F1A-BAC2-2B20E0CA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15D8-3591-4B7A-8B1C-F7C74245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5217-0441-4910-9F9A-3D409A51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A228-A9CA-4B50-BCC2-C5289E7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CBD5-EC45-47C0-86B8-2F6B7CC8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6930C-FD00-4F53-809A-0ED823D7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8043-FCE5-44FA-9CA9-85C712D6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B97-7A64-4D97-A928-6149DA9B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FE9-1065-4375-A503-1D09AD07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063-525F-4551-8E07-17BA73A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B73-8E00-4816-9B7B-DEBFA1AB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B46-990D-4904-85E8-E96E2CF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FBD-BEC9-49E8-ACDD-15443BE5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F19-CF3D-42B5-A8A5-758C398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FE9-439B-4BEA-9B07-AB8C5BC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E84F-022D-439A-AECF-8913CCA2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5AA4-FB57-4828-99AF-B2208D7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0E67-1369-4BC6-9203-D02C1ECC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BFA-1D14-4F94-9C6F-C4E34B92C0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6AF-F1E4-4A8E-AC65-89C016B04F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C64-A693-4009-B842-84C1642C17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FD0-D2D3-49CE-99A1-4C89027F29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photo.tetstudio.ru/upload_img/big/13.jpg&amp;imgrefurl=http://photo.tetstudio.ru/view_big/13/&amp;h=1024&amp;w=768&amp;sz=129&amp;tbnid=hXXssUJorAEJ:&amp;tbnh=149&amp;tbnw=112&amp;start=2&amp;prev=/images%3Fq%3D%25D0%25BE%25D1%2581%25D1%2582%25D0%25B0%25D0%25BD%25D0%25BA%25D0%25B8%25D0%25BD%25D1%2581%25D0%25BA%25D0%25B0%25D1%258F%2B%25D1%2582%25D0%25B5%25D0%25BB%25D0%25B5%25D0%25B1%25D0%25B0%25D1%2588%25D0%25BD%25D1%258F%26hl%3Dru%26lr%3D%26sa%3DN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http://images.google.ru/imgres?imgurl=http://www.phot.ru/Interier/Schuco/3.jpg&amp;imgrefurl=http://www.phot.ru/Interier/Schuco/schuco03.php&amp;h=510&amp;w=413&amp;sz=94&amp;tbnid=YX8EUmMIVa8J:&amp;tbnh=127&amp;tbnw=103&amp;start=3&amp;prev=/images%3Fq%3D%25D1%2586%25D0%25B5%25D0%25BD%25D1%2582%25D1%2580%25D0%25BE%25D0%25B1%25D0%25B0%25D0%25BD%25D0%25BA%26hl%3Dru%26lr%3D%26sa%3DN" TargetMode="External"/><Relationship Id="rId7" Type="http://schemas.openxmlformats.org/officeDocument/2006/relationships/image" Target="../media/image25.jpeg"/><Relationship Id="rId8" Type="http://schemas.openxmlformats.org/officeDocument/2006/relationships/hyperlink" Target="http://www.bolshoi.ru/" TargetMode="External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hyperlink" Target="http://images.google.ru/imgres?imgurl=http://www.phot.ru/FotoBank/fotobank3/310.jpg&amp;imgrefurl=http://www.phot.ru/FotoBank/fotobank3/310.php&amp;h=650&amp;w=663&amp;sz=157&amp;tbnid=6oXSAXRUJw4J:&amp;tbnh=133&amp;tbnw=136&amp;start=2&amp;prev=/images%3Fq%3D%25D0%25BC%25D0%25BE%25D1%2581%25D0%25BA%25D0%25BE%25D0%25B2%25D1%2581%25D0%25BA%25D0%25B8%25D0%25B9%2B%25D0%25BA%25D1%2580%25D0%25B5%25D0%25BC%25D0%25BB%25D1%258C%26hl%3Dru%26lr%3D%26sa%3DG" TargetMode="External"/><Relationship Id="rId13" Type="http://schemas.openxmlformats.org/officeDocument/2006/relationships/image" Target="../media/image28.jpeg"/><Relationship Id="rId14" Type="http://schemas.openxmlformats.org/officeDocument/2006/relationships/slide" Target="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extBox 3" descr=""/>
          <p:cNvPicPr/>
          <p:nvPr/>
        </p:nvPicPr>
        <p:blipFill>
          <a:blip r:embed="rId1"/>
          <a:stretch/>
        </p:blipFill>
        <p:spPr>
          <a:xfrm>
            <a:off x="6480" y="4846680"/>
            <a:ext cx="59864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5" descr=""/>
          <p:cNvPicPr/>
          <p:nvPr/>
        </p:nvPicPr>
        <p:blipFill>
          <a:blip r:embed="rId1"/>
          <a:stretch/>
        </p:blipFill>
        <p:spPr>
          <a:xfrm>
            <a:off x="0" y="201600"/>
            <a:ext cx="8229600" cy="2170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5508360" y="2420640"/>
            <a:ext cx="321444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– столица России, историческое ядро 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Рисунок SmartArt 10" descr="москва1.jpg"/>
          <p:cNvPicPr/>
          <p:nvPr/>
        </p:nvPicPr>
        <p:blipFill>
          <a:blip r:embed="rId2"/>
          <a:stretch/>
        </p:blipFill>
        <p:spPr>
          <a:xfrm>
            <a:off x="826920" y="2565360"/>
            <a:ext cx="42498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Рисунок 7" descr="смоленск.jpg"/>
          <p:cNvPicPr/>
          <p:nvPr/>
        </p:nvPicPr>
        <p:blipFill>
          <a:blip r:embed="rId1"/>
          <a:stretch/>
        </p:blipFill>
        <p:spPr>
          <a:xfrm>
            <a:off x="428760" y="1714680"/>
            <a:ext cx="2071440" cy="2071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8" descr="ярославль церковь ильи пророка.jpg"/>
          <p:cNvPicPr/>
          <p:nvPr/>
        </p:nvPicPr>
        <p:blipFill>
          <a:blip r:embed="rId2"/>
          <a:stretch/>
        </p:blipFill>
        <p:spPr>
          <a:xfrm>
            <a:off x="2571840" y="1714680"/>
            <a:ext cx="2071440" cy="20714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9" descr="муром.jpg"/>
          <p:cNvPicPr/>
          <p:nvPr/>
        </p:nvPicPr>
        <p:blipFill>
          <a:blip r:embed="rId3"/>
          <a:stretch/>
        </p:blipFill>
        <p:spPr>
          <a:xfrm>
            <a:off x="428760" y="3857760"/>
            <a:ext cx="2071440" cy="20714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0" descr="суздаль.jpg"/>
          <p:cNvPicPr/>
          <p:nvPr/>
        </p:nvPicPr>
        <p:blipFill>
          <a:blip r:embed="rId4"/>
          <a:stretch/>
        </p:blipFill>
        <p:spPr>
          <a:xfrm>
            <a:off x="2571840" y="3857760"/>
            <a:ext cx="2071440" cy="2071440"/>
          </a:xfrm>
          <a:prstGeom prst="rect">
            <a:avLst/>
          </a:prstGeom>
          <a:ln w="0">
            <a:noFill/>
          </a:ln>
        </p:spPr>
      </p:pic>
      <p:pic>
        <p:nvPicPr>
          <p:cNvPr id="438" name="Заголовок 5" descr=""/>
          <p:cNvPicPr/>
          <p:nvPr/>
        </p:nvPicPr>
        <p:blipFill>
          <a:blip r:embed="rId5"/>
          <a:stretch/>
        </p:blipFill>
        <p:spPr>
          <a:xfrm>
            <a:off x="324000" y="-1908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786200" y="1714320"/>
            <a:ext cx="3786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е русские города – Смоленск, Муром, Ростов, Ярославль, Владимир, Суздал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за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5867280" y="105264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этому регио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ходит всемир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вес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истический  маршр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Золотое кольц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ссии»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14" descr="map_zol_kol"/>
          <p:cNvPicPr/>
          <p:nvPr/>
        </p:nvPicPr>
        <p:blipFill>
          <a:blip r:embed="rId1"/>
          <a:stretch/>
        </p:blipFill>
        <p:spPr>
          <a:xfrm>
            <a:off x="304920" y="228600"/>
            <a:ext cx="5491080" cy="6324480"/>
          </a:xfrm>
          <a:prstGeom prst="rect">
            <a:avLst/>
          </a:prstGeom>
          <a:ln w="0">
            <a:noFill/>
          </a:ln>
        </p:spPr>
      </p:pic>
      <p:sp>
        <p:nvSpPr>
          <p:cNvPr id="442" name="WordArt 19"/>
          <p:cNvSpPr txBox="1"/>
          <p:nvPr/>
        </p:nvSpPr>
        <p:spPr>
          <a:xfrm>
            <a:off x="1752480" y="304920"/>
            <a:ext cx="663588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Arial"/>
              </a:rPr>
              <a:t>Золотое кольцо России</a:t>
            </a:r>
            <a:endParaRPr b="0" i="1" lang="en-US" sz="18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ста исторических сражений на территории Центральной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ликовская би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рская д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роди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6" descr="27713922_IMG_0177"/>
          <p:cNvPicPr/>
          <p:nvPr/>
        </p:nvPicPr>
        <p:blipFill>
          <a:blip r:embed="rId1"/>
          <a:stretch/>
        </p:blipFill>
        <p:spPr>
          <a:xfrm>
            <a:off x="250920" y="3141720"/>
            <a:ext cx="2484360" cy="36846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7"/>
          <p:cNvSpPr/>
          <p:nvPr/>
        </p:nvSpPr>
        <p:spPr>
          <a:xfrm>
            <a:off x="2774520" y="6491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ород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8" descr="Podmoskovye-2007-18"/>
          <p:cNvPicPr/>
          <p:nvPr/>
        </p:nvPicPr>
        <p:blipFill>
          <a:blip r:embed="rId2"/>
          <a:stretch/>
        </p:blipFill>
        <p:spPr>
          <a:xfrm>
            <a:off x="4140360" y="1268280"/>
            <a:ext cx="4127400" cy="24418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9"/>
          <p:cNvSpPr/>
          <p:nvPr/>
        </p:nvSpPr>
        <p:spPr>
          <a:xfrm>
            <a:off x="7400880" y="378936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уликово п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10" descr="450px-ProkhorovkaMonument"/>
          <p:cNvPicPr/>
          <p:nvPr/>
        </p:nvPicPr>
        <p:blipFill>
          <a:blip r:embed="rId3"/>
          <a:stretch/>
        </p:blipFill>
        <p:spPr>
          <a:xfrm>
            <a:off x="4859280" y="3882960"/>
            <a:ext cx="2233800" cy="297504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1"/>
          <p:cNvSpPr/>
          <p:nvPr/>
        </p:nvSpPr>
        <p:spPr>
          <a:xfrm>
            <a:off x="731196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хор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Рисунок 1" descr="8.jpg"/>
          <p:cNvPicPr/>
          <p:nvPr/>
        </p:nvPicPr>
        <p:blipFill>
          <a:blip r:embed="rId1"/>
          <a:stretch/>
        </p:blipFill>
        <p:spPr>
          <a:xfrm>
            <a:off x="547560" y="0"/>
            <a:ext cx="804888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TextBox 2" descr=""/>
          <p:cNvPicPr/>
          <p:nvPr/>
        </p:nvPicPr>
        <p:blipFill>
          <a:blip r:embed="rId2"/>
          <a:stretch/>
        </p:blipFill>
        <p:spPr>
          <a:xfrm>
            <a:off x="3773520" y="-109440"/>
            <a:ext cx="5199120" cy="1047600"/>
          </a:xfrm>
          <a:prstGeom prst="rect">
            <a:avLst/>
          </a:prstGeom>
          <a:ln w="0">
            <a:noFill/>
          </a:ln>
        </p:spPr>
      </p:pic>
      <p:pic>
        <p:nvPicPr>
          <p:cNvPr id="453" name="Скругленный прямоугольник 3" descr=""/>
          <p:cNvPicPr/>
          <p:nvPr/>
        </p:nvPicPr>
        <p:blipFill>
          <a:blip r:embed="rId3"/>
          <a:stretch/>
        </p:blipFill>
        <p:spPr>
          <a:xfrm>
            <a:off x="1725480" y="2139840"/>
            <a:ext cx="1895760" cy="8892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4" descr="IMG_3474_filtered.jpg"/>
          <p:cNvPicPr/>
          <p:nvPr/>
        </p:nvPicPr>
        <p:blipFill>
          <a:blip r:embed="rId4"/>
          <a:stretch/>
        </p:blipFill>
        <p:spPr>
          <a:xfrm>
            <a:off x="-115920" y="1011240"/>
            <a:ext cx="9326520" cy="48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7" descr="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12952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Храм Христа Спасителя в Москве"/>
          <p:cNvPicPr/>
          <p:nvPr/>
        </p:nvPicPr>
        <p:blipFill>
          <a:blip r:embed="rId3"/>
          <a:stretch/>
        </p:blipFill>
        <p:spPr>
          <a:xfrm>
            <a:off x="6324480" y="24382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2" descr="Здание МГУ Фотографии Москвы "/>
          <p:cNvPicPr/>
          <p:nvPr/>
        </p:nvPicPr>
        <p:blipFill>
          <a:blip r:embed="rId4"/>
          <a:stretch/>
        </p:blipFill>
        <p:spPr>
          <a:xfrm>
            <a:off x="5638680" y="3886200"/>
            <a:ext cx="1594080" cy="2057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_0003080_photo_mini"/>
          <p:cNvPicPr/>
          <p:nvPr/>
        </p:nvPicPr>
        <p:blipFill>
          <a:blip r:embed="rId5"/>
          <a:stretch/>
        </p:blipFill>
        <p:spPr>
          <a:xfrm>
            <a:off x="228600" y="1295280"/>
            <a:ext cx="1562040" cy="1828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5" descr="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19320" y="25909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0" descr="Большой театр 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4051440"/>
            <a:ext cx="1981080" cy="173988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WordArt 5"/>
          <p:cNvSpPr txBox="1"/>
          <p:nvPr/>
        </p:nvSpPr>
        <p:spPr>
          <a:xfrm>
            <a:off x="380880" y="152280"/>
            <a:ext cx="82296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сква-столица Росс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3" name="Picture 34" descr="310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4921200"/>
            <a:ext cx="1981080" cy="17845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39">
            <a:hlinkClick r:id="rId14" action="ppaction://hlinksldjump"/>
          </p:cNvPr>
          <p:cNvSpPr/>
          <p:nvPr/>
        </p:nvSpPr>
        <p:spPr>
          <a:xfrm>
            <a:off x="2627280" y="1557360"/>
            <a:ext cx="3745080" cy="2663640"/>
          </a:xfrm>
          <a:custGeom>
            <a:avLst/>
            <a:gdLst>
              <a:gd name="textAreaLeft" fmla="*/ 0 w 3745080"/>
              <a:gd name="textAreaRight" fmla="*/ 3745440 w 3745080"/>
              <a:gd name="textAreaTop" fmla="*/ 345240 h 2663640"/>
              <a:gd name="textAreaBottom" fmla="*/ 231840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91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ен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,4 млн. ч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41" descr="034_big"/>
          <p:cNvPicPr/>
          <p:nvPr/>
        </p:nvPicPr>
        <p:blipFill>
          <a:blip r:embed="rId15"/>
          <a:stretch/>
        </p:blipFill>
        <p:spPr>
          <a:xfrm>
            <a:off x="152280" y="5013360"/>
            <a:ext cx="1676520" cy="13446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7" descr="герб Москвы пластиковый"/>
          <p:cNvPicPr/>
          <p:nvPr/>
        </p:nvPicPr>
        <p:blipFill>
          <a:blip r:embed="rId16"/>
          <a:stretch/>
        </p:blipFill>
        <p:spPr>
          <a:xfrm>
            <a:off x="7467480" y="4952880"/>
            <a:ext cx="14288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Спасибо за работу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15:45:01Z</dcterms:created>
  <dc:creator>Олег</dc:creator>
  <dc:description/>
  <dc:language>en-US</dc:language>
  <cp:lastModifiedBy>komp</cp:lastModifiedBy>
  <dcterms:modified xsi:type="dcterms:W3CDTF">2019-12-20T13:18:5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0340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