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3703D-6C8D-4584-918D-D493C0DBD02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 привели классификацию плодов, но допустили ошибки. Объяснили тем, что некоторые плоды они видят в первый раз и никогда не пробова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DAE63-CCBB-4AF6-AEF9-56BCAE1A35B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детей были приготовлены объекты для исследования: морковь, лимон, лук, перец, капус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2A470-2133-4599-BD08-0EAB3649378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 не только рассматривали плоды в разрезе с помощью лупы, но и зарисовывали семенную коробку. Делали срав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C66EB-4953-420F-81FF-EE043D26DB2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 каждый день наблюдали прорастание фасоли, и на 4 день они увидели первые кореш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222D3-90BB-4192-A8D7-B55B082F80C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вот и первые листочки. Дети решили их посадить в землю и вырастить фасоль в классной комна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49980-B0B3-4187-936E-35F11BDD6B6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создания лэпбука дети сами выбрали макет, который содержит картинки и конвертики: «Родина» (где плод растёт), «Интересные факты», «Рецепт» (из многих плодов можно приготовить вкусные блюда), «Польза» (какую пользу приносят плоды и семен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DADB6-9F14-4EC0-9877-7691CEC5514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0656-9E26-41DE-ABCD-CC5503852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98B3-009F-4F94-B2F3-5D7F22B28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390F-E8B7-43D4-8EB4-BDDCB98FA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BE73-2673-4B47-8B2B-3F39F2136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675A-BA22-45AF-81A5-00D779682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7E2F-480E-488C-A1A5-06F5BFD2F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856B-5253-4C77-89A4-D51954BF3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053D-CE65-4E33-9ECF-9FE7A1ED8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A404-D4AE-48A0-B6D8-5C2631181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FBB5-522A-493F-BAD5-564CB59FB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EF66-3A8D-4BE5-8D54-408DAEE7B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1622-AEE6-4620-AAF6-F4478421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F81F5-9027-4DA1-BCE3-F295DEE2B7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Светлана\Desktop\3d6dfb6cd76ce2cf361a8449f8137192.png"/>
          <p:cNvPicPr/>
          <p:nvPr/>
        </p:nvPicPr>
        <p:blipFill>
          <a:blip r:embed="rId1"/>
          <a:stretch/>
        </p:blipFill>
        <p:spPr>
          <a:xfrm>
            <a:off x="-23760" y="-23760"/>
            <a:ext cx="9191520" cy="69055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2707920"/>
            <a:ext cx="896472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ston"/>
              </a:rPr>
              <a:t>Школа: МБОУ «Сеяхинская школа – интернат»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ston"/>
              </a:rPr>
              <a:t>Класс: 3 «Б» класса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ston"/>
              </a:rPr>
              <a:t>Учитель: Акименко С.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619280" y="47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ston"/>
              </a:rPr>
              <a:t>Путешествие плодов и семян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Users\Светлана\Desktop\3d6dfb6cd76ce2cf361a8449f8137192.png"/>
          <p:cNvPicPr/>
          <p:nvPr/>
        </p:nvPicPr>
        <p:blipFill>
          <a:blip r:embed="rId1"/>
          <a:stretch/>
        </p:blipFill>
        <p:spPr>
          <a:xfrm>
            <a:off x="-23760" y="-23760"/>
            <a:ext cx="9191520" cy="69055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ston"/>
              </a:rPr>
              <a:t>Классификация плод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C:\Users\Светлана\Desktop\Новая папка\P_20191115_183133.jpg"/>
          <p:cNvPicPr/>
          <p:nvPr/>
        </p:nvPicPr>
        <p:blipFill>
          <a:blip r:embed="rId2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C:\Users\Светлана\Desktop\Новая папка\P_20191115_183210.jpg"/>
          <p:cNvPicPr/>
          <p:nvPr/>
        </p:nvPicPr>
        <p:blipFill>
          <a:blip r:embed="rId3"/>
          <a:stretch/>
        </p:blipFill>
        <p:spPr>
          <a:xfrm>
            <a:off x="497052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Users\Светлана\Desktop\3d6dfb6cd76ce2cf361a8449f8137192.png"/>
          <p:cNvPicPr/>
          <p:nvPr/>
        </p:nvPicPr>
        <p:blipFill>
          <a:blip r:embed="rId1"/>
          <a:stretch/>
        </p:blipFill>
        <p:spPr>
          <a:xfrm>
            <a:off x="-23760" y="-23760"/>
            <a:ext cx="9191520" cy="69055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ston"/>
              </a:rPr>
              <a:t>Изучение плодов расте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C:\Users\Светлана\Desktop\Новая папка\P_20191115_184058.jpg"/>
          <p:cNvPicPr/>
          <p:nvPr/>
        </p:nvPicPr>
        <p:blipFill>
          <a:blip r:embed="rId2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C:\Users\Светлана\Desktop\Новая папка\P_20191115_184707.jpg"/>
          <p:cNvPicPr/>
          <p:nvPr/>
        </p:nvPicPr>
        <p:blipFill>
          <a:blip r:embed="rId3"/>
          <a:stretch/>
        </p:blipFill>
        <p:spPr>
          <a:xfrm>
            <a:off x="497052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Users\Светлана\Desktop\3d6dfb6cd76ce2cf361a8449f8137192.png"/>
          <p:cNvPicPr/>
          <p:nvPr/>
        </p:nvPicPr>
        <p:blipFill>
          <a:blip r:embed="rId1"/>
          <a:stretch/>
        </p:blipFill>
        <p:spPr>
          <a:xfrm>
            <a:off x="-23760" y="-23760"/>
            <a:ext cx="9191520" cy="69055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ston"/>
              </a:rPr>
              <a:t>Изучение плодов растений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C:\Users\Светлана\Desktop\Новая папка\P_20191115_185123.jpg"/>
          <p:cNvPicPr/>
          <p:nvPr/>
        </p:nvPicPr>
        <p:blipFill>
          <a:blip r:embed="rId2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C:\Users\Светлана\Desktop\Новая папка\P_20191115_184959.jpg"/>
          <p:cNvPicPr/>
          <p:nvPr/>
        </p:nvPicPr>
        <p:blipFill>
          <a:blip r:embed="rId3"/>
          <a:stretch/>
        </p:blipFill>
        <p:spPr>
          <a:xfrm>
            <a:off x="497052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Users\Светлана\Desktop\3d6dfb6cd76ce2cf361a8449f8137192.png"/>
          <p:cNvPicPr/>
          <p:nvPr/>
        </p:nvPicPr>
        <p:blipFill>
          <a:blip r:embed="rId1"/>
          <a:stretch/>
        </p:blipFill>
        <p:spPr>
          <a:xfrm>
            <a:off x="-23760" y="-23760"/>
            <a:ext cx="9191520" cy="69055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ston"/>
              </a:rPr>
              <a:t>Наблюдения за процессом прорастания фасол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C:\Users\Светлана\Desktop\Новая папка\P_20191115_185714.jpg"/>
          <p:cNvPicPr/>
          <p:nvPr/>
        </p:nvPicPr>
        <p:blipFill>
          <a:blip r:embed="rId2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C:\Users\Светлана\Desktop\Новая папка\P_20191119_130559.jpg"/>
          <p:cNvPicPr/>
          <p:nvPr/>
        </p:nvPicPr>
        <p:blipFill>
          <a:blip r:embed="rId3"/>
          <a:stretch/>
        </p:blipFill>
        <p:spPr>
          <a:xfrm>
            <a:off x="497052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Users\Светлана\Desktop\3d6dfb6cd76ce2cf361a8449f8137192.png"/>
          <p:cNvPicPr/>
          <p:nvPr/>
        </p:nvPicPr>
        <p:blipFill>
          <a:blip r:embed="rId1"/>
          <a:stretch/>
        </p:blipFill>
        <p:spPr>
          <a:xfrm>
            <a:off x="-23760" y="-23760"/>
            <a:ext cx="9191520" cy="69055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ston"/>
              </a:rPr>
              <a:t>Наблюдения за процессом прорастания фасол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C:\Users\Светлана\Desktop\Новая папка\P_20191122_133302.jpg"/>
          <p:cNvPicPr/>
          <p:nvPr/>
        </p:nvPicPr>
        <p:blipFill>
          <a:blip r:embed="rId2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C:\Users\Светлана\Desktop\Новая папка\P_20191122_133529.jpg"/>
          <p:cNvPicPr/>
          <p:nvPr/>
        </p:nvPicPr>
        <p:blipFill>
          <a:blip r:embed="rId3"/>
          <a:stretch/>
        </p:blipFill>
        <p:spPr>
          <a:xfrm>
            <a:off x="497052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:\Users\Светлана\Desktop\3d6dfb6cd76ce2cf361a8449f8137192.png"/>
          <p:cNvPicPr/>
          <p:nvPr/>
        </p:nvPicPr>
        <p:blipFill>
          <a:blip r:embed="rId1"/>
          <a:stretch/>
        </p:blipFill>
        <p:spPr>
          <a:xfrm>
            <a:off x="-23760" y="-23760"/>
            <a:ext cx="9191520" cy="690552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ston"/>
              </a:rPr>
              <a:t>Создание лэпбу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C:\Users\Светлана\Desktop\Новая папка\P_20191125_172317.jpg"/>
          <p:cNvPicPr/>
          <p:nvPr/>
        </p:nvPicPr>
        <p:blipFill>
          <a:blip r:embed="rId2"/>
          <a:stretch/>
        </p:blipFill>
        <p:spPr>
          <a:xfrm>
            <a:off x="1042920" y="1268280"/>
            <a:ext cx="2712960" cy="361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C:\Users\Светлана\Desktop\Новая папка\P_20191125_175703.jpg"/>
          <p:cNvPicPr/>
          <p:nvPr/>
        </p:nvPicPr>
        <p:blipFill>
          <a:blip r:embed="rId3"/>
          <a:stretch/>
        </p:blipFill>
        <p:spPr>
          <a:xfrm>
            <a:off x="4572000" y="15573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C:\Users\Светлана\Desktop\3d6dfb6cd76ce2cf361a8449f8137192.png"/>
          <p:cNvPicPr/>
          <p:nvPr/>
        </p:nvPicPr>
        <p:blipFill>
          <a:blip r:embed="rId1"/>
          <a:stretch/>
        </p:blipFill>
        <p:spPr>
          <a:xfrm>
            <a:off x="-23760" y="-23760"/>
            <a:ext cx="9191520" cy="6905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C:\Users\Светлана\Desktop\Новая папка\P_20191125_180847.jpg"/>
          <p:cNvPicPr/>
          <p:nvPr/>
        </p:nvPicPr>
        <p:blipFill>
          <a:blip r:embed="rId2"/>
          <a:stretch/>
        </p:blipFill>
        <p:spPr>
          <a:xfrm>
            <a:off x="250920" y="333360"/>
            <a:ext cx="3529080" cy="49752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436480" y="-36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ston"/>
              </a:rPr>
              <a:t>Лэпбук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C:\Users\Светлана\Desktop\Новая папка\P_20191125_180855.jpg"/>
          <p:cNvPicPr/>
          <p:nvPr/>
        </p:nvPicPr>
        <p:blipFill>
          <a:blip r:embed="rId3"/>
          <a:stretch/>
        </p:blipFill>
        <p:spPr>
          <a:xfrm>
            <a:off x="3924360" y="1341360"/>
            <a:ext cx="4932360" cy="34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:\Users\Светлана\Desktop\0003-002-.pn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ston"/>
              </a:rPr>
              <a:t>Спасибо за курс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3" descr="C:\Users\Светлана\Desktop\Новая папка\P_20191125_180909.jpg"/>
          <p:cNvPicPr/>
          <p:nvPr/>
        </p:nvPicPr>
        <p:blipFill>
          <a:blip r:embed="rId2"/>
          <a:stretch/>
        </p:blipFill>
        <p:spPr>
          <a:xfrm>
            <a:off x="-181080" y="1413000"/>
            <a:ext cx="72201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1-25T14:45:43Z</dcterms:created>
  <dc:creator>Светлана</dc:creator>
  <dc:description/>
  <dc:language>en-US</dc:language>
  <cp:lastModifiedBy>RePack by SPecialiST</cp:lastModifiedBy>
  <dcterms:modified xsi:type="dcterms:W3CDTF">2019-12-20T15:10:20Z</dcterms:modified>
  <cp:revision>6</cp:revision>
  <dc:subject/>
  <dc:title>Школа: МБОУ «Сеяхинская школа – интернат»  Класс: 3 «Б» класса  Учитель: Акименко С.В.</dc:title>
</cp:coreProperties>
</file>