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7799-4E0E-4C6E-8FF5-A82B4B37E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D404-C846-4915-A523-4E92ADC13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4C18-42D7-446A-A451-00AFC43C3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A497-8058-44EF-A641-04B1564ED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1714-CA69-4160-8F10-DFC0A6EAA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56F9-791E-4E1E-8C87-CD055ED84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E48D-8996-416E-9928-C1E3D5100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9557-5BC2-4FC6-A2B7-29C38488D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1AB1-2346-4D35-8E46-EF93D4BAB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72AA-6F67-4E06-888C-38009CE9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5B1F-A3F7-4555-9BFE-D2A255CD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7731-D51C-456D-8A95-A067D779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DAA5B-A962-49AD-B1B0-E1005D5E9B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24000" y="449280"/>
            <a:ext cx="8351640" cy="62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62864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C:\Users\пользователь\Desktop\1371714470_limon.jpg"/>
          <p:cNvPicPr/>
          <p:nvPr/>
        </p:nvPicPr>
        <p:blipFill>
          <a:blip r:embed="rId3"/>
          <a:stretch/>
        </p:blipFill>
        <p:spPr>
          <a:xfrm rot="4224600">
            <a:off x="724320" y="832320"/>
            <a:ext cx="3726000" cy="3054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C:\Users\пользователь\Desktop\Эйфелева-башня.jpg"/>
          <p:cNvPicPr/>
          <p:nvPr/>
        </p:nvPicPr>
        <p:blipFill>
          <a:blip r:embed="rId4"/>
          <a:stretch/>
        </p:blipFill>
        <p:spPr>
          <a:xfrm rot="1521000">
            <a:off x="5348160" y="127080"/>
            <a:ext cx="3075120" cy="4465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C:\Users\пользователь\Desktop\p5a.jpg"/>
          <p:cNvPicPr/>
          <p:nvPr/>
        </p:nvPicPr>
        <p:blipFill>
          <a:blip r:embed="rId5"/>
          <a:stretch/>
        </p:blipFill>
        <p:spPr>
          <a:xfrm>
            <a:off x="2340000" y="3921120"/>
            <a:ext cx="46861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C:\Users\пользователь\Desktop\img2.gif"/>
          <p:cNvPicPr/>
          <p:nvPr/>
        </p:nvPicPr>
        <p:blipFill>
          <a:blip r:embed="rId2"/>
          <a:stretch/>
        </p:blipFill>
        <p:spPr>
          <a:xfrm>
            <a:off x="-1044720" y="-819000"/>
            <a:ext cx="11304720" cy="83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1. США, Япония, Великобритания.   2. Мексика,  Бразилия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3. Польша, Венгрия, Болгария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539640" y="2205000"/>
          <a:ext cx="8280360" cy="2448000"/>
        </p:xfrm>
        <a:graphic>
          <a:graphicData uri="http://schemas.openxmlformats.org/drawingml/2006/table">
            <a:tbl>
              <a:tblPr/>
              <a:tblGrid>
                <a:gridCol w="2952720"/>
                <a:gridCol w="2762280"/>
                <a:gridCol w="2565360"/>
              </a:tblGrid>
              <a:tr h="2448000">
                <a:tc>
                  <a:txBody>
                    <a:bodyPr lIns="68400" rIns="68400" tIns="0" bIns="0" anchor="t">
                      <a:noAutofit/>
                    </a:bodyPr>
                    <a:p>
                      <a:pPr marL="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ший класс – 3-4%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ий класс – 85-9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зший класс – 1-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ший класс – 1-3% Средний класс – 20-30%    Низший класс – 65-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ший класс – 3-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ий класс – 1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зший класс – 8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1303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болтаюсь между Ленинградом и Москв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здесь чужой, я там чуж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оскве я ленинградец, в Ленинграде москвич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ла коса на камень, стекло на кирпич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начал жизнь в трущобах городских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обрых слов я не слыхал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ласкали вы детей своих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есть просил, я замерз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2451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ю милый, знаю, что с тобой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рял себя ты, потерял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покинул берег свой родной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к другому, так и не при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одня, как всегда у меня странная ро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лишен опоры, я не знаю паро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вроде бы здесь, а вроде и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никто месье, я бомж мад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7" name="обрезок.wmv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82058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оциальная моби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0040" y="1213920"/>
            <a:ext cx="4038480" cy="11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трелка вниз 7"/>
          <p:cNvSpPr/>
          <p:nvPr/>
        </p:nvSpPr>
        <p:spPr>
          <a:xfrm>
            <a:off x="3643200" y="1357200"/>
            <a:ext cx="428760" cy="100008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6600ff"/>
          </a:solidFill>
          <a:ln w="255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трелка вверх 8"/>
          <p:cNvSpPr/>
          <p:nvPr/>
        </p:nvSpPr>
        <p:spPr>
          <a:xfrm>
            <a:off x="4143240" y="1285920"/>
            <a:ext cx="428760" cy="1071360"/>
          </a:xfrm>
          <a:prstGeom prst="upArrow">
            <a:avLst>
              <a:gd name="adj1" fmla="val 50000"/>
              <a:gd name="adj2" fmla="val 49975"/>
            </a:avLst>
          </a:prstGeom>
          <a:solidFill>
            <a:srgbClr val="6600ff"/>
          </a:solidFill>
          <a:ln w="255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0"/>
          <p:cNvSpPr/>
          <p:nvPr/>
        </p:nvSpPr>
        <p:spPr>
          <a:xfrm>
            <a:off x="571680" y="2500200"/>
            <a:ext cx="4000320" cy="3713400"/>
          </a:xfrm>
          <a:prstGeom prst="rect">
            <a:avLst/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иды мобиль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Вертикальная мобильность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перемещение с одной ступени социальной лестницы на другу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Горизонтальная мобильность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переход человека в группу, находящуюся на том же уровне, что и прежня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1"/>
          <p:cNvSpPr/>
          <p:nvPr/>
        </p:nvSpPr>
        <p:spPr>
          <a:xfrm>
            <a:off x="4714920" y="2533680"/>
            <a:ext cx="3643200" cy="131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ход из одной фирмы в другую, из одной семьи в другую, из одного гражданства в друг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2"/>
          <p:cNvSpPr/>
          <p:nvPr/>
        </p:nvSpPr>
        <p:spPr>
          <a:xfrm>
            <a:off x="4714920" y="4000680"/>
            <a:ext cx="3643200" cy="22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ходящая вертикальная мобильн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карьера, образование, увеличение дох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сходящая вертикальная мобильн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разорение, понижение в долж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C:\Users\пользователь\Desktop\open-uri20150909-7816-4hoefi"/>
          <p:cNvPicPr/>
          <p:nvPr/>
        </p:nvPicPr>
        <p:blipFill>
          <a:blip r:embed="rId2"/>
          <a:stretch/>
        </p:blipFill>
        <p:spPr>
          <a:xfrm>
            <a:off x="539640" y="380880"/>
            <a:ext cx="813600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оциальные лифты (П. сорокин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0" y="1600200"/>
            <a:ext cx="478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ые структуры, институты, способы, механизмы, использующиеся индивидом  для перемещения из одного социального статуса в друг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Блок-схема: подготовка 6"/>
          <p:cNvSpPr/>
          <p:nvPr/>
        </p:nvSpPr>
        <p:spPr>
          <a:xfrm>
            <a:off x="4643280" y="1500120"/>
            <a:ext cx="3714840" cy="642960"/>
          </a:xfrm>
          <a:prstGeom prst="flowChartPreparation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Блок-схема: подготовка 7"/>
          <p:cNvSpPr/>
          <p:nvPr/>
        </p:nvSpPr>
        <p:spPr>
          <a:xfrm>
            <a:off x="4643280" y="2357280"/>
            <a:ext cx="3786480" cy="642960"/>
          </a:xfrm>
          <a:prstGeom prst="flowChartPreparation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Блок-схема: подготовка 8"/>
          <p:cNvSpPr/>
          <p:nvPr/>
        </p:nvSpPr>
        <p:spPr>
          <a:xfrm>
            <a:off x="4643280" y="3213000"/>
            <a:ext cx="3786480" cy="642960"/>
          </a:xfrm>
          <a:prstGeom prst="flowChartPreparation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рков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Блок-схема: подготовка 9"/>
          <p:cNvSpPr/>
          <p:nvPr/>
        </p:nvSpPr>
        <p:spPr>
          <a:xfrm>
            <a:off x="4643280" y="4076640"/>
            <a:ext cx="3714840" cy="642960"/>
          </a:xfrm>
          <a:prstGeom prst="flowChartPreparation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Блок-схема: подготовка 10"/>
          <p:cNvSpPr/>
          <p:nvPr/>
        </p:nvSpPr>
        <p:spPr>
          <a:xfrm>
            <a:off x="4643280" y="4929120"/>
            <a:ext cx="3786480" cy="642960"/>
          </a:xfrm>
          <a:prstGeom prst="flowChartPreparation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Блок-схема: подготовка 11"/>
          <p:cNvSpPr/>
          <p:nvPr/>
        </p:nvSpPr>
        <p:spPr>
          <a:xfrm>
            <a:off x="4714920" y="5715000"/>
            <a:ext cx="3786120" cy="642960"/>
          </a:xfrm>
          <a:prstGeom prst="flowChartPreparation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оциальные лиф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циальные структуры, институты, способы, механизмы, использующиеся индивидом  для перемещения из одного социального статуса в друг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Блок-схема: подготовка 6"/>
          <p:cNvSpPr/>
          <p:nvPr/>
        </p:nvSpPr>
        <p:spPr>
          <a:xfrm>
            <a:off x="4643280" y="1500120"/>
            <a:ext cx="3714840" cy="642960"/>
          </a:xfrm>
          <a:prstGeom prst="flowChartPreparation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Блок-схема: подготовка 7"/>
          <p:cNvSpPr/>
          <p:nvPr/>
        </p:nvSpPr>
        <p:spPr>
          <a:xfrm>
            <a:off x="4643280" y="2357280"/>
            <a:ext cx="3786480" cy="642960"/>
          </a:xfrm>
          <a:prstGeom prst="flowChartPreparation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Блок-схема: подготовка 8"/>
          <p:cNvSpPr/>
          <p:nvPr/>
        </p:nvSpPr>
        <p:spPr>
          <a:xfrm>
            <a:off x="4643280" y="3214800"/>
            <a:ext cx="3786480" cy="642960"/>
          </a:xfrm>
          <a:prstGeom prst="flowChartPreparation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фес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Блок-схема: подготовка 9"/>
          <p:cNvSpPr/>
          <p:nvPr/>
        </p:nvSpPr>
        <p:spPr>
          <a:xfrm>
            <a:off x="4643280" y="4071960"/>
            <a:ext cx="3714840" cy="642960"/>
          </a:xfrm>
          <a:prstGeom prst="flowChartPreparation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р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Блок-схема: подготовка 10"/>
          <p:cNvSpPr/>
          <p:nvPr/>
        </p:nvSpPr>
        <p:spPr>
          <a:xfrm>
            <a:off x="4643280" y="4929120"/>
            <a:ext cx="3786480" cy="642960"/>
          </a:xfrm>
          <a:prstGeom prst="flowChartPreparation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ств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Блок-схема: подготовка 11"/>
          <p:cNvSpPr/>
          <p:nvPr/>
        </p:nvSpPr>
        <p:spPr>
          <a:xfrm>
            <a:off x="4714920" y="5715000"/>
            <a:ext cx="3786120" cy="642960"/>
          </a:xfrm>
          <a:prstGeom prst="flowChartPreparation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рков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Сферы общественной жизни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826560" y="1413000"/>
            <a:ext cx="78598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1. Политическа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2. Экономическа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3. Духовна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4. ……………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LC Chalk"/>
              </a:rPr>
              <a:t>Социальная структура общества. Социальная мобильность</a:t>
            </a:r>
            <a:r>
              <a:rPr b="0" lang="ru-RU" sz="4400" spc="-1" strike="noStrike">
                <a:solidFill>
                  <a:srgbClr val="ffffff"/>
                </a:solidFill>
                <a:latin typeface="LC Chalk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LC Chalk"/>
            </a:endParaRPr>
          </a:p>
        </p:txBody>
      </p:sp>
      <p:sp>
        <p:nvSpPr>
          <p:cNvPr id="47" name="Скругленный прямоугольник 3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Определяйте значение  слов   и Вы избавите мир от половины его заблужден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не Дека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78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0" y="0"/>
          <a:ext cx="9394920" cy="6858000"/>
        </p:xfrm>
        <a:graphic>
          <a:graphicData uri="http://schemas.openxmlformats.org/drawingml/2006/table">
            <a:tbl>
              <a:tblPr/>
              <a:tblGrid>
                <a:gridCol w="2066760"/>
                <a:gridCol w="7328160"/>
              </a:tblGrid>
              <a:tr h="1527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от фр.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bile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подвижный) – это перемещения индивидов или групп в социальной структуре общества, сопровождаемое изменением своего положения или  социального статуса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594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от лат.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assik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группа, разряд) – большая  группа людей, которая различается по роли во всех сферах общественной жизни,  по способу присвоения результатов труда, которая формируется и функционирует на общности социальных интересов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1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ая моби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ые структуры, институты, способы, механизмы, использующиеся индивидом  для перемещения из одного социального статуса в друго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1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ый лиф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от лат.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atum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слой, настил) – группа людей, объединенная каким-либо общим социальным признаком: профессией, образованием, властью др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387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ифик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от лат.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atum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слой, настил и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cio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делаю)  - это иерархическое деление общества на социальные группы (страты), представители которых занимают разное положение, имеют разные условия и стили жизн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Дедуктивный метод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 – формирование понятия от общего к частном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6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тратификация  (От лат.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tratum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– слой, настил и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acio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- делаю)  - это иерархическое деление общества на социальные группы (страты), представители которых занимают разное положение, имеют разные условия и стили жизн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Установите соответств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ласс                           Страт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ровень дох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 включенность во вла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 образ жизни и вид профессиональной деятель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 способы получения дох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 рабочие и буржуаз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 общие общественные интере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Индуктивный метод -  формирование понятия идет от частного к общем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3:17:53Z</dcterms:created>
  <dc:creator>катя</dc:creator>
  <dc:description/>
  <dc:language>en-US</dc:language>
  <cp:lastModifiedBy>История</cp:lastModifiedBy>
  <dcterms:modified xsi:type="dcterms:W3CDTF">2019-12-15T23:34:55Z</dcterms:modified>
  <cp:revision>31</cp:revision>
  <dc:subject/>
  <dc:title>Социальная структура общест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61419990</vt:lpwstr>
  </property>
</Properties>
</file>