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AB7-7525-4CAD-A7FD-EB33C580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BBEC-0925-48A0-908F-93A3F318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7FAA-A243-4525-B3B6-8DA8DF47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194D-35D3-47E1-94AC-0C4D61B9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DECC-A797-4F68-A30E-5431D502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4FF0-EBD0-46DD-85A5-EB06DF02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3F5-899A-4EB0-9C2B-3E41C663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CC81-5B40-422E-A0F0-1928FA56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CE2-86B8-480D-9312-12195EB6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BF2A-224A-4E4E-AE90-9AE50B71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F5E-26E1-41A2-A9D3-558BADE9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DC8-AB0B-4F3E-AB3E-7B7BC700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CFD5-F625-4353-925A-75A6315837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yandex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у выполни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ник 7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исимов  Владими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упнейшие озера:Верхнее(82103 км2), Гурон(59700 км2), Мичиган(57757 км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0_98ee8_b20cd901_orig.jpg"/>
          <p:cNvPicPr/>
          <p:nvPr/>
        </p:nvPicPr>
        <p:blipFill>
          <a:blip r:embed="rId1"/>
          <a:stretch/>
        </p:blipFill>
        <p:spPr>
          <a:xfrm>
            <a:off x="0" y="1341360"/>
            <a:ext cx="4140360" cy="2303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988-Lake_Huron (11).jpg"/>
          <p:cNvPicPr/>
          <p:nvPr/>
        </p:nvPicPr>
        <p:blipFill>
          <a:blip r:embed="rId2"/>
          <a:stretch/>
        </p:blipFill>
        <p:spPr>
          <a:xfrm>
            <a:off x="4859280" y="1341360"/>
            <a:ext cx="4284720" cy="23036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3.jpg"/>
          <p:cNvPicPr/>
          <p:nvPr/>
        </p:nvPicPr>
        <p:blipFill>
          <a:blip r:embed="rId3"/>
          <a:stretch/>
        </p:blipFill>
        <p:spPr>
          <a:xfrm>
            <a:off x="1619280" y="4005360"/>
            <a:ext cx="54720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селение США, основные занят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ервые люди (индейские племена) заселили территорию США около 10 тыс. лет назад. Современное население США— потомки относительно недавних (XVII—XX веков) переселенцев из Европы и Африки. Доминирующей во всех отношениях и регионах (кроме штата Гавайи) в настоящее время является европеоидная раса — выходцы из Соединённого Королевства, Германии, Ирландии и других европейских стран. Далее выделяются афроамериканцы, латиноамериканцы, азиаты, индейцы и прочие, на которых приходится свыше трети населения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сновные занятия: промышленная и сельскохозяйственная деятельност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4" descr="население сша.jpg"/>
          <p:cNvPicPr/>
          <p:nvPr/>
        </p:nvPicPr>
        <p:blipFill>
          <a:blip r:embed="rId1"/>
          <a:stretch/>
        </p:blipFill>
        <p:spPr>
          <a:xfrm>
            <a:off x="0" y="1601640"/>
            <a:ext cx="9144000" cy="5256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селение СШ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Использованная литератур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Учебник по географии 7 класс В.А.Коринская, И.В.Душина, В.А.Щене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yandex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ША разделены на 3 части: основная(расположена в центре Северной Америки), штат Аляска(на северо-западе материка), штат Гавайи(на юго-западе материка в Тихом океане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14036708-Political-map-of-North-America-Stock-Photo.jpg"/>
          <p:cNvPicPr/>
          <p:nvPr/>
        </p:nvPicPr>
        <p:blipFill>
          <a:blip r:embed="rId1"/>
          <a:stretch/>
        </p:blipFill>
        <p:spPr>
          <a:xfrm>
            <a:off x="1979640" y="1413000"/>
            <a:ext cx="4824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лица США-Вашингт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Vashington-2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ые формы рельефа-низменности, расположенные на востоке страны, равнины, расположенные в центре страны, и горы, расположенные на западе стран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physical-map-of-the-united-states-with-rivers-and-mountain-215.jpg"/>
          <p:cNvPicPr/>
          <p:nvPr/>
        </p:nvPicPr>
        <p:blipFill>
          <a:blip r:embed="rId1"/>
          <a:stretch/>
        </p:blipFill>
        <p:spPr>
          <a:xfrm>
            <a:off x="1027080" y="1600200"/>
            <a:ext cx="7089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ША богаты каменным углем, нефтью, природным газом, железными рудами и рудами цветных метал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120489_dobycha-uglya-v-ssha-karta.jpg"/>
          <p:cNvPicPr/>
          <p:nvPr/>
        </p:nvPicPr>
        <p:blipFill>
          <a:blip r:embed="rId1"/>
          <a:stretch/>
        </p:blipFill>
        <p:spPr>
          <a:xfrm>
            <a:off x="936720" y="1600200"/>
            <a:ext cx="7270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ША расположены в субарктическом(штат Аляска), умеренном, субтропическом и тропическом пояс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image108.jpg"/>
          <p:cNvPicPr/>
          <p:nvPr/>
        </p:nvPicPr>
        <p:blipFill>
          <a:blip r:embed="rId1"/>
          <a:stretch/>
        </p:blipFill>
        <p:spPr>
          <a:xfrm>
            <a:off x="1476360" y="1268280"/>
            <a:ext cx="6264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центре и на севере страны-континентальный климат, южнее он сменяется з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шливым континентальным климатом. На востоке страны климат муссоный, а на её западе-средиземноморск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5" descr="image337.jpg"/>
          <p:cNvPicPr/>
          <p:nvPr/>
        </p:nvPicPr>
        <p:blipFill>
          <a:blip r:embed="rId1"/>
          <a:stretch/>
        </p:blipFill>
        <p:spPr>
          <a:xfrm>
            <a:off x="2268360" y="1600200"/>
            <a:ext cx="482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адки распределяются неравномерно.  Наибольшее кол-во осадков выпадет на востоке и северо-западе страны(от 1000 до 2000 мм в год). В центральной части страны выпадает от 250 до1000 мм в го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image111.jpg"/>
          <p:cNvPicPr/>
          <p:nvPr/>
        </p:nvPicPr>
        <p:blipFill>
          <a:blip r:embed="rId1"/>
          <a:stretch/>
        </p:blipFill>
        <p:spPr>
          <a:xfrm>
            <a:off x="2268360" y="1600200"/>
            <a:ext cx="4751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упнейшие реки страны:Миссисипи(6420 км), Маккензи(4241 км), Юкон(3185 к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f774d43193508f4cea5441dc9eb4df00_RSZ_690.jpeg"/>
          <p:cNvPicPr/>
          <p:nvPr/>
        </p:nvPicPr>
        <p:blipFill>
          <a:blip r:embed="rId1"/>
          <a:stretch/>
        </p:blipFill>
        <p:spPr>
          <a:xfrm>
            <a:off x="0" y="1341360"/>
            <a:ext cx="3995640" cy="25480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7845.jpeg"/>
          <p:cNvPicPr/>
          <p:nvPr/>
        </p:nvPicPr>
        <p:blipFill>
          <a:blip r:embed="rId2"/>
          <a:stretch/>
        </p:blipFill>
        <p:spPr>
          <a:xfrm>
            <a:off x="2124000" y="4184640"/>
            <a:ext cx="4824360" cy="2673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KdLsPDPaxN4.jpg"/>
          <p:cNvPicPr/>
          <p:nvPr/>
        </p:nvPicPr>
        <p:blipFill>
          <a:blip r:embed="rId3"/>
          <a:stretch/>
        </p:blipFill>
        <p:spPr>
          <a:xfrm>
            <a:off x="5003640" y="1268280"/>
            <a:ext cx="414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6T16:53:29Z</dcterms:created>
  <dc:creator>VIP</dc:creator>
  <dc:description/>
  <dc:language>en-US</dc:language>
  <cp:lastModifiedBy>НИКОЛАЙ</cp:lastModifiedBy>
  <dcterms:modified xsi:type="dcterms:W3CDTF">2019-12-20T18:23:54Z</dcterms:modified>
  <cp:revision>12</cp:revision>
  <dc:subject/>
  <dc:title>США</dc:title>
</cp:coreProperties>
</file>