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7.gif" ContentType="image/gif"/>
  <Override PartName="/ppt/media/image7.png" ContentType="image/png"/>
  <Override PartName="/ppt/media/image20.jpeg" ContentType="image/jpeg"/>
  <Override PartName="/ppt/media/image25.gif" ContentType="image/gif"/>
  <Override PartName="/ppt/media/image8.jpeg" ContentType="image/jpeg"/>
  <Override PartName="/ppt/media/image5.gif" ContentType="image/gif"/>
  <Override PartName="/ppt/media/image30.gif" ContentType="image/gif"/>
  <Override PartName="/ppt/media/image28.gif" ContentType="image/gif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1.gif" ContentType="image/gif"/>
  <Override PartName="/ppt/media/image13.png" ContentType="image/png"/>
  <Override PartName="/ppt/media/image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6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8F93-A6DC-4E4E-AC8E-42F64EC3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3C1-7BFC-43DF-9A64-EC8584F5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702-2D90-4F4E-9D35-261BEA65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AF4-031B-45EC-9E89-9C8FFEDB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BB9-E7C5-48B4-B14E-C7AF5543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589-89FB-44C9-A4AB-ABAE9F21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FDC4-670A-4E81-AF18-1E398E27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4FE-4350-48BE-936E-F0796063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36C-CD79-4A8E-B896-3B7CD63D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EA1-3070-4519-A5A8-894F2CB5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49AC-400B-4687-A233-3F1EB97E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A30-DDA1-4AF0-A8C7-EC164A24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6E09-F35B-4E04-9873-59A0569D0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4.xml"/><Relationship Id="rId3" Type="http://schemas.openxmlformats.org/officeDocument/2006/relationships/slide" Target="slide24.xml"/><Relationship Id="rId4" Type="http://schemas.openxmlformats.org/officeDocument/2006/relationships/slide" Target="slide29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28840" y="4929120"/>
            <a:ext cx="7408800" cy="5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 П\О Художникова Т.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10">
            <a:hlinkClick r:id="" action="ppaction://hlinkshowjump?jump=lastslide"/>
          </p:cNvPr>
          <p:cNvSpPr/>
          <p:nvPr/>
        </p:nvSpPr>
        <p:spPr>
          <a:xfrm>
            <a:off x="7667640" y="6308640"/>
            <a:ext cx="1225440" cy="360360"/>
          </a:xfrm>
          <a:custGeom>
            <a:avLst/>
            <a:gdLst>
              <a:gd name="textAreaLeft" fmla="*/ 23040 w 1225440"/>
              <a:gd name="textAreaRight" fmla="*/ 1202400 w 1225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3401" h="21600">
                <a:moveTo>
                  <a:pt x="0" y="0"/>
                </a:moveTo>
                <a:lnTo>
                  <a:pt x="73401" y="0"/>
                </a:lnTo>
                <a:lnTo>
                  <a:pt x="73401" y="21600"/>
                </a:lnTo>
                <a:lnTo>
                  <a:pt x="0" y="21600"/>
                </a:lnTo>
                <a:close/>
              </a:path>
              <a:path fill="lightenLess" w="73401" h="21600">
                <a:moveTo>
                  <a:pt x="0" y="0"/>
                </a:moveTo>
                <a:lnTo>
                  <a:pt x="73401" y="0"/>
                </a:lnTo>
                <a:lnTo>
                  <a:pt x="72001" y="1400"/>
                </a:lnTo>
                <a:lnTo>
                  <a:pt x="1400" y="1400"/>
                </a:lnTo>
                <a:close/>
              </a:path>
              <a:path fill="darken" w="73401" h="21600">
                <a:moveTo>
                  <a:pt x="73401" y="0"/>
                </a:moveTo>
                <a:lnTo>
                  <a:pt x="73401" y="21600"/>
                </a:lnTo>
                <a:lnTo>
                  <a:pt x="72001" y="20200"/>
                </a:lnTo>
                <a:lnTo>
                  <a:pt x="72001" y="1400"/>
                </a:lnTo>
                <a:close/>
              </a:path>
              <a:path fill="darkenLess" w="73401" h="21600">
                <a:moveTo>
                  <a:pt x="73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01" y="20200"/>
                </a:lnTo>
                <a:close/>
              </a:path>
              <a:path fill="lighten" w="73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01" h="21600">
                <a:moveTo>
                  <a:pt x="29694" y="3794"/>
                </a:moveTo>
                <a:lnTo>
                  <a:pt x="43707" y="10800"/>
                </a:lnTo>
                <a:lnTo>
                  <a:pt x="296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2124000" y="54936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Б ГБ ПОУ «Техникум «Приморск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642960" y="1428840"/>
            <a:ext cx="831672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М.01 Ввод и обработка цифров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.01 Учебная пра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дел 2. Осуществление ввода и обработки цифров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а 2.2. Технологии создания мультимедийных презент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c400"/>
                </a:solidFill>
                <a:latin typeface="Comic Sans MS"/>
              </a:rPr>
              <a:t>Порядок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пустите презентацию клавишей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5 или командой меню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каз слайдов – начать показ.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Управляйте презентацией щелчком мы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Безимени_1"/>
          <p:cNvPicPr/>
          <p:nvPr/>
        </p:nvPicPr>
        <p:blipFill>
          <a:blip r:embed="rId1"/>
          <a:srcRect l="0" t="0" r="51" b="-138"/>
          <a:stretch/>
        </p:blipFill>
        <p:spPr>
          <a:xfrm>
            <a:off x="4572000" y="1989000"/>
            <a:ext cx="4321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c400"/>
                </a:solidFill>
                <a:latin typeface="Comic Sans MS"/>
              </a:rPr>
              <a:t>Порядок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обавьте в презентацию еще один слайд командой меню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ставка – Создать слайд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или кнопкой на панели инстру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ведите вместо надписи «Заголовок слайда» текст «Адрес и телефон», а вместо надписи «Текст слайда» - информацию об адресе и телефоне Вашей шк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пустите и посмотрите презента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c400"/>
                </a:solidFill>
                <a:latin typeface="Comic Sans MS"/>
              </a:rPr>
              <a:t>Порядок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обавьте в презентацию еще несколько слайд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ж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имые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Рисунок11"/>
          <p:cNvPicPr/>
          <p:nvPr/>
        </p:nvPicPr>
        <p:blipFill>
          <a:blip r:embed="rId1"/>
          <a:stretch/>
        </p:blipFill>
        <p:spPr>
          <a:xfrm>
            <a:off x="2411280" y="4365720"/>
            <a:ext cx="1359000" cy="191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Рисунок3"/>
          <p:cNvPicPr/>
          <p:nvPr/>
        </p:nvPicPr>
        <p:blipFill>
          <a:blip r:embed="rId2"/>
          <a:stretch/>
        </p:blipFill>
        <p:spPr>
          <a:xfrm>
            <a:off x="5867280" y="2205000"/>
            <a:ext cx="20401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3680" y="54900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c400"/>
                </a:solidFill>
                <a:latin typeface="Comic Sans MS"/>
              </a:rPr>
              <a:t>Вопросы для повто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каких случаях человеку приходится использовать компьютерные презентац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ие программы служат для создания презентац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 называется одна страница презентации? Что может быть на ней размеще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7812000" y="6237360"/>
            <a:ext cx="936720" cy="3585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6394" h="21600">
                <a:moveTo>
                  <a:pt x="0" y="0"/>
                </a:moveTo>
                <a:lnTo>
                  <a:pt x="56394" y="0"/>
                </a:lnTo>
                <a:lnTo>
                  <a:pt x="56394" y="21600"/>
                </a:lnTo>
                <a:lnTo>
                  <a:pt x="0" y="21600"/>
                </a:lnTo>
                <a:close/>
              </a:path>
              <a:path fill="lightenLess" w="56394" h="21600">
                <a:moveTo>
                  <a:pt x="0" y="0"/>
                </a:moveTo>
                <a:lnTo>
                  <a:pt x="56394" y="0"/>
                </a:lnTo>
                <a:lnTo>
                  <a:pt x="54994" y="1400"/>
                </a:lnTo>
                <a:lnTo>
                  <a:pt x="1400" y="1400"/>
                </a:lnTo>
                <a:close/>
              </a:path>
              <a:path fill="darken" w="56394" h="21600">
                <a:moveTo>
                  <a:pt x="56394" y="0"/>
                </a:moveTo>
                <a:lnTo>
                  <a:pt x="56394" y="21600"/>
                </a:lnTo>
                <a:lnTo>
                  <a:pt x="54994" y="20200"/>
                </a:lnTo>
                <a:lnTo>
                  <a:pt x="54994" y="1400"/>
                </a:lnTo>
                <a:close/>
              </a:path>
              <a:path fill="darkenLess" w="56394" h="21600">
                <a:moveTo>
                  <a:pt x="5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994" y="20200"/>
                </a:lnTo>
                <a:close/>
              </a:path>
              <a:path fill="lighten" w="5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394" h="21600">
                <a:moveTo>
                  <a:pt x="24698" y="10800"/>
                </a:moveTo>
                <a:lnTo>
                  <a:pt x="35203" y="3794"/>
                </a:lnTo>
                <a:lnTo>
                  <a:pt x="35203" y="17806"/>
                </a:lnTo>
                <a:close/>
              </a:path>
              <a:path fill="darken" w="56394" h="21600">
                <a:moveTo>
                  <a:pt x="21191" y="3794"/>
                </a:moveTo>
                <a:lnTo>
                  <a:pt x="22853" y="3794"/>
                </a:lnTo>
                <a:lnTo>
                  <a:pt x="22853" y="17806"/>
                </a:lnTo>
                <a:lnTo>
                  <a:pt x="21191" y="17806"/>
                </a:lnTo>
                <a:close/>
              </a:path>
            </a:pathLst>
          </a:custGeom>
          <a:solidFill>
            <a:srgbClr val="f2c4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Рисунок17"/>
          <p:cNvPicPr/>
          <p:nvPr/>
        </p:nvPicPr>
        <p:blipFill>
          <a:blip r:embed="rId1"/>
          <a:stretch/>
        </p:blipFill>
        <p:spPr>
          <a:xfrm>
            <a:off x="0" y="404640"/>
            <a:ext cx="17636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c400"/>
                </a:solidFill>
                <a:latin typeface="Comic Sans MS"/>
              </a:rPr>
              <a:t>Этапы разработки презен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бор содерж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ыбор дизай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дбор макетов каждого слайда в зависимости от предполагаемого размещения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полнение слай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смотр готовой презентации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Рисунок16"/>
          <p:cNvPicPr/>
          <p:nvPr/>
        </p:nvPicPr>
        <p:blipFill>
          <a:blip r:embed="rId6"/>
          <a:stretch/>
        </p:blipFill>
        <p:spPr>
          <a:xfrm>
            <a:off x="6443640" y="3573360"/>
            <a:ext cx="24703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c400"/>
                </a:solidFill>
                <a:latin typeface="Comic Sans MS"/>
              </a:rPr>
              <a:t>Выбор дизайна презентаци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блоны оформ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c400"/>
                </a:solidFill>
                <a:latin typeface="Comic Sans MS"/>
              </a:rPr>
              <a:t>Шаблон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едлагает свой вариант фона слайдов, а также тип и цвет используемых шриф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Безимени_2"/>
          <p:cNvPicPr/>
          <p:nvPr/>
        </p:nvPicPr>
        <p:blipFill>
          <a:blip r:embed="rId2"/>
          <a:srcRect l="0" t="0" r="141" b="-171"/>
          <a:stretch/>
        </p:blipFill>
        <p:spPr>
          <a:xfrm>
            <a:off x="4356000" y="1989000"/>
            <a:ext cx="2160720" cy="158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Безимени_3"/>
          <p:cNvPicPr/>
          <p:nvPr/>
        </p:nvPicPr>
        <p:blipFill>
          <a:blip r:embed="rId3"/>
          <a:srcRect l="0" t="0" r="-63" b="-109"/>
          <a:stretch/>
        </p:blipFill>
        <p:spPr>
          <a:xfrm>
            <a:off x="6659640" y="1989000"/>
            <a:ext cx="2160360" cy="1563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Безимени_4"/>
          <p:cNvPicPr/>
          <p:nvPr/>
        </p:nvPicPr>
        <p:blipFill>
          <a:blip r:embed="rId4"/>
          <a:srcRect l="0" t="0" r="57" b="-58"/>
          <a:stretch/>
        </p:blipFill>
        <p:spPr>
          <a:xfrm>
            <a:off x="3924360" y="3933720"/>
            <a:ext cx="2374920" cy="1765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Безимени_5"/>
          <p:cNvPicPr/>
          <p:nvPr/>
        </p:nvPicPr>
        <p:blipFill>
          <a:blip r:embed="rId5"/>
          <a:srcRect l="0" t="0" r="57" b="-58"/>
          <a:stretch/>
        </p:blipFill>
        <p:spPr>
          <a:xfrm>
            <a:off x="6516720" y="3933720"/>
            <a:ext cx="237636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c400"/>
                </a:solidFill>
                <a:latin typeface="Comic Sans MS"/>
              </a:rPr>
              <a:t>Выбор дизайна презентаци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ветовые 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c400"/>
                </a:solidFill>
                <a:latin typeface="Comic Sans MS"/>
              </a:rPr>
              <a:t>Цветовые схем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зволяют выбрать наиболее подходящее соотношение между цветами фона, заголовка слайда и помещенного на слайд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Безимени_4"/>
          <p:cNvPicPr/>
          <p:nvPr/>
        </p:nvPicPr>
        <p:blipFill>
          <a:blip r:embed="rId2"/>
          <a:srcRect l="0" t="0" r="-139" b="211"/>
          <a:stretch/>
        </p:blipFill>
        <p:spPr>
          <a:xfrm>
            <a:off x="4427640" y="1484280"/>
            <a:ext cx="2079360" cy="2214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Безимени_1"/>
          <p:cNvPicPr/>
          <p:nvPr/>
        </p:nvPicPr>
        <p:blipFill>
          <a:blip r:embed="rId3"/>
          <a:srcRect l="0" t="0" r="-96" b="62"/>
          <a:stretch/>
        </p:blipFill>
        <p:spPr>
          <a:xfrm>
            <a:off x="6659640" y="3860640"/>
            <a:ext cx="2109600" cy="216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Безимени_2"/>
          <p:cNvPicPr/>
          <p:nvPr/>
        </p:nvPicPr>
        <p:blipFill>
          <a:blip r:embed="rId4"/>
          <a:srcRect l="0" t="0" r="0" b="-49"/>
          <a:stretch/>
        </p:blipFill>
        <p:spPr>
          <a:xfrm>
            <a:off x="4500720" y="3933720"/>
            <a:ext cx="1971360" cy="2087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Безимени_3"/>
          <p:cNvPicPr/>
          <p:nvPr/>
        </p:nvPicPr>
        <p:blipFill>
          <a:blip r:embed="rId5"/>
          <a:srcRect l="0" t="0" r="0" b="-178"/>
          <a:stretch/>
        </p:blipFill>
        <p:spPr>
          <a:xfrm>
            <a:off x="6804000" y="1484280"/>
            <a:ext cx="2023920" cy="208764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8"/>
          <p:cNvSpPr/>
          <p:nvPr/>
        </p:nvSpPr>
        <p:spPr>
          <a:xfrm>
            <a:off x="755640" y="6165720"/>
            <a:ext cx="1440000" cy="503280"/>
          </a:xfrm>
          <a:custGeom>
            <a:avLst/>
            <a:gdLst>
              <a:gd name="textAreaLeft" fmla="*/ 32400 w 1440000"/>
              <a:gd name="textAreaRight" fmla="*/ 1407600 w 1440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1774" h="21600">
                <a:moveTo>
                  <a:pt x="0" y="0"/>
                </a:moveTo>
                <a:lnTo>
                  <a:pt x="61774" y="0"/>
                </a:lnTo>
                <a:lnTo>
                  <a:pt x="61774" y="21600"/>
                </a:lnTo>
                <a:lnTo>
                  <a:pt x="0" y="21600"/>
                </a:lnTo>
                <a:close/>
              </a:path>
              <a:path fill="lightenLess" w="61774" h="21600">
                <a:moveTo>
                  <a:pt x="0" y="0"/>
                </a:moveTo>
                <a:lnTo>
                  <a:pt x="61774" y="0"/>
                </a:lnTo>
                <a:lnTo>
                  <a:pt x="60374" y="1400"/>
                </a:lnTo>
                <a:lnTo>
                  <a:pt x="1400" y="1400"/>
                </a:lnTo>
                <a:close/>
              </a:path>
              <a:path fill="darken" w="61774" h="21600">
                <a:moveTo>
                  <a:pt x="61774" y="0"/>
                </a:moveTo>
                <a:lnTo>
                  <a:pt x="61774" y="21600"/>
                </a:lnTo>
                <a:lnTo>
                  <a:pt x="60374" y="20200"/>
                </a:lnTo>
                <a:lnTo>
                  <a:pt x="60374" y="1400"/>
                </a:lnTo>
                <a:close/>
              </a:path>
              <a:path fill="darkenLess" w="61774" h="21600">
                <a:moveTo>
                  <a:pt x="61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74" y="20200"/>
                </a:lnTo>
                <a:close/>
              </a:path>
              <a:path fill="lighten" w="61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774" h="21600">
                <a:moveTo>
                  <a:pt x="27388" y="10800"/>
                </a:moveTo>
                <a:lnTo>
                  <a:pt x="37893" y="3794"/>
                </a:lnTo>
                <a:lnTo>
                  <a:pt x="37893" y="17806"/>
                </a:lnTo>
                <a:close/>
              </a:path>
              <a:path fill="darken" w="61774" h="21600">
                <a:moveTo>
                  <a:pt x="23880" y="3794"/>
                </a:moveTo>
                <a:lnTo>
                  <a:pt x="25543" y="3794"/>
                </a:lnTo>
                <a:lnTo>
                  <a:pt x="25543" y="17806"/>
                </a:lnTo>
                <a:lnTo>
                  <a:pt x="23880" y="17806"/>
                </a:lnTo>
                <a:close/>
              </a:path>
            </a:pathLst>
          </a:custGeom>
          <a:solidFill>
            <a:srgbClr val="f2c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c400"/>
                </a:solidFill>
                <a:latin typeface="Comic Sans MS"/>
              </a:rPr>
              <a:t>Выбор макетов слай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Макеты слайда определяет, как будут размещаться на слайде различные объек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оло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ровые изоб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торные рису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х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Рисунок19"/>
          <p:cNvPicPr/>
          <p:nvPr/>
        </p:nvPicPr>
        <p:blipFill>
          <a:blip r:embed="rId1"/>
          <a:stretch/>
        </p:blipFill>
        <p:spPr>
          <a:xfrm>
            <a:off x="5746680" y="3429000"/>
            <a:ext cx="339732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c400"/>
                </a:solidFill>
                <a:latin typeface="Comic Sans MS"/>
              </a:rPr>
              <a:t>Варианты слай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Безимени_10"/>
          <p:cNvPicPr/>
          <p:nvPr/>
        </p:nvPicPr>
        <p:blipFill>
          <a:blip r:embed="rId1"/>
          <a:srcRect l="0" t="0" r="8" b="-10"/>
          <a:stretch/>
        </p:blipFill>
        <p:spPr>
          <a:xfrm>
            <a:off x="1547640" y="1484280"/>
            <a:ext cx="6193080" cy="50292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0"/>
          <p:cNvSpPr/>
          <p:nvPr/>
        </p:nvSpPr>
        <p:spPr>
          <a:xfrm rot="10800000">
            <a:off x="25056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26689" y="10800"/>
                </a:moveTo>
                <a:lnTo>
                  <a:pt x="16184" y="17806"/>
                </a:lnTo>
                <a:lnTo>
                  <a:pt x="16184" y="3794"/>
                </a:lnTo>
                <a:close/>
              </a:path>
              <a:path fill="darken" w="46381" h="21600">
                <a:moveTo>
                  <a:pt x="28534" y="3794"/>
                </a:moveTo>
                <a:lnTo>
                  <a:pt x="28534" y="17806"/>
                </a:lnTo>
                <a:lnTo>
                  <a:pt x="30197" y="17806"/>
                </a:lnTo>
                <a:lnTo>
                  <a:pt x="30197" y="3794"/>
                </a:lnTo>
                <a:close/>
              </a:path>
            </a:pathLst>
          </a:custGeom>
          <a:solidFill>
            <a:srgbClr val="f2c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c400"/>
                </a:solidFill>
                <a:latin typeface="Comic Sans MS"/>
              </a:rPr>
              <a:t>Заполнение слай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екты мож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мещать по слай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ять раз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ять группировку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ять расположение объектов по глубине слай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Безимени_1"/>
          <p:cNvPicPr/>
          <p:nvPr/>
        </p:nvPicPr>
        <p:blipFill>
          <a:blip r:embed="rId1"/>
          <a:srcRect l="0" t="0" r="60" b="-61"/>
          <a:stretch/>
        </p:blipFill>
        <p:spPr>
          <a:xfrm>
            <a:off x="3851280" y="1916280"/>
            <a:ext cx="507672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c400"/>
                </a:solidFill>
                <a:latin typeface="Comic Sans MS"/>
              </a:rPr>
              <a:t>Компьютерные през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>
            <a:hlinkClick r:id="rId1" action="ppaction://hlinksldjump"/>
          </p:cNvPr>
          <p:cNvSpPr/>
          <p:nvPr/>
        </p:nvSpPr>
        <p:spPr>
          <a:xfrm>
            <a:off x="684360" y="1557360"/>
            <a:ext cx="7848360" cy="576360"/>
          </a:xfrm>
          <a:prstGeom prst="roundRect">
            <a:avLst>
              <a:gd name="adj" fmla="val 16667"/>
            </a:avLst>
          </a:prstGeom>
          <a:solidFill>
            <a:srgbClr val="ffe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Мультимедийные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>
            <a:hlinkClick r:id="rId2" action="ppaction://hlinksldjump"/>
          </p:cNvPr>
          <p:cNvSpPr/>
          <p:nvPr/>
        </p:nvSpPr>
        <p:spPr>
          <a:xfrm>
            <a:off x="684360" y="2492280"/>
            <a:ext cx="7848360" cy="576360"/>
          </a:xfrm>
          <a:prstGeom prst="roundRect">
            <a:avLst>
              <a:gd name="adj" fmla="val 16667"/>
            </a:avLst>
          </a:prstGeom>
          <a:solidFill>
            <a:srgbClr val="ffe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Дизайн презентации и макеты слай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>
            <a:hlinkClick r:id="rId3" action="ppaction://hlinksldjump"/>
          </p:cNvPr>
          <p:cNvSpPr/>
          <p:nvPr/>
        </p:nvSpPr>
        <p:spPr>
          <a:xfrm>
            <a:off x="684360" y="3357720"/>
            <a:ext cx="7848360" cy="576000"/>
          </a:xfrm>
          <a:prstGeom prst="roundRect">
            <a:avLst>
              <a:gd name="adj" fmla="val 16667"/>
            </a:avLst>
          </a:prstGeom>
          <a:solidFill>
            <a:srgbClr val="ffe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Использование анимации и зв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>
            <a:hlinkClick r:id="rId4" action="ppaction://hlinksldjump"/>
          </p:cNvPr>
          <p:cNvSpPr/>
          <p:nvPr/>
        </p:nvSpPr>
        <p:spPr>
          <a:xfrm>
            <a:off x="468360" y="4149720"/>
            <a:ext cx="8351640" cy="647640"/>
          </a:xfrm>
          <a:prstGeom prst="roundRect">
            <a:avLst>
              <a:gd name="adj" fmla="val 16667"/>
            </a:avLst>
          </a:prstGeom>
          <a:solidFill>
            <a:srgbClr val="ffe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Мультимедийные интерактивные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>
            <a:hlinkClick r:id="rId5" action="ppaction://hlinksldjump"/>
          </p:cNvPr>
          <p:cNvSpPr/>
          <p:nvPr/>
        </p:nvSpPr>
        <p:spPr>
          <a:xfrm>
            <a:off x="611280" y="5013360"/>
            <a:ext cx="7848360" cy="576360"/>
          </a:xfrm>
          <a:prstGeom prst="roundRect">
            <a:avLst>
              <a:gd name="adj" fmla="val 16667"/>
            </a:avLst>
          </a:prstGeom>
          <a:solidFill>
            <a:srgbClr val="ffe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Демонстрация 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7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2c400"/>
                </a:solidFill>
                <a:latin typeface="Comic Sans MS"/>
              </a:rPr>
              <a:t>Практическая часть</a:t>
            </a:r>
            <a:br>
              <a:rPr sz="3600"/>
            </a:br>
            <a:r>
              <a:rPr b="0" lang="ru-RU" sz="3600" spc="-1" strike="noStrike">
                <a:solidFill>
                  <a:srgbClr val="f2c4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«Создание презентации на основе шаблонов и макето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Рисунок14"/>
          <p:cNvPicPr/>
          <p:nvPr/>
        </p:nvPicPr>
        <p:blipFill>
          <a:blip r:embed="rId1"/>
          <a:stretch/>
        </p:blipFill>
        <p:spPr>
          <a:xfrm>
            <a:off x="4932360" y="2997360"/>
            <a:ext cx="3492360" cy="2611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Рисунок5"/>
          <p:cNvPicPr/>
          <p:nvPr/>
        </p:nvPicPr>
        <p:blipFill>
          <a:blip r:embed="rId2"/>
          <a:stretch/>
        </p:blipFill>
        <p:spPr>
          <a:xfrm>
            <a:off x="0" y="189000"/>
            <a:ext cx="1187280" cy="1093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592200" y="251316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39640" y="3213000"/>
            <a:ext cx="39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да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здайте презентацию по тексту параграфа 2.5.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c400"/>
                </a:solidFill>
                <a:latin typeface="Comic Sans MS"/>
              </a:rPr>
              <a:t>Порядок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пустить программу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icrosoft PowerPoint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ерез командное мен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уск – Программы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icrosoft office – Microsoft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ведите вместо надписи «Заголовок слайда» название темы, вместо надписи «Подзаголовок слайда» - свою фамилию и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ыполните команду меню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мат – Оформление слайда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и выберите понравившийся шаблон оформ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c400"/>
                </a:solidFill>
                <a:latin typeface="Comic Sans MS"/>
              </a:rPr>
              <a:t>Порядок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обавьте еще один слайд в презента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ыполните команду меню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мат -  Разметка слайда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и выберите подходящий макет. В зависимости от выбранного макета заполните слайд информа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кончите создание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Рисунок11"/>
          <p:cNvPicPr/>
          <p:nvPr/>
        </p:nvPicPr>
        <p:blipFill>
          <a:blip r:embed="rId1"/>
          <a:stretch/>
        </p:blipFill>
        <p:spPr>
          <a:xfrm>
            <a:off x="7164360" y="3860640"/>
            <a:ext cx="1736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53680" y="54900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c400"/>
                </a:solidFill>
                <a:latin typeface="Comic Sans MS"/>
              </a:rPr>
              <a:t>Вопросы для повто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асскажите о средствах, облегчающих процесс создания презента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их  правил следует придерживаться, чтобы добиться единого стиля презентац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7380360" y="6093000"/>
            <a:ext cx="1368360" cy="502920"/>
          </a:xfrm>
          <a:custGeom>
            <a:avLst/>
            <a:gdLst>
              <a:gd name="textAreaLeft" fmla="*/ 32400 w 1368360"/>
              <a:gd name="textAreaRight" fmla="*/ 1335960 w 136836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58743" h="21600">
                <a:moveTo>
                  <a:pt x="0" y="0"/>
                </a:moveTo>
                <a:lnTo>
                  <a:pt x="58743" y="0"/>
                </a:lnTo>
                <a:lnTo>
                  <a:pt x="58743" y="21600"/>
                </a:lnTo>
                <a:lnTo>
                  <a:pt x="0" y="21600"/>
                </a:lnTo>
                <a:close/>
              </a:path>
              <a:path fill="lightenLess" w="58743" h="21600">
                <a:moveTo>
                  <a:pt x="0" y="0"/>
                </a:moveTo>
                <a:lnTo>
                  <a:pt x="58743" y="0"/>
                </a:lnTo>
                <a:lnTo>
                  <a:pt x="57343" y="1400"/>
                </a:lnTo>
                <a:lnTo>
                  <a:pt x="1400" y="1400"/>
                </a:lnTo>
                <a:close/>
              </a:path>
              <a:path fill="darken" w="58743" h="21600">
                <a:moveTo>
                  <a:pt x="58743" y="0"/>
                </a:moveTo>
                <a:lnTo>
                  <a:pt x="58743" y="21600"/>
                </a:lnTo>
                <a:lnTo>
                  <a:pt x="57343" y="20200"/>
                </a:lnTo>
                <a:lnTo>
                  <a:pt x="57343" y="1400"/>
                </a:lnTo>
                <a:close/>
              </a:path>
              <a:path fill="darkenLess" w="58743" h="21600">
                <a:moveTo>
                  <a:pt x="58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343" y="20200"/>
                </a:lnTo>
                <a:close/>
              </a:path>
              <a:path fill="lighten" w="58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743" h="21600">
                <a:moveTo>
                  <a:pt x="25873" y="10800"/>
                </a:moveTo>
                <a:lnTo>
                  <a:pt x="36378" y="3794"/>
                </a:lnTo>
                <a:lnTo>
                  <a:pt x="36378" y="17806"/>
                </a:lnTo>
                <a:close/>
              </a:path>
              <a:path fill="darken" w="58743" h="21600">
                <a:moveTo>
                  <a:pt x="22365" y="3794"/>
                </a:moveTo>
                <a:lnTo>
                  <a:pt x="24028" y="3794"/>
                </a:lnTo>
                <a:lnTo>
                  <a:pt x="24028" y="17806"/>
                </a:lnTo>
                <a:lnTo>
                  <a:pt x="22365" y="17806"/>
                </a:lnTo>
                <a:close/>
              </a:path>
            </a:pathLst>
          </a:custGeom>
          <a:solidFill>
            <a:srgbClr val="f2c4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Рисунок17"/>
          <p:cNvPicPr/>
          <p:nvPr/>
        </p:nvPicPr>
        <p:blipFill>
          <a:blip r:embed="rId1"/>
          <a:stretch/>
        </p:blipFill>
        <p:spPr>
          <a:xfrm>
            <a:off x="0" y="404640"/>
            <a:ext cx="17636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c400"/>
                </a:solidFill>
                <a:latin typeface="Comic Sans MS"/>
              </a:rPr>
              <a:t>Анимация –</a:t>
            </a:r>
            <a:r>
              <a:rPr b="1" lang="ru-RU" sz="3600" spc="-1" strike="noStrike">
                <a:solidFill>
                  <a:srgbClr val="f2c4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ллюзия движения объ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5280" y="184464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льзователь может зад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имацию объектов на слай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имацию при смене слай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вук, сопровождающий анима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Рисунок10"/>
          <p:cNvPicPr/>
          <p:nvPr/>
        </p:nvPicPr>
        <p:blipFill>
          <a:blip r:embed="rId1"/>
          <a:stretch/>
        </p:blipFill>
        <p:spPr>
          <a:xfrm>
            <a:off x="2411280" y="3857760"/>
            <a:ext cx="34560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c400"/>
                </a:solidFill>
                <a:latin typeface="Comic Sans MS"/>
              </a:rPr>
              <a:t>Ани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спользует быструю смену кадров, которую глаз человека воспринимает как непрерывное дв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2960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c400"/>
                </a:solidFill>
                <a:latin typeface="Comic Sans MS"/>
              </a:rPr>
              <a:t>Программа разработки презентаций позволя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Выбрать один из типов анимационных эффектов при переходе слай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Выбрать звук, которым будет сопровождаться переход слайд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Предлагает большой выбор набор звуков (аплодисменты, колокольчики, звук пишущей машинки и т.д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Рисунок4"/>
          <p:cNvPicPr/>
          <p:nvPr/>
        </p:nvPicPr>
        <p:blipFill>
          <a:blip r:embed="rId1"/>
          <a:stretch/>
        </p:blipFill>
        <p:spPr>
          <a:xfrm>
            <a:off x="1476360" y="4797360"/>
            <a:ext cx="2808360" cy="1809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Рисунок9"/>
          <p:cNvPicPr/>
          <p:nvPr/>
        </p:nvPicPr>
        <p:blipFill>
          <a:blip r:embed="rId2"/>
          <a:stretch/>
        </p:blipFill>
        <p:spPr>
          <a:xfrm>
            <a:off x="5364000" y="4797360"/>
            <a:ext cx="2160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иалоговая панель</a:t>
            </a:r>
            <a:r>
              <a:rPr b="1" lang="ru-RU" sz="4000" spc="-1" strike="noStrike">
                <a:solidFill>
                  <a:srgbClr val="f2c400"/>
                </a:solidFill>
                <a:latin typeface="Comic Sans MS"/>
              </a:rPr>
              <a:t> </a:t>
            </a:r>
            <a:br>
              <a:rPr sz="4000"/>
            </a:br>
            <a:r>
              <a:rPr b="1" i="1" lang="ru-RU" sz="4400" spc="-1" strike="noStrike">
                <a:solidFill>
                  <a:srgbClr val="f2c400"/>
                </a:solidFill>
                <a:latin typeface="Comic Sans MS"/>
              </a:rPr>
              <a:t>Смена слай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4537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списке анимационных эффектов можно выбр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эфф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– быстроту смены слай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к, при смене слай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ытие, по которому происходит смена слайдов: по щелчку или автоматиче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ить к одному слайду или ко всем слай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265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53680" y="54900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c400"/>
                </a:solidFill>
                <a:latin typeface="Comic Sans MS"/>
              </a:rPr>
              <a:t>Вопросы для повто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чем заключается основной принцип создания аним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 можно использовать анимационные и звуковые эффекты в презент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380360" y="6093000"/>
            <a:ext cx="1368360" cy="502920"/>
          </a:xfrm>
          <a:custGeom>
            <a:avLst/>
            <a:gdLst>
              <a:gd name="textAreaLeft" fmla="*/ 32400 w 1368360"/>
              <a:gd name="textAreaRight" fmla="*/ 1335960 w 136836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58743" h="21600">
                <a:moveTo>
                  <a:pt x="0" y="0"/>
                </a:moveTo>
                <a:lnTo>
                  <a:pt x="58743" y="0"/>
                </a:lnTo>
                <a:lnTo>
                  <a:pt x="58743" y="21600"/>
                </a:lnTo>
                <a:lnTo>
                  <a:pt x="0" y="21600"/>
                </a:lnTo>
                <a:close/>
              </a:path>
              <a:path fill="lightenLess" w="58743" h="21600">
                <a:moveTo>
                  <a:pt x="0" y="0"/>
                </a:moveTo>
                <a:lnTo>
                  <a:pt x="58743" y="0"/>
                </a:lnTo>
                <a:lnTo>
                  <a:pt x="57343" y="1400"/>
                </a:lnTo>
                <a:lnTo>
                  <a:pt x="1400" y="1400"/>
                </a:lnTo>
                <a:close/>
              </a:path>
              <a:path fill="darken" w="58743" h="21600">
                <a:moveTo>
                  <a:pt x="58743" y="0"/>
                </a:moveTo>
                <a:lnTo>
                  <a:pt x="58743" y="21600"/>
                </a:lnTo>
                <a:lnTo>
                  <a:pt x="57343" y="20200"/>
                </a:lnTo>
                <a:lnTo>
                  <a:pt x="57343" y="1400"/>
                </a:lnTo>
                <a:close/>
              </a:path>
              <a:path fill="darkenLess" w="58743" h="21600">
                <a:moveTo>
                  <a:pt x="58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343" y="20200"/>
                </a:lnTo>
                <a:close/>
              </a:path>
              <a:path fill="lighten" w="58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743" h="21600">
                <a:moveTo>
                  <a:pt x="25873" y="10800"/>
                </a:moveTo>
                <a:lnTo>
                  <a:pt x="36378" y="3794"/>
                </a:lnTo>
                <a:lnTo>
                  <a:pt x="36378" y="17806"/>
                </a:lnTo>
                <a:close/>
              </a:path>
              <a:path fill="darken" w="58743" h="21600">
                <a:moveTo>
                  <a:pt x="22365" y="3794"/>
                </a:moveTo>
                <a:lnTo>
                  <a:pt x="24028" y="3794"/>
                </a:lnTo>
                <a:lnTo>
                  <a:pt x="24028" y="17806"/>
                </a:lnTo>
                <a:lnTo>
                  <a:pt x="22365" y="17806"/>
                </a:lnTo>
                <a:close/>
              </a:path>
            </a:pathLst>
          </a:custGeom>
          <a:solidFill>
            <a:srgbClr val="f2c4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Рисунок17"/>
          <p:cNvPicPr/>
          <p:nvPr/>
        </p:nvPicPr>
        <p:blipFill>
          <a:blip r:embed="rId1"/>
          <a:stretch/>
        </p:blipFill>
        <p:spPr>
          <a:xfrm>
            <a:off x="0" y="404640"/>
            <a:ext cx="17636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c400"/>
                </a:solidFill>
                <a:latin typeface="Comic Sans MS"/>
              </a:rPr>
              <a:t>Интерактивная презен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езентация, в которой пользователь управляет порядком появления слай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Рисунок2"/>
          <p:cNvPicPr/>
          <p:nvPr/>
        </p:nvPicPr>
        <p:blipFill>
          <a:blip r:embed="rId1"/>
          <a:stretch/>
        </p:blipFill>
        <p:spPr>
          <a:xfrm>
            <a:off x="3059280" y="3573360"/>
            <a:ext cx="3030480" cy="27748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5">
            <a:hlinkClick r:id="" action="ppaction://hlinkshowjump?jump=nextslide"/>
          </p:cNvPr>
          <p:cNvSpPr/>
          <p:nvPr/>
        </p:nvSpPr>
        <p:spPr>
          <a:xfrm>
            <a:off x="7596360" y="6237360"/>
            <a:ext cx="1296720" cy="431640"/>
          </a:xfrm>
          <a:custGeom>
            <a:avLst/>
            <a:gdLst>
              <a:gd name="textAreaLeft" fmla="*/ 27720 w 1296720"/>
              <a:gd name="textAreaRight" fmla="*/ 1269000 w 1296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4854" h="21600">
                <a:moveTo>
                  <a:pt x="0" y="0"/>
                </a:moveTo>
                <a:lnTo>
                  <a:pt x="64854" y="0"/>
                </a:lnTo>
                <a:lnTo>
                  <a:pt x="64854" y="21600"/>
                </a:lnTo>
                <a:lnTo>
                  <a:pt x="0" y="21600"/>
                </a:lnTo>
                <a:close/>
              </a:path>
              <a:path fill="lightenLess" w="64854" h="21600">
                <a:moveTo>
                  <a:pt x="0" y="0"/>
                </a:moveTo>
                <a:lnTo>
                  <a:pt x="64854" y="0"/>
                </a:lnTo>
                <a:lnTo>
                  <a:pt x="63454" y="1400"/>
                </a:lnTo>
                <a:lnTo>
                  <a:pt x="1400" y="1400"/>
                </a:lnTo>
                <a:close/>
              </a:path>
              <a:path fill="darken" w="64854" h="21600">
                <a:moveTo>
                  <a:pt x="64854" y="0"/>
                </a:moveTo>
                <a:lnTo>
                  <a:pt x="64854" y="21600"/>
                </a:lnTo>
                <a:lnTo>
                  <a:pt x="63454" y="20200"/>
                </a:lnTo>
                <a:lnTo>
                  <a:pt x="63454" y="1400"/>
                </a:lnTo>
                <a:close/>
              </a:path>
              <a:path fill="darkenLess" w="64854" h="21600">
                <a:moveTo>
                  <a:pt x="64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54" y="20200"/>
                </a:lnTo>
                <a:close/>
              </a:path>
              <a:path fill="lighten" w="64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54" h="21600">
                <a:moveTo>
                  <a:pt x="25421" y="3794"/>
                </a:moveTo>
                <a:lnTo>
                  <a:pt x="39433" y="10800"/>
                </a:lnTo>
                <a:lnTo>
                  <a:pt x="254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c400"/>
                </a:solidFill>
                <a:latin typeface="Comic Sans MS"/>
              </a:rPr>
              <a:t>Компьютерная презен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следовательность слайдов, содержащих различные информационные объ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Рисунок16"/>
          <p:cNvPicPr/>
          <p:nvPr/>
        </p:nvPicPr>
        <p:blipFill>
          <a:blip r:embed="rId1"/>
          <a:stretch/>
        </p:blipFill>
        <p:spPr>
          <a:xfrm>
            <a:off x="3132000" y="3429000"/>
            <a:ext cx="218124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c400"/>
                </a:solidFill>
                <a:latin typeface="Comic Sans MS"/>
              </a:rPr>
              <a:t>Гиперссы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пособ перехода на указанный слайд щелчком мыши по слову-ссыл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лайде можно разместить управляющие кноп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>
            <a:hlinkClick r:id="" action="ppaction://hlinkshowjump?jump=previousslide"/>
          </p:cNvPr>
          <p:cNvSpPr/>
          <p:nvPr/>
        </p:nvSpPr>
        <p:spPr>
          <a:xfrm>
            <a:off x="611280" y="5589720"/>
            <a:ext cx="1657080" cy="576000"/>
          </a:xfrm>
          <a:custGeom>
            <a:avLst/>
            <a:gdLst>
              <a:gd name="textAreaLeft" fmla="*/ 37080 w 1657080"/>
              <a:gd name="textAreaRight" fmla="*/ 1620000 w 1657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62115" h="21600">
                <a:moveTo>
                  <a:pt x="0" y="0"/>
                </a:moveTo>
                <a:lnTo>
                  <a:pt x="62115" y="0"/>
                </a:lnTo>
                <a:lnTo>
                  <a:pt x="62115" y="21600"/>
                </a:lnTo>
                <a:lnTo>
                  <a:pt x="0" y="21600"/>
                </a:lnTo>
                <a:close/>
              </a:path>
              <a:path fill="lightenLess" w="62115" h="21600">
                <a:moveTo>
                  <a:pt x="0" y="0"/>
                </a:moveTo>
                <a:lnTo>
                  <a:pt x="62115" y="0"/>
                </a:lnTo>
                <a:lnTo>
                  <a:pt x="60715" y="1400"/>
                </a:lnTo>
                <a:lnTo>
                  <a:pt x="1400" y="1400"/>
                </a:lnTo>
                <a:close/>
              </a:path>
              <a:path fill="darken" w="62115" h="21600">
                <a:moveTo>
                  <a:pt x="62115" y="0"/>
                </a:moveTo>
                <a:lnTo>
                  <a:pt x="62115" y="21600"/>
                </a:lnTo>
                <a:lnTo>
                  <a:pt x="60715" y="20200"/>
                </a:lnTo>
                <a:lnTo>
                  <a:pt x="60715" y="1400"/>
                </a:lnTo>
                <a:close/>
              </a:path>
              <a:path fill="darkenLess" w="62115" h="21600">
                <a:moveTo>
                  <a:pt x="62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715" y="20200"/>
                </a:lnTo>
                <a:close/>
              </a:path>
              <a:path fill="lighten" w="62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115" h="21600">
                <a:moveTo>
                  <a:pt x="24051" y="10800"/>
                </a:moveTo>
                <a:lnTo>
                  <a:pt x="38064" y="3794"/>
                </a:lnTo>
                <a:lnTo>
                  <a:pt x="3806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>
            <a:hlinkClick r:id="" action="ppaction://hlinkshowjump?jump=nextslide"/>
          </p:cNvPr>
          <p:cNvSpPr/>
          <p:nvPr/>
        </p:nvSpPr>
        <p:spPr>
          <a:xfrm>
            <a:off x="2700360" y="5589720"/>
            <a:ext cx="1511280" cy="57600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6651" h="21600">
                <a:moveTo>
                  <a:pt x="0" y="0"/>
                </a:moveTo>
                <a:lnTo>
                  <a:pt x="56651" y="0"/>
                </a:lnTo>
                <a:lnTo>
                  <a:pt x="56651" y="21600"/>
                </a:lnTo>
                <a:lnTo>
                  <a:pt x="0" y="21600"/>
                </a:lnTo>
                <a:close/>
              </a:path>
              <a:path fill="lightenLess" w="56651" h="21600">
                <a:moveTo>
                  <a:pt x="0" y="0"/>
                </a:moveTo>
                <a:lnTo>
                  <a:pt x="56651" y="0"/>
                </a:lnTo>
                <a:lnTo>
                  <a:pt x="55251" y="1400"/>
                </a:lnTo>
                <a:lnTo>
                  <a:pt x="1400" y="1400"/>
                </a:lnTo>
                <a:close/>
              </a:path>
              <a:path fill="darken" w="56651" h="21600">
                <a:moveTo>
                  <a:pt x="56651" y="0"/>
                </a:moveTo>
                <a:lnTo>
                  <a:pt x="56651" y="21600"/>
                </a:lnTo>
                <a:lnTo>
                  <a:pt x="55251" y="20200"/>
                </a:lnTo>
                <a:lnTo>
                  <a:pt x="55251" y="1400"/>
                </a:lnTo>
                <a:close/>
              </a:path>
              <a:path fill="darkenLess" w="56651" h="21600">
                <a:moveTo>
                  <a:pt x="56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51" y="20200"/>
                </a:lnTo>
                <a:close/>
              </a:path>
              <a:path fill="lighten" w="56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51" h="21600">
                <a:moveTo>
                  <a:pt x="21319" y="3794"/>
                </a:moveTo>
                <a:lnTo>
                  <a:pt x="35332" y="10800"/>
                </a:lnTo>
                <a:lnTo>
                  <a:pt x="213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>
            <a:hlinkClick r:id="" action="ppaction://hlinkshowjump?jump=firstslide"/>
          </p:cNvPr>
          <p:cNvSpPr/>
          <p:nvPr/>
        </p:nvSpPr>
        <p:spPr>
          <a:xfrm>
            <a:off x="4716360" y="5589720"/>
            <a:ext cx="1511280" cy="57600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6651" h="21600">
                <a:moveTo>
                  <a:pt x="0" y="0"/>
                </a:moveTo>
                <a:lnTo>
                  <a:pt x="56651" y="0"/>
                </a:lnTo>
                <a:lnTo>
                  <a:pt x="56651" y="21600"/>
                </a:lnTo>
                <a:lnTo>
                  <a:pt x="0" y="21600"/>
                </a:lnTo>
                <a:close/>
              </a:path>
              <a:path fill="lightenLess" w="56651" h="21600">
                <a:moveTo>
                  <a:pt x="0" y="0"/>
                </a:moveTo>
                <a:lnTo>
                  <a:pt x="56651" y="0"/>
                </a:lnTo>
                <a:lnTo>
                  <a:pt x="55251" y="1400"/>
                </a:lnTo>
                <a:lnTo>
                  <a:pt x="1400" y="1400"/>
                </a:lnTo>
                <a:close/>
              </a:path>
              <a:path fill="darken" w="56651" h="21600">
                <a:moveTo>
                  <a:pt x="56651" y="0"/>
                </a:moveTo>
                <a:lnTo>
                  <a:pt x="56651" y="21600"/>
                </a:lnTo>
                <a:lnTo>
                  <a:pt x="55251" y="20200"/>
                </a:lnTo>
                <a:lnTo>
                  <a:pt x="55251" y="1400"/>
                </a:lnTo>
                <a:close/>
              </a:path>
              <a:path fill="darkenLess" w="56651" h="21600">
                <a:moveTo>
                  <a:pt x="56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51" y="20200"/>
                </a:lnTo>
                <a:close/>
              </a:path>
              <a:path fill="lighten" w="56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51" h="21600">
                <a:moveTo>
                  <a:pt x="24827" y="10800"/>
                </a:moveTo>
                <a:lnTo>
                  <a:pt x="35332" y="3794"/>
                </a:lnTo>
                <a:lnTo>
                  <a:pt x="35332" y="17806"/>
                </a:lnTo>
                <a:close/>
              </a:path>
              <a:path fill="darken" w="56651" h="21600">
                <a:moveTo>
                  <a:pt x="21319" y="3794"/>
                </a:moveTo>
                <a:lnTo>
                  <a:pt x="22981" y="3794"/>
                </a:lnTo>
                <a:lnTo>
                  <a:pt x="22981" y="17806"/>
                </a:lnTo>
                <a:lnTo>
                  <a:pt x="213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>
            <a:hlinkClick r:id="" action="ppaction://hlinkshowjump?jump=lastslide"/>
          </p:cNvPr>
          <p:cNvSpPr/>
          <p:nvPr/>
        </p:nvSpPr>
        <p:spPr>
          <a:xfrm>
            <a:off x="6659640" y="5589720"/>
            <a:ext cx="1657440" cy="576000"/>
          </a:xfrm>
          <a:custGeom>
            <a:avLst/>
            <a:gdLst>
              <a:gd name="textAreaLeft" fmla="*/ 37080 w 1657440"/>
              <a:gd name="textAreaRight" fmla="*/ 1620360 w 16574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62129" h="21600">
                <a:moveTo>
                  <a:pt x="0" y="0"/>
                </a:moveTo>
                <a:lnTo>
                  <a:pt x="62129" y="0"/>
                </a:lnTo>
                <a:lnTo>
                  <a:pt x="62129" y="21600"/>
                </a:lnTo>
                <a:lnTo>
                  <a:pt x="0" y="21600"/>
                </a:lnTo>
                <a:close/>
              </a:path>
              <a:path fill="lightenLess" w="62129" h="21600">
                <a:moveTo>
                  <a:pt x="0" y="0"/>
                </a:moveTo>
                <a:lnTo>
                  <a:pt x="62129" y="0"/>
                </a:lnTo>
                <a:lnTo>
                  <a:pt x="60729" y="1400"/>
                </a:lnTo>
                <a:lnTo>
                  <a:pt x="1400" y="1400"/>
                </a:lnTo>
                <a:close/>
              </a:path>
              <a:path fill="darken" w="62129" h="21600">
                <a:moveTo>
                  <a:pt x="62129" y="0"/>
                </a:moveTo>
                <a:lnTo>
                  <a:pt x="62129" y="21600"/>
                </a:lnTo>
                <a:lnTo>
                  <a:pt x="60729" y="20200"/>
                </a:lnTo>
                <a:lnTo>
                  <a:pt x="60729" y="1400"/>
                </a:lnTo>
                <a:close/>
              </a:path>
              <a:path fill="darkenLess" w="62129" h="21600">
                <a:moveTo>
                  <a:pt x="621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729" y="20200"/>
                </a:lnTo>
                <a:close/>
              </a:path>
              <a:path fill="lighten" w="621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129" h="21600">
                <a:moveTo>
                  <a:pt x="34563" y="10800"/>
                </a:moveTo>
                <a:lnTo>
                  <a:pt x="24058" y="17806"/>
                </a:lnTo>
                <a:lnTo>
                  <a:pt x="24058" y="3794"/>
                </a:lnTo>
                <a:close/>
              </a:path>
              <a:path fill="darken" w="62129" h="21600">
                <a:moveTo>
                  <a:pt x="36408" y="3794"/>
                </a:moveTo>
                <a:lnTo>
                  <a:pt x="36408" y="17806"/>
                </a:lnTo>
                <a:lnTo>
                  <a:pt x="38071" y="17806"/>
                </a:lnTo>
                <a:lnTo>
                  <a:pt x="3807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c400"/>
                </a:solidFill>
                <a:latin typeface="Comic Sans MS"/>
              </a:rPr>
              <a:t>Демонстрация презент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мена слайдов «вручную» - после изложения очередного части доклада выступающий изменяет содержимое слайдов щелчком мы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мена слайдов «по времени» - выступающий произносит свой доклад, а слайды сменяются автоматически параллельно с ходом изложения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нтерактивно – пользователь сам управляет порядком демонстрации слай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4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1511280" cy="431640"/>
          </a:xfrm>
          <a:custGeom>
            <a:avLst/>
            <a:gdLst>
              <a:gd name="textAreaLeft" fmla="*/ 27720 w 1511280"/>
              <a:gd name="textAreaRight" fmla="*/ 1483560 w 1511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5582" h="21600">
                <a:moveTo>
                  <a:pt x="0" y="0"/>
                </a:moveTo>
                <a:lnTo>
                  <a:pt x="75582" y="0"/>
                </a:lnTo>
                <a:lnTo>
                  <a:pt x="75582" y="21600"/>
                </a:lnTo>
                <a:lnTo>
                  <a:pt x="0" y="21600"/>
                </a:lnTo>
                <a:close/>
              </a:path>
              <a:path fill="lightenLess" w="75582" h="21600">
                <a:moveTo>
                  <a:pt x="0" y="0"/>
                </a:moveTo>
                <a:lnTo>
                  <a:pt x="75582" y="0"/>
                </a:lnTo>
                <a:lnTo>
                  <a:pt x="74182" y="1400"/>
                </a:lnTo>
                <a:lnTo>
                  <a:pt x="1400" y="1400"/>
                </a:lnTo>
                <a:close/>
              </a:path>
              <a:path fill="darken" w="75582" h="21600">
                <a:moveTo>
                  <a:pt x="75582" y="0"/>
                </a:moveTo>
                <a:lnTo>
                  <a:pt x="75582" y="21600"/>
                </a:lnTo>
                <a:lnTo>
                  <a:pt x="74182" y="20200"/>
                </a:lnTo>
                <a:lnTo>
                  <a:pt x="74182" y="1400"/>
                </a:lnTo>
                <a:close/>
              </a:path>
              <a:path fill="darkenLess" w="75582" h="21600">
                <a:moveTo>
                  <a:pt x="75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82" y="20200"/>
                </a:lnTo>
                <a:close/>
              </a:path>
              <a:path fill="lighten" w="75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82" h="21600">
                <a:moveTo>
                  <a:pt x="30785" y="10800"/>
                </a:moveTo>
                <a:lnTo>
                  <a:pt x="44797" y="3794"/>
                </a:lnTo>
                <a:lnTo>
                  <a:pt x="44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454040" y="549360"/>
            <a:ext cx="7689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c400"/>
                </a:solidFill>
                <a:latin typeface="Comic Sans MS"/>
              </a:rPr>
              <a:t>Вопросы для повто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468360" y="2421000"/>
            <a:ext cx="82296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чем состоит различие между использованием гиперссылок и управляющих кнопок для реализации интерактивной презент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то значит «интерактивная презентац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Рисунок17"/>
          <p:cNvPicPr/>
          <p:nvPr/>
        </p:nvPicPr>
        <p:blipFill>
          <a:blip r:embed="rId1"/>
          <a:stretch/>
        </p:blipFill>
        <p:spPr>
          <a:xfrm>
            <a:off x="0" y="404640"/>
            <a:ext cx="17636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Компьютерные презентации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слай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змещены различные мультимедиа о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езентации интера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емонстрируется на экране для большой ауди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16000" y="549360"/>
            <a:ext cx="40388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Книги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стран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змещены только текст и рису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ткий порядок чтения стра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нигу читает один человек и на близком расстоя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Рисунок7"/>
          <p:cNvPicPr/>
          <p:nvPr/>
        </p:nvPicPr>
        <p:blipFill>
          <a:blip r:embed="rId1"/>
          <a:stretch/>
        </p:blipFill>
        <p:spPr>
          <a:xfrm>
            <a:off x="5796000" y="4508640"/>
            <a:ext cx="1844640" cy="194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Рисунок21"/>
          <p:cNvPicPr/>
          <p:nvPr/>
        </p:nvPicPr>
        <p:blipFill>
          <a:blip r:embed="rId2"/>
          <a:stretch/>
        </p:blipFill>
        <p:spPr>
          <a:xfrm>
            <a:off x="1258920" y="4653000"/>
            <a:ext cx="19940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c400"/>
                </a:solidFill>
                <a:latin typeface="Comic Sans MS"/>
              </a:rPr>
              <a:t>Наиболее распространенные программ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3709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icrosoft 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tarOffice Imp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Безимени_1"/>
          <p:cNvPicPr/>
          <p:nvPr/>
        </p:nvPicPr>
        <p:blipFill>
          <a:blip r:embed="rId1"/>
          <a:stretch/>
        </p:blipFill>
        <p:spPr>
          <a:xfrm>
            <a:off x="3851280" y="1916280"/>
            <a:ext cx="48974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omic Sans MS"/>
              </a:rPr>
              <a:t>Основные возможности программ подготовки презентац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здание слайдов и размещение на них информационных объ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значение эффектов анимации при появлении объектов и смене слай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формление слайдов с использованием шаблонов оформления и цветовых сх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правление порядком демонстрации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Рисунок3"/>
          <p:cNvPicPr/>
          <p:nvPr/>
        </p:nvPicPr>
        <p:blipFill>
          <a:blip r:embed="rId1"/>
          <a:stretch/>
        </p:blipFill>
        <p:spPr>
          <a:xfrm>
            <a:off x="7775640" y="1197000"/>
            <a:ext cx="1368360" cy="273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Рисунок18"/>
          <p:cNvPicPr/>
          <p:nvPr/>
        </p:nvPicPr>
        <p:blipFill>
          <a:blip r:embed="rId2"/>
          <a:stretch/>
        </p:blipFill>
        <p:spPr>
          <a:xfrm>
            <a:off x="5076720" y="5229360"/>
            <a:ext cx="1800360" cy="12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c400"/>
                </a:solidFill>
                <a:latin typeface="Comic Sans MS"/>
              </a:rPr>
              <a:t>Слайд</a:t>
            </a:r>
            <a:r>
              <a:rPr b="0" lang="ru-RU" sz="4000" spc="-1" strike="noStrike">
                <a:solidFill>
                  <a:srgbClr val="f2c400"/>
                </a:solidFill>
                <a:latin typeface="Arial"/>
              </a:rPr>
              <a:t> –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электронная страница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На слайде модно разместить следующие информационные объек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entury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entury"/>
              </a:rPr>
              <a:t>Изоб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entury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entury"/>
              </a:rPr>
              <a:t>Аним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Рисунок19"/>
          <p:cNvPicPr/>
          <p:nvPr/>
        </p:nvPicPr>
        <p:blipFill>
          <a:blip r:embed="rId1"/>
          <a:stretch/>
        </p:blipFill>
        <p:spPr>
          <a:xfrm>
            <a:off x="4211640" y="2997360"/>
            <a:ext cx="3930480" cy="29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0920" y="169992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2c400"/>
                </a:solidFill>
                <a:latin typeface="Comic Sans MS"/>
              </a:rPr>
              <a:t>Практическая часть</a:t>
            </a:r>
            <a:br>
              <a:rPr sz="3600"/>
            </a:br>
            <a:r>
              <a:rPr b="0" lang="ru-RU" sz="3600" spc="-1" strike="noStrike">
                <a:solidFill>
                  <a:srgbClr val="f2c4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«Создание простой презентац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Рисунок14"/>
          <p:cNvPicPr/>
          <p:nvPr/>
        </p:nvPicPr>
        <p:blipFill>
          <a:blip r:embed="rId1"/>
          <a:stretch/>
        </p:blipFill>
        <p:spPr>
          <a:xfrm>
            <a:off x="2843280" y="3573360"/>
            <a:ext cx="3421080" cy="2557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Рисунок5"/>
          <p:cNvPicPr/>
          <p:nvPr/>
        </p:nvPicPr>
        <p:blipFill>
          <a:blip r:embed="rId2"/>
          <a:stretch/>
        </p:blipFill>
        <p:spPr>
          <a:xfrm>
            <a:off x="395280" y="404640"/>
            <a:ext cx="1440000" cy="13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c400"/>
                </a:solidFill>
                <a:latin typeface="Comic Sans MS"/>
              </a:rPr>
              <a:t>Порядок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пустить программу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icrosoft PowerPoint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ерез командное мен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уск – Программы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icrosoft office – Microsoft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ведите вместо надписи «Заголовок слайда» название своей школы, вместо надписи «Подзаголовок слайда» - свою фамилию и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7:01:03Z</dcterms:created>
  <dc:creator>Лена</dc:creator>
  <dc:description/>
  <dc:language>en-US</dc:language>
  <cp:lastModifiedBy>Metodist</cp:lastModifiedBy>
  <dcterms:modified xsi:type="dcterms:W3CDTF">2019-12-19T13:10:42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8000000000001024140</vt:lpwstr>
  </property>
</Properties>
</file>