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230-B072-480D-9698-629E2F32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36D-E056-4337-8B03-BBC9A353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6F9-1D0D-497E-92A2-5BB41C98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817-4F98-4E82-887F-35947C32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999-B104-48C5-9D04-1BD5632C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17C-B3B8-42F8-B99A-BAAE748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0551-05E4-4B8B-B05E-CCE7C53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40D8-D0FD-4904-B112-F0B93F4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8785-5CDF-45B5-B6F0-3E184588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2CE2-8271-4D21-B00A-B416447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AF90-6B54-4F96-A0E3-19D2647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0E9-7BBB-4690-AE9B-773947BD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3E4-47B7-4B98-A524-74606B9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D694-85D0-4BD4-9A09-A4750D3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13C-3564-4EF4-8FC8-5CADDA6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AE7-3A85-4A02-A2D5-BABD0E9D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33E-A038-484A-A0B7-3D7F4CA9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2C9-5AE9-4DB7-B8F5-A320FCA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F79-A017-404F-AD76-3097516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472-0DA0-447E-AE64-123BD35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58C-DE55-4A15-B5CB-8D6C86A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CF5-FF40-4078-9CBB-CA86B0F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4CC-CF34-49C3-9C33-CB92398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B5C-5082-46F5-B008-F6DAECC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FA4-B4D0-4556-BE4C-03FF016189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3B1-BFFE-44A5-BECE-F768321215E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1315800"/>
            <a:ext cx="842472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b10000"/>
                </a:solidFill>
                <a:latin typeface="Comic Sans MS"/>
                <a:ea typeface="Microsoft Yi Baiti"/>
              </a:rPr>
              <a:t>Технология </a:t>
            </a:r>
            <a:br>
              <a:rPr sz="4400"/>
            </a:br>
            <a:r>
              <a:rPr b="1" lang="ru-RU" sz="4400" spc="-1" strike="noStrike">
                <a:solidFill>
                  <a:srgbClr val="b10000"/>
                </a:solidFill>
                <a:latin typeface="Comic Sans MS"/>
                <a:ea typeface="Microsoft Yi Baiti"/>
              </a:rPr>
              <a:t>проблемного об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90480" y="4149720"/>
            <a:ext cx="481824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j0280309"/>
          <p:cNvPicPr/>
          <p:nvPr/>
        </p:nvPicPr>
        <p:blipFill>
          <a:blip r:embed="rId1"/>
          <a:stretch/>
        </p:blipFill>
        <p:spPr>
          <a:xfrm>
            <a:off x="5415120" y="3098880"/>
            <a:ext cx="3384360" cy="3379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179280" y="4222800"/>
            <a:ext cx="52070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e0000"/>
                </a:solidFill>
                <a:latin typeface="Comic Sans MS"/>
              </a:rPr>
              <a:t>Автор: </a:t>
            </a:r>
            <a:r>
              <a:rPr b="1" lang="ru-RU" sz="2500" spc="-1" strike="noStrike">
                <a:solidFill>
                  <a:srgbClr val="262626"/>
                </a:solidFill>
                <a:latin typeface="Comic Sans MS"/>
              </a:rPr>
              <a:t>Л.П.Чайкина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omic Sans MS"/>
              </a:rPr>
              <a:t>учитель начальных классов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omic Sans MS"/>
              </a:rPr>
              <a:t>МБОУ СОШ №5 г.Вязь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7057800" cy="12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Классификация проблемных ситуаций по уровню проблемност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146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ающие независимо от ситу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ываемые и разрешаемые учите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ываемые учителем, разрешаемые учен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е формирование проблемы и реш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j0237702"/>
          <p:cNvPicPr/>
          <p:nvPr/>
        </p:nvPicPr>
        <p:blipFill>
          <a:blip r:embed="rId1"/>
          <a:stretch/>
        </p:blipFill>
        <p:spPr>
          <a:xfrm>
            <a:off x="7380360" y="4221000"/>
            <a:ext cx="1476360" cy="169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j0301066"/>
          <p:cNvPicPr/>
          <p:nvPr/>
        </p:nvPicPr>
        <p:blipFill>
          <a:blip r:embed="rId2"/>
          <a:stretch/>
        </p:blipFill>
        <p:spPr>
          <a:xfrm>
            <a:off x="539640" y="571680"/>
            <a:ext cx="110340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66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Классификация проблемных ситуаций</a:t>
            </a:r>
            <a:br>
              <a:rPr sz="3200"/>
            </a:b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по методическим особенностям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еднамер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ое из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ристическая бес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ые демонст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ие лабораторные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ый фронтальный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сленный проблемный 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ое решение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ые за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проблемные сит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j0301078"/>
          <p:cNvPicPr/>
          <p:nvPr/>
        </p:nvPicPr>
        <p:blipFill>
          <a:blip r:embed="rId1"/>
          <a:stretch/>
        </p:blipFill>
        <p:spPr>
          <a:xfrm>
            <a:off x="7380360" y="1123920"/>
            <a:ext cx="15397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3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реимущества проблемного обучения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ет возможности для развития внимания, наблюдательности, активизации мышления, активизации познавательной деятельности учащегос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ет самостоятельность, ответственность, критичность и самокритичность, инициативность, нестандартность мышления и т.п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прочность приобретаемых знаний, ибо они добываются в самостоятельной деятельности, это во-первых, и, во-вторых, здесь срабатывает известный в психологии «эффект неоконченного действия», открытый Б. В. Зейгарн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7" descr="j0301060"/>
          <p:cNvPicPr/>
          <p:nvPr/>
        </p:nvPicPr>
        <p:blipFill>
          <a:blip r:embed="rId1"/>
          <a:stretch/>
        </p:blipFill>
        <p:spPr>
          <a:xfrm>
            <a:off x="7596360" y="692280"/>
            <a:ext cx="12967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1557000"/>
            <a:ext cx="822960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660000"/>
                </a:solidFill>
                <a:latin typeface="Times New Roman"/>
              </a:rPr>
              <a:t>I. Проблемные ситуации, возникшие "с удивлением"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никшие "с удивлением"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 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одновременно предъявляет классу противоречивые факты, научные теории или взаимоисключающие точки зрения.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760" y="2923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а, 3 клас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елает на доске запись 3+ 6 х 4 = 36  и 3 + 6 х 4 = 2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ижу, вы удивлены (реакция удивления). Почему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меры одинаковые, а ответы разные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ит, над каким вопросом подумаем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же в одинаковых примерах получились разные отв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3360" y="691920"/>
            <a:ext cx="8464680" cy="167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рием 2.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Учителю требуется «столкнуть» разные мнения учеников. Для этого классу предлагается вопрос или практическое задание. Возникшие в результате разные мнения обычно вызывают у школьников удивление.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714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кружающий мир, 2 клас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дни ребята на зимние каникулы поедут в Санкт-Петербург, а другие в Австралию. Помогите им собрать вещи. (Класс разбивается на группы. Завершив работу, каждая группа знакомит со списком собранных вещей.) Посмотрим, как группы выполнили задание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Разные мнения вызывают реакцию удивления.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дание я вам дала одно. А как вы его выполнили?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Побуждение к осознанию противоречия.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ему так вышло? Чего мы не знаем?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Побуждение к формулированию проблемы.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ая сейчас погода в Австралии?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Проблема как вопрос.)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0680" y="836280"/>
            <a:ext cx="8464680" cy="1857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рием 3.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Выполняется в два шага. Сначала учитель выявляет представление обучающихся с помощью вопроса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ого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задания "на ошибку". Затем предъявляет научный факт в виде сообщения или наглядной информации.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2852640"/>
            <a:ext cx="82296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а, 1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вы думаете, много ли лучей можно построить из одной точ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, д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Шаг 1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каз картинки солнышк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Шаг 2. Дети испытывают удивление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вы сначала сказали? А как оказалось на самом деле? Какая у нас возникла проблема? В чём нам предстоит разобраться сегодня на уро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287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II. Проблемные ситуации, возникшие «с затруднением»</a:t>
            </a:r>
            <a:br>
              <a:rPr sz="2400"/>
            </a:b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рием 4.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Учитель предлагает задание, не выполнимое вообще. Оно вызывает у школьников явное затруднение. 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а, 2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ющимся предлагается ряд заданий, решение которых сводится к вычислению одинаковых слагаемых, наприме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+ 2 + 2 + 2 = 8. Затем дается задача: "На одну рубашку пришивают 9 пуговиц. Сколько пуговиц надо пришить на 970 рубашек?"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ческое задание, не выполнимое второклассниками вообщ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1296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рием 5.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Учитель дает практическое задание, с которым ученики до настоящего момента не сталкивались, т. е. задание, не похожее на предыдущее.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213336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а, 2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оске дан ряд чисел. Что это за числа? Выпишите в столбик однозначные числа и прибавьте 6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Обучающиеся легко справляются с заданием.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ишите в другой столбик двузначные числа и тоже прибавьте 6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Обучающиеся испытывают затруднение.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смогли выполнить мое задание? Почему же это задание не получилось? Чем оно отличается от предыдущего?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обуждение к осознанию противоречия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ва же будет тема нашего урока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ение двузначного числа и однозначн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Недостатки проблемного обучения: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218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о всегда вызывает затруднение у обучающихся в учебном процессе, поэт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его осмысление и поиски путей решения на уроке уходит значительно больше времен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 при традиционном обуч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проблемного обучения в учебном процесс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бует от преподавателя большого педагогического мастерства и больше времени при  подготовке к уро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9" descr="j0301068"/>
          <p:cNvPicPr/>
          <p:nvPr/>
        </p:nvPicPr>
        <p:blipFill>
          <a:blip r:embed="rId1"/>
          <a:stretch/>
        </p:blipFill>
        <p:spPr>
          <a:xfrm>
            <a:off x="7164360" y="620640"/>
            <a:ext cx="1582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29527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3887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0000"/>
                </a:solidFill>
                <a:latin typeface="Times New Roman"/>
                <a:ea typeface="Aharoni"/>
              </a:rPr>
              <a:t>Технология проблемного обучения способству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00"/>
                </a:solidFill>
                <a:latin typeface="Times New Roman"/>
              </a:rPr>
              <a:t>развитию личности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00"/>
                </a:solidFill>
                <a:latin typeface="Times New Roman"/>
              </a:rPr>
              <a:t>выявлению его творческих возмож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00"/>
                </a:solidFill>
                <a:latin typeface="Times New Roman"/>
              </a:rPr>
              <a:t>сохранение физического и психического здоровь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00"/>
                </a:solidFill>
                <a:latin typeface="Times New Roman"/>
              </a:rPr>
              <a:t>позволяет добиться хороших результатов в учебном проце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Диаграмма 2" descr=""/>
          <p:cNvPicPr/>
          <p:nvPr/>
        </p:nvPicPr>
        <p:blipFill>
          <a:blip r:embed="rId1"/>
          <a:stretch/>
        </p:blipFill>
        <p:spPr>
          <a:xfrm>
            <a:off x="4714920" y="1928880"/>
            <a:ext cx="40622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197920" cy="428400"/>
          </a:xfrm>
          <a:prstGeom prst="rect">
            <a:avLst/>
          </a:prstGeom>
          <a:solidFill>
            <a:srgbClr val="c9c96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нятие «Технология»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1052640"/>
            <a:ext cx="871704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Techn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 греч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кусство, мастерство, ум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Logos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 греч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ука, зако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ехнология – это наука о мастер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349360"/>
            <a:ext cx="87170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20000"/>
                </a:solidFill>
                <a:uFillTx/>
                <a:latin typeface="Arial"/>
              </a:rPr>
              <a:t>В широком смысле</a:t>
            </a:r>
            <a:r>
              <a:rPr b="0" lang="ru-RU" sz="1800" spc="-1" strike="noStrike">
                <a:solidFill>
                  <a:srgbClr val="42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420000"/>
                </a:solidFill>
                <a:latin typeface="Arial"/>
              </a:rPr>
              <a:t>технология</a:t>
            </a:r>
            <a:r>
              <a:rPr b="0" lang="ru-RU" sz="1800" spc="-1" strike="noStrike">
                <a:solidFill>
                  <a:srgbClr val="42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420000"/>
                </a:solidFill>
                <a:latin typeface="Arial"/>
              </a:rPr>
              <a:t>это наука о законах функцион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420000"/>
                </a:solidFill>
                <a:latin typeface="Arial"/>
              </a:rPr>
              <a:t>любой сложной системы</a:t>
            </a:r>
            <a:r>
              <a:rPr b="0" lang="ru-RU" sz="1800" spc="-1" strike="noStrike">
                <a:solidFill>
                  <a:srgbClr val="420000"/>
                </a:solidFill>
                <a:latin typeface="Arial"/>
              </a:rPr>
              <a:t> (производство, социум, образование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50920" y="3645000"/>
            <a:ext cx="87170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 узком смысле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ехнология – совокупность методов,  приемо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меняемых в каком-либо деле, мастерстве, искусств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661800" y="494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5308560"/>
            <a:ext cx="8717040" cy="144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хнология - это система, предложенных наукой алгоритм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ов, средств, применение которых веде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 заранее намеченным результат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1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6" descr="I:\Program Files\Microsoft Office\MEDIA\CAGCAT10\j0205466.wmf"/>
          <p:cNvPicPr/>
          <p:nvPr/>
        </p:nvPicPr>
        <p:blipFill>
          <a:blip r:embed="rId1"/>
          <a:stretch/>
        </p:blipFill>
        <p:spPr>
          <a:xfrm>
            <a:off x="3203640" y="2421000"/>
            <a:ext cx="28638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0920" y="2428560"/>
            <a:ext cx="7848360" cy="28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н позволяет: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 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ольшей определенностью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едсказывать результаты и управлять педагогическими процесс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лексно реша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образовательные и социально-воспитательные п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облемы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беспечивать благоприятные услов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для развития лич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ально использова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меющиеся в распоряжени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5280" y="571680"/>
            <a:ext cx="8229600" cy="71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технологического подхода в образовании</a:t>
            </a:r>
            <a:endParaRPr b="0" lang="en-US" sz="23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1357200"/>
            <a:ext cx="9144000" cy="10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Calibri"/>
              </a:rPr>
              <a:t>Технологический подход</a:t>
            </a:r>
            <a:r>
              <a:rPr b="0" lang="ru-RU" sz="2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бразовании представляет собой внедрение в педагогику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стемного способа мышления и действий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ормирует деятельностную основу образова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5373720"/>
            <a:ext cx="9144000" cy="115236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Знание современных и традиционных педагогических технологий, умение ориентироваться в их широком спектре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Calibri"/>
              </a:rPr>
              <a:t>условие успешной деятельности педагог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117360"/>
            <a:ext cx="8791560" cy="525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ходы к классификации педагогических технологий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0" y="642960"/>
            <a:ext cx="3786120" cy="1584360"/>
          </a:xfrm>
          <a:prstGeom prst="rightArrow">
            <a:avLst>
              <a:gd name="adj1" fmla="val 50000"/>
              <a:gd name="adj2" fmla="val 551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уровню приме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0" y="2286000"/>
            <a:ext cx="3786120" cy="1584360"/>
          </a:xfrm>
          <a:prstGeom prst="rightArrow">
            <a:avLst>
              <a:gd name="adj1" fmla="val 50000"/>
              <a:gd name="adj2" fmla="val 573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характеру содерж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0" y="3929040"/>
            <a:ext cx="3814920" cy="1440000"/>
          </a:xfrm>
          <a:prstGeom prst="rightArrow">
            <a:avLst>
              <a:gd name="adj1" fmla="val 50000"/>
              <a:gd name="adj2" fmla="val 66231"/>
            </a:avLst>
          </a:prstGeom>
          <a:solidFill>
            <a:srgbClr val="d2fe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отношению к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786120" y="785880"/>
            <a:ext cx="5184720" cy="127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педагогическ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ны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нометодические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786120" y="2357280"/>
            <a:ext cx="5184720" cy="127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учающ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ывающ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ориентирован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786120" y="3857760"/>
            <a:ext cx="5143680" cy="1512720"/>
          </a:xfrm>
          <a:prstGeom prst="rect">
            <a:avLst/>
          </a:prstGeom>
          <a:solidFill>
            <a:srgbClr val="d2fe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итарны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сотрудн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0" y="5418000"/>
            <a:ext cx="3814920" cy="1440000"/>
          </a:xfrm>
          <a:prstGeom prst="rightArrow">
            <a:avLst>
              <a:gd name="adj1" fmla="val 50000"/>
              <a:gd name="adj2" fmla="val 66231"/>
            </a:avLst>
          </a:prstGeom>
          <a:solidFill>
            <a:srgbClr val="d2fe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особенностям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786120" y="5429160"/>
            <a:ext cx="5184720" cy="127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дифференци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изации, коллектив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талог педагогических  технологи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42640"/>
            <a:ext cx="8640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едагогические технологии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на основе эффективности управления и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и дифференциации обуч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П.Беспалько, И.Н.Закатова, Б.Н.Новичков, Г.К.Селев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я разноуровневого обу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Д.Шадриков, А.С.Границкая, И.Унт, М.Н.Берулава, В.П.Беспаль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и коллективного взаимообуч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и индивидуализации обу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Г.Ривин, В.К.Дьячен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я программированного обуч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П.Беспаль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я модульного обуч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.Чошанов, П.И.Третьяков, Т.И.Шам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Times New Roman"/>
              </a:rPr>
              <a:t>Технологии групповой деятельности (групповые технологии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.К.Селевко, Н.Е.Щуркова, И.П.Иванов, В.В.Петрусинск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лог педагогических  технологий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2240" y="1341360"/>
            <a:ext cx="82674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ехнологии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хнологии развития творческих качеств лич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П.Волков,В.Д.Шадр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хнология КТ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П.Ив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хнология  ТРИЗ  (теория решения изобретательских задач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тшуллер Г.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хнология развития критического мыш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ир-Бек С.И., Муштавинская И.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2169"/>
                </a:solidFill>
                <a:latin typeface="Times New Roman"/>
              </a:rPr>
              <a:t>Технология «Портфоли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64396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алог педагогических  технологи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574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едтехнологии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а основе активизации и интенсификации деятельности обучаю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66"/>
                </a:solidFill>
                <a:latin typeface="Times New Roman"/>
              </a:rPr>
              <a:t>Технологии проблемного (исследовательского) обучени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Брушлинский А.В., Лернер И.Я., Скаткин М.Н., Матюшкин А.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66"/>
                </a:solidFill>
                <a:latin typeface="Times New Roman"/>
              </a:rPr>
              <a:t>Игровые технологии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ШацкийС.Т., УшинскийК.Д.,Эльконин Д.Б., Выготский Л.С. , Шмаков С.А. Газман О.С., Иванов И.П.,  Щуркова Н.Е, Селевко Г.К., АникееваН.П., Прутченков А.С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66"/>
                </a:solidFill>
                <a:latin typeface="Times New Roman"/>
              </a:rPr>
              <a:t>Технологии проектного обучения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Шамова Т.И., Третьяков П.И., СимоненкоВ.Д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66"/>
                </a:solidFill>
                <a:latin typeface="Times New Roman"/>
              </a:rPr>
              <a:t>Технологии интегрированного обучени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В.Н.Максимова, Г.Лозанов, Е.А.Быстров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Что такое проблемное обучение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86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ное обучение относится к активным технологиям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го основе лежит решение какой-либо задачи, проблемы, возникшей в той или иной  ситуации (от гр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задача, задание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ироком смысле проблема — это сложный теоретический и практический вопрос, требующий изучения, разрешения; в науке — противоречивая ситуация, выступающая в виде противоположных позиций в объяснении каких-либо явлений, объектов, процессов и требующая адекватной теории для ее разреш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туация — фр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положение, обстановка, совокупность обстоятельств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1" descr="j0149488"/>
          <p:cNvPicPr/>
          <p:nvPr/>
        </p:nvPicPr>
        <p:blipFill>
          <a:blip r:embed="rId1"/>
          <a:stretch/>
        </p:blipFill>
        <p:spPr>
          <a:xfrm>
            <a:off x="7451640" y="477720"/>
            <a:ext cx="149220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Как возникает проблема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а возникает на стыке известного (научного знания) и неизвестного, а не на уровне субъективного и научного зн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2" descr="j0234482"/>
          <p:cNvPicPr/>
          <p:nvPr/>
        </p:nvPicPr>
        <p:blipFill>
          <a:blip r:embed="rId1"/>
          <a:stretch/>
        </p:blipFill>
        <p:spPr>
          <a:xfrm>
            <a:off x="4730760" y="1916280"/>
            <a:ext cx="3889440" cy="311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j0237404"/>
          <p:cNvPicPr/>
          <p:nvPr/>
        </p:nvPicPr>
        <p:blipFill>
          <a:blip r:embed="rId2"/>
          <a:stretch/>
        </p:blipFill>
        <p:spPr>
          <a:xfrm>
            <a:off x="1547640" y="4579920"/>
            <a:ext cx="14781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12-20T10:58:38Z</dcterms:modified>
  <cp:revision>48</cp:revision>
  <dc:subject/>
  <dc:title>PowerPoint Presentation</dc:title>
</cp:coreProperties>
</file>