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BF7-2FBB-4340-9C84-4482DAB4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863-4D58-418B-A174-441942B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AEF-C141-4552-8D61-FC4F7FB1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B1F-0C77-49FB-AF87-60D7C8B2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F017-BF83-4481-9A31-8F46C82A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68A9-D076-4039-A38B-ABCA839D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C923-58FE-4656-8833-635356F7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E4B8-7159-4AD5-A662-DD5473D1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14A1-CD69-4B25-9874-7C3C9E26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532D-B5AA-4B0B-9207-0362DEFA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B4A7-FE93-45D0-ACB1-A89F71A5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6AD-4DC4-413A-A60E-F2A899CD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4435-0ECB-4C6F-93B9-DB8F7381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3A58-D065-46F2-98FD-92DA8899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E25D-095B-4A5B-B226-00488DA6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AD7D-F34B-4E95-B2AE-F4E530A6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E518-2CAD-4380-BE83-7CCC4639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43F-554E-429A-A760-A4664D2B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177-73E2-4437-B9D9-9387464B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FAB-AA47-4248-9FE8-881811ED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FEA-74E5-493E-9CBF-16D03AF7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B6E-8B65-416A-8449-607DA3F9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04C-91B7-4A5A-9F50-D61537AA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1E4-CCFD-49E6-ABEA-E947F368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35CF-12D5-4878-9BF6-601456AA734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075E-379A-407A-A7BE-3F9F30351AE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Урок-игра по роману А.С.Пушкина «Дубровский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344760" cy="453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67080" y="2514600"/>
            <a:ext cx="44960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В прозе Пушкина слов немного, но они так точны, что обозначают всё. В каждом слове бездна пространства. Каждое слово необъятно, как поэт"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Н.В. Гогол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 Он поднял голову, глаза его засверкали, он топнул ногою,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вдруг оттолкнул секретаря с такою силою, что тот упал». Назовите героя и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пизо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6. Что сделал Дубровский с покровскими мужиками, воровавшими у него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ес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7. По какому поводу был дан званый обед в поместье Троекурова, после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торого Дубровский ограбил Антона Пафнутьича?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8. Что делал мальчик, посыльный Дубровского, в саду Троекурова, по его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бственным словам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9. Чем была занята у окна Марья Кирилловна, когда получила вторую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писку от Дубровског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0. С какой целью Дубровский стремился попасть в дом Троекурова?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Задание №4. Исторические реал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Особенности лекси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«Накануне был отдан приказ псарям и стремянным быть готовыми к пяти часам ут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«Кирилла Петрович громко засмеялся при дерзком замечании своего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холопа». Кто такой холоп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 Чем занимается гувернёр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. Кто такой стряпчий? Где он работает?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. «На днях покровский пономарь сказал на крестинах у нашего старосты: полно вам гулять; вот ужо приберет вас к рукам Кирилла Петрович». Где служит пономарь? 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.Что такое купчая? 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документ на приобретённое, купленное имущество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7.Кем был по профессии у себя на родине настоящий Дефорж-француз?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8.-Так, видно, этот Кирилла Петрович у вас делает что хочет 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И вестимо, барин: заседателя, слышь, он и в грош не ставит, исправник у него на посылках» Кто такой исправник?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9.«Троекуров часто говаривал Дубровскому: «Слушай, брат, Андрей Гаврилович, коли в твоём Володьке будет путь, так отдам за него Машу; даром что он гол как сокол» Что обозначает выражение «гол как сокол»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0.«Не наше холопье дело разбирать барские воли, а, ей-богу, напрасно батюшка ваш пошёл на Кириллу Петровича, плетью обуха не перешибёшь» что значит пословица «плетью обуха не перешибёшь»?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1.«Соседи рады были угождать малейшим его прихотям; губернские чиновники трепетали при его имени; Кирилла Петрович принимал знаки подобострастия как надлежащую дань»… Что такое подобострастие?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2.«Несмотря на необыкновенную силу физических способностей, он раза два в неделю страдал от обжорства и каждый вечер бывал навеселе… С крестьянами и дворовыми обходился он строго и своенравно, но они тщеславились богатством и славою своего господина». Что значит тщеславились?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Задание №5. Узнайте героев романа по описанию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…в залу вошёл, насилу передвигая ноги, старик высокого роста,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бледный и худой, в халате и колпаке»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. Он лишился матери с малолетства и, почти не зная отца своего, был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ивезён в Петербург на восьмом году своего возраста»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. «Будучи расточителен и честолюбив, он позволял себе роскошные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ихоти, играл в карты и входил в долги, не заботясь о будущем…»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. Этот герой «…выказывал пороки человека необразованного», «привык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давать волю всем порывам пылкого нрава и всем затеям довольно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граниченного ума». «Надменный… с людьми самого высшего звания»,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с крестьянами и дворовыми обходился строго и своенравно» 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5. Маленький человечек в кожаном картузе и фризовой шинели вышел из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леги. О каком герое идёт речь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6. Ему «было около пятидесяти лет, но он казался гораздо старее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злишества всякого рода изнурили его здоровье и положил на нём свою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изгладимую печать.»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7. Кто в доме Троекурова между всеми отличался, танцевал более всех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е барышни выбирали его и находили, что с ним легко вальсировать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8. Фамилия Антона Пафнутьевича, который из-за страха перед Дубровским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ешил переночевать в комнате француза и был им же ограблен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Задание №6. Значение имен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мя этого героя в переводе с греческого обозначает «господин, владыка, повелитель», а отчество – скала, утёс, камень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мя этого героя в переводе с греческого обозначает мужественный, храбрый, а его отчество в переводе с древнееврейского – сильный муж или крепость. О ком идёт речь?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 №7. Звания геро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аком звании вышел из кадетского корпуса Владимир Дубровски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зовите чин Андрея Гавриловича Дубровского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аком чине вышел в отставку Кирилла Петрович Троекуров?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зовите титул героя по фамилии Верейский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Второстепенные персонаж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4960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мердинер Дубр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аб-лекарь в лазарете  больных собак Троеку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остная няня, ухаживавшая за Дубровским и написавшая письмо Владимир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арь Троеку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ар, единственный кистенёвский грамо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чер Дубр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ч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78120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о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015920"/>
            <a:ext cx="43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5486400"/>
            <a:ext cx="150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286000"/>
            <a:ext cx="180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4618080"/>
            <a:ext cx="119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4191120"/>
            <a:ext cx="150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3809880"/>
            <a:ext cx="317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22440" y="59436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1447920"/>
            <a:ext cx="66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96252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и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358128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ари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571500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ина Егоровна Бузырё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25780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мо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440064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х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120492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205740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гаф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2428E-006 L 0.00243 -0.46612 E">
                                      <p:cBhvr>
                                        <p:cTn id="29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2.02312E-006 L -3.05556E-006 0.46335 E">
                                      <p:cBhvr>
                                        <p:cTn id="29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-4.41258E-006 L -0.0033 0.59043 E">
                                      <p:cBhvr>
                                        <p:cTn id="29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46901E-006 L -0.0033 -0.58533 E">
                                      <p:cBhvr>
                                        <p:cTn id="29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4.73988E-006 L -0.00955 -0.53294 E">
                                      <p:cBhvr>
                                        <p:cTn id="300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8 2.02312E-006 L -0.00348 0.53295 E">
                                      <p:cBhvr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2948E-006 L 3.05556E-006 0.12208 E">
                                      <p:cBhvr>
                                        <p:cTn id="305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3.46821E-007 L -0.0033 -0.11931 E">
                                      <p:cBhvr>
                                        <p:cTn id="30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дание №9. Дворянские усадьб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называется деревня Троекурова?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называется деревня Дубровского?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называлось имение князя Верейского?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Он ехал берегом широкого озера, из которого вытекала речка и вдали извивалась между холмами; на одном из них над густою зеленью рощи возвышалась зелёная кровля и бельведер огромного каменного дома; на другом – пятиглавая церковь и старинная колокольня». Назовите имение.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дание №10. «Дубровский» в цифр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олько душ крестьян было у Дубровского?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олько кошек было в загоревшейся усадьбе Дубровского?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олько денег предложил Дубровский Дефоржу за его документы?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олько денег послала Анна Савишна Глобова своему сыну?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олько лет было Владимиру Дубровскому по полицейскому описанию?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олько душ крепостных крестьян было у князя Верейского?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Восстановите последовательность эпизодов в романе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28600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екуровы в гостях у  князя Верей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098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ора Дубровского и Троеку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33412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ороны Андрея Гавриловича Дубр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6668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о Маши князю Верей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5238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д у Троеку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42900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ровский останавливает карету князя Верей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57200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04812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ша прячет кольцо в дуп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571500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свидание Маши и Дубр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19112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Троекурова воруют лес в роще Дубр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49528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ение В.Дубровского в родную Кистенё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2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2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 №11. Музыкальные вопро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ую песню постоянно насвистывает Троекуров?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каком музыкальном инструменте играла Марья Кирилловна?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Конкурс 12 – конкурс литературоведо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по 2 балла). Назовите троп, представленный в отрывк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«Сильно чувствовал он своё одиночество. Будущее для него являлось покрытым грозными тучами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«Как лёгкая тень, молодая красавица приблизилась к месту назначенного свидания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Она чувствовала холодный поцелуй немилого супруга…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…ручеёк извивался молча около деревьев, полуобнажённых осенью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Удались от зла и сотвори благо…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 №13. Творческие 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думайте название газете, которая бы выходила в губернском городе, и напишите заметку о розыске молодого разбойника Владимира Дубровского 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до 5 балл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гадайте с помощью жестов и мимики эпизод из романа «Дубровский» 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до 5 балл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Picture 14" descr="1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76640" y="304920"/>
            <a:ext cx="48355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14600" y="270000"/>
            <a:ext cx="401940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324000"/>
            <a:ext cx="731520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1629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36600"/>
            <a:ext cx="678168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Задание №3 О каких сценах, событиях идёт речь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. «Он шёл не разбирая дороги; сучья поминутно задевали и царапали его,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ги его поминутно вязли в болоте, он ничего не замечал.» О каком герое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дёт речь? В какой момент он так изображается?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 «…ужасное смятение изобразилось на лице его; багровый румянец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ступил место обыкновенной бледности, глаза засверкали, он произносил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внятные звуки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. Что сделал Троекуров, когда Шабашкин явился к нему с поклоном и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дравлениями в связи с приобретением имения Дубровского?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4. Дубровский был отменно сердит, прежде сего никогда люди Троекурова,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звестные разбойники, не осмеливались шалить в пределах его владений».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 что сердит Дубровский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756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6-11-08T13:28:5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