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2D50-5740-4313-B3DB-DCFB48D3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519-919B-4997-9E7C-AE6D819B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2BAE0-741C-4C1B-A4A6-C9C1FB7A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695E5C-7267-4E53-BE53-D95DDBDA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E6BD95-A776-4195-A1C1-F2F3E4AF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C94FC-286A-4755-AF78-2DFCB7C2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8D5A3-10FE-47B9-9E23-94516CC6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C0BB31-8ABC-41B1-878B-CBEC175B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60297-AA08-4AE4-8B02-0375EE4D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BCDD0-BCEF-43D5-B543-2A8B15CD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5BA80-4D4C-41A0-9A90-14B4B469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72F7E-08B2-4663-A63A-5655A25D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678-8885-4368-9CB2-B13B7BF6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3034D-25C7-46EB-8BF3-75795F8B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66222A-D413-409E-9B19-6BC46B83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3B3264-19B7-4A88-90A4-B8425AB0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94DAE-7702-4A1C-BA46-BA141474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CE9AB-1725-4D7A-B688-DADA5967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AC0AF-B1BE-4610-B3CA-E78BF3EE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14106C-875C-4062-BD75-CE88B580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5ED75-C4F4-42D5-AD05-71ACFC2D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99A331-C041-4A20-B3A8-01663917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A9282-EC98-44FF-80A4-346812B5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7E1-E31E-47FD-9187-F2F1C649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51FE4F-122B-49B4-8378-B5EF9EE4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6D71F-97D3-43FB-A9F6-FB010142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40233-7C6A-4E05-901D-40AAB912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DE2F2-4236-41BE-A197-94C70936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D65D1-9235-44E5-9CC7-09D9110D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B7835-83F4-4410-955C-60342F8E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146D6-7B32-4342-8B42-CD702CB7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DC7DE-DECA-4F49-8962-A311E66B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E4911-40A4-4D08-A39B-03F94962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EDE9A-C279-4E0C-ADC9-38FE6415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AEF4-F210-47E1-9A4D-DE9D3913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217C5-F044-47A6-8EEA-EC0B71E2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464DD-714C-4236-A2C4-15E6DC17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A93B4-B3AD-45BF-83B7-EBA73B6B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AE646-A601-4ECB-A20B-B46F4D6D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6563BB-C134-4C8B-B0E7-5652137E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0AB2F4-FDB2-4414-A2AF-CCCA79AD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4985D-C479-45E5-B988-77466C8D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A1E76-9607-4633-A439-A79599BE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32297F-2E46-4D0B-9F20-06470C6C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2FEAB2-5EA5-41C4-9C5D-EB08F140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0794-68FF-481A-BCD6-7F03BFFF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D6A6BF-3CF1-40EE-903D-AFEFDCBA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BEA96C-4EE6-42C2-8DB6-26B50A1F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9C9514-8937-4856-8822-46F7A7FA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4CC705-2EAD-47EB-9F34-51C62C33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B1FC6-61FE-480B-95BF-D82AF276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E7F6-A23B-445C-BC1A-12E950D0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A712-54A5-4A01-B7B0-66781B3C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98BC-7E14-4480-A707-504BD471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4233-95C7-4530-88B2-497018A9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75FF-9732-4420-9207-0DCBB3B1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26AD-97FB-4667-A4E3-A7469B5A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B811-CBFC-4288-A6EE-86EEE251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6425-5B76-4AF5-99AB-78BF05DC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409D-2B0E-4F27-8D4D-BCC00AC4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13BD-8F93-4C48-B9CF-258E3936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73CB-0EDA-42C4-8D14-288AC9F7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071A3-AF75-443D-9DBB-E38EB3AD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F31DC-FDCF-4551-BEB2-45AAB0AD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A6E2A-57B3-43A0-99A1-9D15D6FF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3DAE9-AEA4-40F3-9097-6AC521F8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B7B11-4CC8-4831-BDC0-149CE313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64A-10C4-4102-B656-11C014D4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12A94-4D41-4BCC-903D-2B2A4DAA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B5AED-47B4-459E-94B6-37772BB8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1F2C0-9C87-4F97-986B-01CDF3AA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280D6-9F89-41EF-8A1F-BA4E0F76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CFEA5-4961-43FE-A954-021BF813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2F5A8-EA30-430C-87EC-8E143C77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938AE-F383-4CD6-821B-335CC118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0FA14-98C7-416B-A0C4-C1AFB094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1F8C8-63F3-4DC0-8ACA-69775676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6A594-F860-4B6E-A01D-A6C5C967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CB3-8A91-4BDA-B29B-577B6A58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5BA49-F155-4140-8A95-11BB1998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CA95B-9F7E-4AC0-ADEF-19A32B05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71D67-DE2E-48BF-AD5D-EA5AEB0F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7A7C9-3AC6-4539-9166-D98C20C6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206A2-AEE9-43F0-9E8A-9EE9CCA4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7A4FE-F17E-4E14-A514-AC5FA5F5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80B1E-67FA-4983-9701-A7634B79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E8924-1552-4F95-96FF-48A36EC2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0DA67-9944-4354-A068-4D323ED1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C81E1-826C-4899-B316-94D12D9F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A1C8-3553-4130-B602-B83899E3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F563F-46A7-4DBE-913A-58D7FA13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8C06D-866B-4AB3-BC19-1AB9D92F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6280F-AE63-418D-BA51-F81C75AA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7DBAB-A473-4B19-A997-EBDF6CFE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4B187-90FD-4840-9B4A-A3E9549F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2A1E3-4A07-41D6-A8F0-086A4913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FD29A-CC80-4CAC-8357-E3671618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95297-C6BD-44F2-839C-71CF77AB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D1610-5468-4809-A565-F11D699C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A25DF-27AF-4F5F-9CA7-584B76C5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156D-8BB9-4687-94E2-56917774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8ACCE-152C-4236-8A37-33E55373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DB2A8-C5C2-458F-BC8C-33FA70CC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8CEAB-D2C7-4C15-B8F4-85CF4471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67EC3-9DC1-4B9F-B193-86E76442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70265-D06D-4314-83AF-F153D377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D269E-0D35-4424-8F80-B3C53FF8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3BA75-38DD-4920-B56D-328B2892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4026E-50F0-4807-AFBA-BB1BE8D2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5C5C0-7964-4FF7-BC11-130D1751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B1D45-CE8E-481A-AE7F-36969931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D260-2B7F-4B08-983F-4F9E18C7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84F9C-CEC2-4EBB-8558-4BDD1971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D0EA5-0BD0-43E9-86D7-8ECADC75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7D260-04AE-4BA6-B8AB-BE312F27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B020E-9467-450A-9C05-3001EFF6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548CF-7275-4AFB-888F-58694C89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A8EFC-6CF5-458D-8462-FBAC9A8A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1487D-1DAB-4963-80A8-05B336F7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8CCE0-EAC3-4738-A44D-172B71DC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09BD1-A493-402D-958C-B9A31DAC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EF191-068C-4C74-B10D-BAD64671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DE1-F3CF-4C43-81E3-8CE0DD4F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CCCA3-54DF-44BD-8255-AA5A22A4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12305-26E8-471F-B14A-57FAF641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143A8-1544-4324-A42B-8AE69A09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96263-3A07-4E19-916E-5BF4A555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25504-A680-4F0E-B995-235B46DF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DBE63-8F68-44E4-B973-7BFC278E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6DE35-C644-407C-9D00-87D7011B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4BBCB-AE6B-44E0-A7A2-A0EEB926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D3A3F-60DD-4F91-A779-3F4EE24A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AE3B4-BC70-4DEB-8A6D-7CE95837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9BD3-4683-4CF3-8C09-F2A2CFDB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ECF4B-4E87-41F1-99A5-18546DEA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E404B-B4B5-40EF-A8FC-D25CDE6D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885B3-A0A9-49EC-935A-F8CFC421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12E25-58BE-4FB3-B0B8-1AA9D181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FDB9E-78C1-48C0-9CEF-CBCEA68B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28A73-2BCF-4C0D-998D-C5DDED79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79347-6BE1-4982-9ABF-76FC9DA8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B49861-A4CF-487C-8E04-0BCB4CF7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888AA-C2EC-489F-B08D-B0B9C8D0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7DFFD-1AE5-4418-A048-AD71E340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46B7-854C-46FA-A776-E7D3E224E30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FD41-E204-4616-BE1A-850D5813EA0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402A-50FA-4B48-98BB-0B109EC74EF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8FC8-56A4-4647-BEFD-11DDA1D0E6B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B206-9462-4A46-8ECD-441868DB33A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7B88-278A-4419-83F8-5A708435622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F2AA-DB79-4DB0-A022-99E2EC7070C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9EEF-4C87-459C-9525-0803566FACF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78B4-232D-4943-92D6-10393EFDBFF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5D9D-891C-4B76-8121-F74733C8195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D0EC-3CDC-4EC6-9B4B-E81D88095F40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12FC-B0FC-47E6-9E35-CF7F18AA803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403280" y="1844280"/>
            <a:ext cx="64008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Эпидемический паротит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2" descr="C:\Users\TOUS\Desktop\паротит\t4_2056453.jpg"/>
          <p:cNvPicPr/>
          <p:nvPr/>
        </p:nvPicPr>
        <p:blipFill>
          <a:blip r:embed="rId1"/>
          <a:stretch/>
        </p:blipFill>
        <p:spPr>
          <a:xfrm>
            <a:off x="2714760" y="2428920"/>
            <a:ext cx="407196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Дие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213840" y="16430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Рекомендуется употреблять молочно – растительную, богатую витаминами пищу. От приема жиров и углеводов, из-за опасности возникновения панкреатита, следует временно отказаться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рофилактика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Изоляция дома или госпитализация (по показаниям) в инфекционное отделение больницы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рок изоляции - 9 дней от начала клинических проявлений заболевания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Детей, которые были в контакте с больными и ранее не болевших эпидемическим паротитом изолируют на 21 день, а при точном установлении времени контакта дети в первые 10 дней инкубации допускаются в детские учреждения, а с 11 по 21 день - изолируют от других детей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рофилакти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 целью предупреждения распространения заболевания применяется активная иммунизация детей противопаротитной вакцино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2160" y="113040"/>
            <a:ext cx="2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2b4c"/>
                </a:solidFill>
                <a:latin typeface="Calibri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4" descr="C:\Users\Пользователь\Desktop\img_10259.jpg"/>
          <p:cNvPicPr/>
          <p:nvPr/>
        </p:nvPicPr>
        <p:blipFill>
          <a:blip r:embed="rId1"/>
          <a:stretch/>
        </p:blipFill>
        <p:spPr>
          <a:xfrm>
            <a:off x="5286240" y="2857680"/>
            <a:ext cx="29289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Осложн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ражения нервной системы (менингит, энцефалит, невриты и др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рхит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болевания желудочно - кишечного тракта (панкреатит )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рганов дыхания (пневмонии)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ердечно - сосудистой системы, органов зрения, слух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Спасибо за вним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2" name="Picture 2" descr="C:\Users\Пользователь\Desktop\hugepig-1.png"/>
          <p:cNvPicPr/>
          <p:nvPr/>
        </p:nvPicPr>
        <p:blipFill>
          <a:blip r:embed="rId1"/>
          <a:stretch/>
        </p:blipFill>
        <p:spPr>
          <a:xfrm>
            <a:off x="285840" y="1571760"/>
            <a:ext cx="85723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Эпидемический паротит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строе контагиозное инфекционное заболевание, протекающее эпидемически, с характерной локализацией в слюнных железах, главным образом околоушной («заушница»)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Picture 2" descr="C:\Users\TOUS\Desktop\паротит\uchr_08_img0867.jpg"/>
          <p:cNvPicPr/>
          <p:nvPr/>
        </p:nvPicPr>
        <p:blipFill>
          <a:blip r:embed="rId1"/>
          <a:stretch/>
        </p:blipFill>
        <p:spPr>
          <a:xfrm>
            <a:off x="2000160" y="3286080"/>
            <a:ext cx="524988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Возбудитель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ильтрирующийся вирус из группы РНК-                 геномных вирусов, род Paramyxovim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(впервые был выделен в 1934 г. Джонсоном и Э.       Гудпасчером)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2" descr="C:\Users\TOUS\Desktop\паротит\rriverphoto.jpg"/>
          <p:cNvPicPr/>
          <p:nvPr/>
        </p:nvPicPr>
        <p:blipFill>
          <a:blip r:embed="rId1"/>
          <a:stretch/>
        </p:blipFill>
        <p:spPr>
          <a:xfrm>
            <a:off x="285840" y="2357280"/>
            <a:ext cx="3143160" cy="22860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" descr="C:\Users\Пользователь\Desktop\ViralStructure.gif"/>
          <p:cNvPicPr/>
          <p:nvPr/>
        </p:nvPicPr>
        <p:blipFill>
          <a:blip r:embed="rId2"/>
          <a:stretch/>
        </p:blipFill>
        <p:spPr>
          <a:xfrm>
            <a:off x="3857760" y="2428920"/>
            <a:ext cx="4572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ути передачи и инкубационный период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оздушно-капельны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нкубационный период   11 - 23 дней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2" descr="C:\Users\TOUS\Desktop\паротит\parotit.jpg"/>
          <p:cNvPicPr/>
          <p:nvPr/>
        </p:nvPicPr>
        <p:blipFill>
          <a:blip r:embed="rId1"/>
          <a:stretch/>
        </p:blipFill>
        <p:spPr>
          <a:xfrm>
            <a:off x="2143080" y="3071880"/>
            <a:ext cx="4786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Форм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Легка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редней тяжести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яжела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ыделяют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еосложненные и осложненные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линические формы течения процесс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2" descr="C:\Users\Пользователь\Desktop\DSCF0496.JPG"/>
          <p:cNvPicPr/>
          <p:nvPr/>
        </p:nvPicPr>
        <p:blipFill>
          <a:blip r:embed="rId1"/>
          <a:stretch/>
        </p:blipFill>
        <p:spPr>
          <a:xfrm>
            <a:off x="1928880" y="4071960"/>
            <a:ext cx="4572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Клини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величивается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на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желез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вышение температуры тела до 39 градус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нижение температуры тел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рез 1-2 дня припухает вторая желез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емпература тела вновь поднимает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оль в припухших железа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имптомы интоксик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оль при жевании, разговор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5" name="Picture 2" descr="C:\Users\Пользователь\Desktop\1284675624_1365367.jpg"/>
          <p:cNvPicPr/>
          <p:nvPr/>
        </p:nvPicPr>
        <p:blipFill>
          <a:blip r:embed="rId1"/>
          <a:stretch/>
        </p:blipFill>
        <p:spPr>
          <a:xfrm>
            <a:off x="3214800" y="1857240"/>
            <a:ext cx="29620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Симптом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симптом Хетчкока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(Hatchcock) - болезненность при надавливании в области угла нижней-челюст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симптом Тресильяна - Мурсона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(Tresilian - Mourson) - гиперемированная кайма слизистой оболочки вокруг устья выводного протока околоушной железы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ече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имптоматическое: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облюдение постельного режима на срок от 7 до 10 дней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частые полоскания полости рта для ее очищения от пищи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тепловые повязки на пораженную область (согревающие компрессы, ватно - марлевые повязки и др.)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тепловые процедуры (УВЧ- терапия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анальгетики по необходимости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отказ от приема жиров и углеводов, из-за опасности возникновения панкреатита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при нагноении - вскрытие гнойного очага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15:19:52Z</dcterms:created>
  <dc:creator>TOUS</dc:creator>
  <dc:description/>
  <dc:language>en-US</dc:language>
  <cp:lastModifiedBy>Влад</cp:lastModifiedBy>
  <dcterms:modified xsi:type="dcterms:W3CDTF">2016-12-02T02:15:42Z</dcterms:modified>
  <cp:revision>27</cp:revision>
  <dc:subject/>
  <dc:title>Эпидемический паротит</dc:title>
</cp:coreProperties>
</file>