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A55-59EA-4209-B61A-18BF7BDE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1F8-7C9E-4C0C-8576-3BFF464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81A84-9651-47EF-95E3-2A227CB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7ACF2-7473-4D1C-94F7-6B148AB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EF116-DFF2-4922-BE0C-5838D781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57DA4-9621-429E-8B36-2F43D2E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5489C-166B-46FD-B85C-34C0AA8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D92E1-1C3E-4207-8622-F2A1DD3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1799-BE0E-4981-976D-5E1E401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D5B38-6E6B-44B2-8664-B9C61F0C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BC91C-BD98-4000-93FA-3DD9B508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C96A2-8ADB-48C5-BA25-DBD1CDD7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447-A156-46C8-ADA7-AC420E47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C05FA-10CF-4E9D-B80F-B117993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71262-AEEE-443E-8704-002BC2B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66E14-B323-49A3-A44B-EC59F83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4F746-5239-4BF1-9225-FE0B2031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19875-F755-4400-9E06-42151D9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A84BD-000D-4DA2-A58E-B21B749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131E-C6D1-417C-9275-A196237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0AFA6-1E7E-432F-9F8A-93A9675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F512C-BA92-4522-BD2E-F9840F9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74153-0D92-4B65-980B-32CC08FA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880-2368-4404-A5FF-09912874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5659D-CE97-4E6E-8013-21CC439B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CFF3-ECE9-4FE6-90E8-0663C0CB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1FFC2-2DBC-41D8-9113-13281FF8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476E8-823E-461B-A901-88694B1D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70F38-2414-407C-958F-57EEA5E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30AF-589C-4465-B53D-2B09ACD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22ED8-0024-4ADF-8E57-8FFC332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29CC9-F2CF-4FD7-A0E5-3535676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5049C-A8DF-4F9D-B6C2-0778A69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D1C52-B052-4C7A-BBFF-5B17C04D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7767-DAB0-47EA-808E-F7046115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A9A23-ED6C-43FA-96E5-BBE2491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2FF8F-48B3-4509-9AB0-FC5CAC85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D36CC-4C3C-4916-8DC4-BD6020EE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7AA8-B83F-4B36-A8CA-4B1FF4CB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1605A-8076-4948-9BB5-7D6C8D4F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F815E-BDD1-42BA-8262-16C5A4C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1B294-B298-435F-BFF9-959E4100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B4816-3C29-4418-9386-46EE7A50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E4347-A73E-4DA7-8722-A5848B81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2DBE3-57F4-4FC3-A81B-D4AD927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F75E-B735-4CF8-85EB-532848A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547D8-3764-4FC4-9563-D35FF01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1CF2-29C7-4218-9180-D879170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BBDB9-C758-46F8-B1AB-84EE7C7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E0F68-775E-4F97-BBC6-DED68925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9CBED-DB2D-4485-B82D-20BCFB70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5E4-8747-4CA6-BC05-737BB500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4706-A603-4838-95AF-2E70DE8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85C-1114-45A3-A222-91660A2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4CCC-7FEF-41EF-891E-18C4601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ABB1-31C9-4055-8A26-FB4C1AE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761-CBB3-40A6-9805-8652BF4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B249-6E29-4AA4-BBF2-7CD60CDC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4F8-1324-4D38-95D8-016A560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7929-FE1C-4C55-BE48-F904A447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5A5F-7061-4C08-A213-F50CF32B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A576-9C41-4DC0-9EAA-CA866EB9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0381-52F8-4BFA-A29B-D1CA6795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8331-C610-4247-9731-044F9A71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2CE5-F563-4ACE-93C1-150C4993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AB3B-1C3E-43C3-9EFF-B274F79D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9948-9FD3-4166-81E5-2FF9FCBC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5FE-44FD-46E3-9986-2B296944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A8DB-CEB3-414E-AF56-4BFB9AE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47B6-B0C2-4DD0-82AF-D53DD00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A2C7-5B24-4863-B814-5F23B541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0718-8BB7-4767-97C2-0C12BA8A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5ECE-8C25-44EF-ABD7-8F91DB22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D6FE-614C-4162-9E95-4B4772C5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ED83-D639-4A21-8655-954FA1BF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EB2C-0921-44CA-862E-5129C262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4296-7715-4222-AEF0-7F79E40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E50D-08D5-41AE-A235-9D2DD5FA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39E-1F97-4B82-9B01-D368FCB8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325C-8734-4EF5-9DB6-8F6767B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1832-4B2B-486C-9AE9-F1563D53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BD91-6447-4EA3-9942-AFFC543B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553D-5CAF-4386-A083-79E75B2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0A27-70E8-4B53-8677-2E0D6065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092F-6685-46D6-8BC0-433A633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AF8E-E848-49FB-816F-AA0D65C1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FF14-025F-4A7A-A52A-E6D1DC4F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EB08-F374-435E-BC8F-2D3F63D4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32CF-A3A3-476E-A253-7F6F10C5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14E-689C-47A3-A63A-EAD2A73A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1CF6-4336-4DC3-BA66-C7AB35F7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1ECD7-3621-4779-BB8B-19EB092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8DD17-65DE-4672-ADE8-00F3FCB8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327E-6210-419B-98C0-9E886D24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1AD1-E980-43EA-B78A-D613FD1F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1582-9921-4DB2-BA26-1FE7650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63C6-DFB8-4037-B807-444B4E5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E0438-245E-4DD7-AC63-663A8CD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A832-D0C5-498D-B8AA-A861794E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92D9E-9F9F-4376-93D9-F477B038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62D-577D-46F3-8DCC-C9BC73EB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BC1C-E760-40F5-BE65-1DC060DC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137F-D5DF-4963-B8B8-AD259699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0DCE-74AC-4965-80F4-6E5BFFB6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AFA7-24E6-43D8-A79E-E5D26344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45DF-B88F-469E-A83B-81AADE2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524D-207B-4374-916E-B3A7A44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CC5F-5F30-43F5-B1B3-8FAF627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5676-77C6-4ADC-B4DE-B5ACBAB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8B91-0022-4CB2-B0C2-C9B59BF9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7F299-222F-4BA7-A7E1-D182CAE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1E3-3EC1-4558-A425-492E725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1D4A-996E-4582-8021-D256EA14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DDF3-27B9-4203-BBC7-23CFC97C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01B15-CFDF-4290-8A03-6A7C2121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AD3D-BB26-4AAE-ABAE-065262FE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B24AF-B843-4781-8E12-C8A34537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7F03-3125-4274-BF11-CC9151EE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6BF0-C0B0-44B6-AE76-14A731C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5F019-5265-4FF1-B546-9D03E151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E2AD-4DD0-48EF-BA40-938FC5A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5901-F1D0-41A5-9D6B-6BC36080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60E-7258-4F31-9162-FB33CFF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5FBD-3846-4C2D-981B-67994C4F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8849D-D335-4A7B-BC2D-0BC8326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9DAA-BA47-4BDF-90BB-E126C36A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E9F79-909C-4225-B9DB-3E6735A3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CF85-B799-49A4-8BCF-66E24E7F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60CE-1FD3-41C3-9696-F0E68C55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E70A-20D7-493F-A649-E6471042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13207-8EB7-44EC-AF43-70C2CD16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4350-B5E4-4B31-95C9-B4ACF16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C58A-78FD-41F6-95C1-8CDAA074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6A8-2863-421A-BB58-4C98B1C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5F51-9F08-4929-A707-2932D040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B287-0673-4E84-9617-CAC9251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73EF-2DF3-428C-8242-AB8D575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FFBE-3332-45A1-8526-E82F6F2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C1D35-D0D6-4E9A-8A00-A37275B4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06F54-6E0F-485D-AAA2-D0D90BBF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DF8D-8EEC-4AE8-9BCA-55711180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5138C-8EC0-435B-B075-994C6E6C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E078E-B52D-451B-BD4D-B8A03EA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963D3-BF0F-4BB7-8B28-23CE7016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1F0-FA93-4A9D-96BF-960E30B1DE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86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7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7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7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8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0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1A4-8A52-4B38-97D9-9E0CF7F911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6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96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6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6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6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7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8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8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0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073-6FDD-4536-B0DF-44D5D7A71A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6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0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850-0FEE-425D-971E-0AAEC901560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056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584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FAB4-8853-4CFA-B832-76C0650A6F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6AA1-DFBE-4223-B6BB-83B6E81D0A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9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E340-9638-4B0F-8D93-B1B19495FB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8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9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0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0A7-0476-4792-988B-721C4FF880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8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8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9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0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5CE-5E32-4FAC-A135-BC8BBCDA56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8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7A8-CBA4-415F-AEA6-A6838A51D3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7C5-DD33-4388-9EEF-B2DE5D827C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6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7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7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7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7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8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9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9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1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D0C-52C2-4BFE-B2E8-4A0ECC09D8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13840" y="4785840"/>
            <a:ext cx="7572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Elephant"/>
              </a:rPr>
              <a:t>С  ЛЮБОВЬЮ</a:t>
            </a:r>
            <a:br>
              <a:rPr sz="6600"/>
            </a:br>
            <a:r>
              <a:rPr b="1" i="1" lang="ru-RU" sz="6600" spc="-1" strike="noStrike">
                <a:solidFill>
                  <a:srgbClr val="c00000"/>
                </a:solidFill>
                <a:latin typeface="Elephant"/>
              </a:rPr>
              <a:t>К ЖЕНЩИНЕ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53" name="Picture 5" descr="11"/>
          <p:cNvPicPr/>
          <p:nvPr/>
        </p:nvPicPr>
        <p:blipFill>
          <a:blip r:embed="rId1"/>
          <a:stretch/>
        </p:blipFill>
        <p:spPr>
          <a:xfrm>
            <a:off x="108000" y="115920"/>
            <a:ext cx="7704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3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О, руки женщины земной,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Вы под любой звездой и небом 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Цветами пахнете весной,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Зимою – снегом, летом – хлебом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Будь свята женщины рука,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В которой скрыта неизменно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Боль долгая во все века,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И радость, что всегда мгновенн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В тебе сокрыт беззвучный звук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Всех песен счастья и несчастья.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Будь свята слабость женских рук,</a:t>
            </a: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Неограниченность их власти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: Кайсын Кулиев)</a:t>
            </a: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24360" y="260280"/>
            <a:ext cx="73436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Любовь к женщине – огромная, непобедимая сила. Именно эта любовь заставляла солдат выживать   в   суровые   военные годы.   Она придавала  силы  смертельно раненым. Она 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звала к Победе. Она звала домой.           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вучит фонограмма песни «Огонёк»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50c01"/>
                </a:solidFill>
                <a:latin typeface="Arial"/>
              </a:rPr>
              <a:t>«Любимой с фронта в первый год войны»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йсын Кулиев</a:t>
            </a:r>
            <a:br>
              <a:rPr sz="20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Огромный простор, разлучивший нас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Заливает кровью война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Разлив морей, разделивших нас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Застилает дымкой о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По трудным дорогам войны ты шла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ут же рядом, вместе со мной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не имя твоё, что струя тепла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В зимнем мраке тоски ночной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.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4772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а войне забывают любовь свою»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Лжёт, кто эти слова сказал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от, кто так сказал, не бывал в бою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икогда не воев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оя просьба к судьбе так мала: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Полчаса бы побыть с тобой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Полчаса бы судьба мне дала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еловек, будь услышан судьбо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А потом я под пули готов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не ни раны, не смерть не страшны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о не слышит судьба моих слов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ы с тобою разлучены…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втор: Кайсын Кулиев)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чит песня «Тёмная ночь»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559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О любви  к  женщине  можно  говорить бесконечно. И, несомненно, счастливы те, кто научился ценить и  оберегать  от  всех  невзгод  и  несчастий своих любимых, матерей.                                                                                                                                     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онограмма романса «Любовь и разлука»)</a:t>
            </a:r>
            <a:br>
              <a:rPr sz="20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     </a:t>
            </a:r>
            <a:br>
              <a:rPr sz="28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68" name="Picture 7" descr="C:\Documents and Settings\Галя\Рабочий стол\+ФОТО\slide-1.jpg"/>
          <p:cNvPicPr/>
          <p:nvPr/>
        </p:nvPicPr>
        <p:blipFill>
          <a:blip r:embed="rId1"/>
          <a:stretch/>
        </p:blipFill>
        <p:spPr>
          <a:xfrm>
            <a:off x="324000" y="2133720"/>
            <a:ext cx="71276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0c01"/>
                </a:solidFill>
                <a:latin typeface="Arial"/>
              </a:rPr>
              <a:t>«Человек, на котором держится дом – это мама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ae5b1"/>
                </a:solidFill>
                <a:latin typeface="Arial"/>
              </a:rPr>
              <a:t>«Мать является душой мира, её началом и бесконечностью»</a:t>
            </a:r>
            <a:br>
              <a:rPr sz="4000"/>
            </a:br>
            <a:r>
              <a:rPr b="0" lang="ru-RU" sz="4000" spc="-1" strike="noStrike">
                <a:solidFill>
                  <a:srgbClr val="fae5b1"/>
                </a:solidFill>
                <a:latin typeface="Arial"/>
              </a:rPr>
              <a:t>                            Р.Гамзат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70" name="Picture 5" descr="7"/>
          <p:cNvPicPr/>
          <p:nvPr/>
        </p:nvPicPr>
        <p:blipFill>
          <a:blip r:embed="rId1"/>
          <a:stretch/>
        </p:blipFill>
        <p:spPr>
          <a:xfrm>
            <a:off x="1500120" y="157176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950c01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950c01"/>
                </a:solidFill>
                <a:latin typeface="Arial"/>
              </a:rPr>
              <a:t>Человек, на котором держится дом</a:t>
            </a:r>
            <a:r>
              <a:rPr b="0" i="1" lang="ru-RU" sz="4000" spc="-1" strike="noStrike">
                <a:solidFill>
                  <a:srgbClr val="950c01"/>
                </a:solidFill>
                <a:latin typeface="Arial"/>
              </a:rPr>
              <a:t>»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2" name="Прямоугольник 2"/>
          <p:cNvSpPr/>
          <p:nvPr/>
        </p:nvSpPr>
        <p:spPr>
          <a:xfrm>
            <a:off x="468360" y="112536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Пётр Градов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Отшумит и умчится любая беда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Как весенней порою грохочущий гром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Если с вами она, если рядом всегда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еловек, на котором держится до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ожет 33 ей, иль 73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Сколько б ни было ей, возраст тут ни причём: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В беспокойстве, в делах от зари до зари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еловек, на котором держится дом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800" spc="-1" strike="noStrike">
                <a:solidFill>
                  <a:srgbClr val="950c01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950c01"/>
                </a:solidFill>
                <a:latin typeface="Arial"/>
              </a:rPr>
              <a:t>Человек, на котором держится дом</a:t>
            </a:r>
            <a:r>
              <a:rPr b="0" i="1" lang="ru-RU" sz="2800" spc="-1" strike="noStrike">
                <a:solidFill>
                  <a:srgbClr val="950c01"/>
                </a:solidFill>
                <a:latin typeface="Arial"/>
              </a:rPr>
              <a:t>» </a:t>
            </a:r>
            <a:br>
              <a:rPr sz="28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Очень редко, но всё же бывает больна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И тогда всё кругом кувырком, кверху дном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Потому что она, потому что она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еловек, на котором держится д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ас куда – то уносит стремительный век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В суете мы порой забываем о том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то она не фундамент, что она – человек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а котором держится д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тобы было и в сердце, и в доме светло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а её доброту отвечайте добром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Пусть всегда ощущает любовь и тепло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Человек, на котором держится дом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Пётр Градов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чит песня « Поговори со мною, мама»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50c01"/>
                </a:solidFill>
                <a:latin typeface="Arial"/>
              </a:rPr>
              <a:t>Человек, на котором держится дом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75" name="Picture 2" descr="C:\Documents and Settings\Галя\Рабочий стол\+ФОТО\njmsREHXlElSucB-800x450-noPad.jpg"/>
          <p:cNvPicPr/>
          <p:nvPr/>
        </p:nvPicPr>
        <p:blipFill>
          <a:blip r:embed="rId1"/>
          <a:stretch/>
        </p:blipFill>
        <p:spPr>
          <a:xfrm>
            <a:off x="108000" y="170028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681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950c01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950c01"/>
                </a:solidFill>
                <a:latin typeface="Arial"/>
              </a:rPr>
              <a:t>Человек, на котором держится дом</a:t>
            </a:r>
            <a:r>
              <a:rPr b="1" i="1" lang="ru-RU" sz="2400" spc="-1" strike="noStrike">
                <a:solidFill>
                  <a:srgbClr val="950c01"/>
                </a:solidFill>
                <a:latin typeface="Arial"/>
              </a:rPr>
              <a:t>»…</a:t>
            </a:r>
            <a:br>
              <a:rPr sz="2400"/>
            </a:br>
            <a:r>
              <a:rPr b="0" i="1" lang="ru-RU" sz="2400" spc="-1" strike="noStrike">
                <a:solidFill>
                  <a:srgbClr val="950c01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Конечно, строки этого стихотворения подчёркивают высокое предназначение женщины – быть хранительницей домашнего очага.                             А очаг– это огонь, символизирующий семейное благополучи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Каждая девочка, девушка мечтает любить и быть любимой. Это естественно. Придёт время и вы станете чьей-то песней, музой, и ваш долг будет - 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разделить  с мужем все радости и сложности жизни, одаривать добром, щедростью души, вечным светом своего мужа и де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Выступление матери 7 детей Цыганковой Г. П. о секретах её семейного счастья, счастья материнств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9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ae5b1"/>
                </a:solidFill>
                <a:latin typeface="Arial"/>
              </a:rPr>
              <a:t>« </a:t>
            </a:r>
            <a:r>
              <a:rPr b="1" i="1" lang="ru-RU" sz="5400" spc="-1" strike="noStrike">
                <a:solidFill>
                  <a:srgbClr val="fae5b1"/>
                </a:solidFill>
                <a:latin typeface="Arial"/>
              </a:rPr>
              <a:t>МАТЬ</a:t>
            </a:r>
            <a:r>
              <a:rPr b="0" lang="ru-RU" sz="5400" spc="-1" strike="noStrike">
                <a:solidFill>
                  <a:srgbClr val="fae5b1"/>
                </a:solidFill>
                <a:latin typeface="Arial"/>
              </a:rPr>
              <a:t> – самое уважаемое, что ни есть в жизни, самое родное – вся состоит из жалости.»</a:t>
            </a:r>
            <a:br>
              <a:rPr sz="5400"/>
            </a:br>
            <a:r>
              <a:rPr b="0" lang="ru-RU" sz="5400" spc="-1" strike="noStrike">
                <a:solidFill>
                  <a:srgbClr val="fae5b1"/>
                </a:solidFill>
                <a:latin typeface="Arial"/>
              </a:rPr>
              <a:t>                     В.Шукшин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4772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950c01"/>
                </a:solidFill>
                <a:latin typeface="Arial Black"/>
              </a:rPr>
              <a:t>Всё самое прекрасное начинается с женщины</a:t>
            </a:r>
            <a:br>
              <a:rPr sz="4000"/>
            </a:br>
            <a:br>
              <a:rPr sz="2800"/>
            </a:br>
            <a:r>
              <a:rPr b="0" lang="ru-RU" sz="3600" spc="-1" strike="noStrike">
                <a:solidFill>
                  <a:srgbClr val="fae5b1"/>
                </a:solidFill>
                <a:latin typeface="Arial"/>
              </a:rPr>
              <a:t>Женщина-это мать, жена, сестра, подруга.</a:t>
            </a:r>
            <a:br>
              <a:rPr sz="3600"/>
            </a:br>
            <a:r>
              <a:rPr b="0" lang="ru-RU" sz="3600" spc="-1" strike="noStrike">
                <a:solidFill>
                  <a:srgbClr val="fae5b1"/>
                </a:solidFill>
                <a:latin typeface="Arial"/>
              </a:rPr>
              <a:t>Отрадно, что весна начинается с самого светлого и любимого праздника, во время которого все дарят женщинам цветы</a:t>
            </a:r>
            <a:r>
              <a:rPr b="0" lang="ru-RU" sz="2800" spc="-1" strike="noStrike">
                <a:solidFill>
                  <a:srgbClr val="fae5b1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0c01"/>
                </a:solidFill>
                <a:latin typeface="Arial"/>
              </a:rPr>
              <a:t>Человек, на котором держится д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79" name="Picture 2" descr="C:\Documents and Settings\Галя\Рабочий стол\+ФОТО\mama-krasivye-kartinki-s-nadpisyami-humoraf-ru-6.jpg"/>
          <p:cNvPicPr/>
          <p:nvPr/>
        </p:nvPicPr>
        <p:blipFill>
          <a:blip r:embed="rId1"/>
          <a:stretch/>
        </p:blipFill>
        <p:spPr>
          <a:xfrm>
            <a:off x="0" y="1341360"/>
            <a:ext cx="788508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451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Наверное, всем будет интересно послушать настоятеля Свято- Ильинского храма, отца Михаила, о взгляде христианской церкви на семью, материнство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81" name="Picture 4" descr="C:\Documents and Settings\Галя\Рабочий стол\+ФОТО\26315987.jpg"/>
          <p:cNvPicPr/>
          <p:nvPr/>
        </p:nvPicPr>
        <p:blipFill>
          <a:blip r:embed="rId1"/>
          <a:srcRect l="0" t="0" r="0" b="5976"/>
          <a:stretch/>
        </p:blipFill>
        <p:spPr>
          <a:xfrm>
            <a:off x="0" y="1700280"/>
            <a:ext cx="781200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3"/>
          <p:cNvSpPr/>
          <p:nvPr/>
        </p:nvSpPr>
        <p:spPr>
          <a:xfrm>
            <a:off x="0" y="602136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вучит песня «Мамино сердце». Музыка Кима Брейтбурга Слова Элеоноры Мельник Поет Жасми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3" name="Прямоугольник 4"/>
          <p:cNvSpPr/>
          <p:nvPr/>
        </p:nvSpPr>
        <p:spPr>
          <a:xfrm>
            <a:off x="0" y="0"/>
            <a:ext cx="78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e5b1"/>
                </a:solidFill>
                <a:latin typeface="Arial Black"/>
              </a:rPr>
              <a:t>Мама – это единственный    человек,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e5b1"/>
                </a:solidFill>
                <a:latin typeface="Arial Black"/>
              </a:rPr>
              <a:t>который любит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ae5b1"/>
                </a:solidFill>
                <a:latin typeface="Arial Black"/>
              </a:rPr>
              <a:t>тебя по – настоящему просто за то, что ты есть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40" y="188640"/>
            <a:ext cx="780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Дорогие наши мамочки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85" name="Picture 4" descr="C:\Documents and Settings\Галя\Рабочий стол\+ФОТО\537a8a329e8a077d6def18c0caa60694.JPG"/>
          <p:cNvPicPr/>
          <p:nvPr/>
        </p:nvPicPr>
        <p:blipFill>
          <a:blip r:embed="rId1"/>
          <a:stretch/>
        </p:blipFill>
        <p:spPr>
          <a:xfrm>
            <a:off x="1440" y="981000"/>
            <a:ext cx="78012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Пусть первый подснежник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одарит Вам нежность!»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89" name="Picture 5" descr="C:\Documents and Settings\Галя\Рабочий стол\+ФОТО\img3.jpg"/>
          <p:cNvPicPr/>
          <p:nvPr/>
        </p:nvPicPr>
        <p:blipFill>
          <a:blip r:embed="rId1"/>
          <a:stretch/>
        </p:blipFill>
        <p:spPr>
          <a:xfrm>
            <a:off x="155520" y="946080"/>
            <a:ext cx="7512120" cy="5400720"/>
          </a:xfrm>
          <a:prstGeom prst="rect">
            <a:avLst/>
          </a:prstGeom>
          <a:ln w="0">
            <a:noFill/>
          </a:ln>
        </p:spPr>
      </p:pic>
      <p:sp>
        <p:nvSpPr>
          <p:cNvPr id="1190" name="Прямоугольник 4"/>
          <p:cNvSpPr/>
          <p:nvPr/>
        </p:nvSpPr>
        <p:spPr>
          <a:xfrm>
            <a:off x="155520" y="580536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втор: Александр Тимаше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92" name="Picture 2" descr="C:\Documents and Settings\Галя\Рабочий стол\+ФОТО\мама4.jpg"/>
          <p:cNvPicPr/>
          <p:nvPr/>
        </p:nvPicPr>
        <p:blipFill>
          <a:blip r:embed="rId1"/>
          <a:stretch/>
        </p:blipFill>
        <p:spPr>
          <a:xfrm>
            <a:off x="0" y="0"/>
            <a:ext cx="7905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0c01"/>
                </a:solidFill>
                <a:latin typeface="Arial"/>
              </a:rPr>
              <a:t>Человек, на котором держится д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94" name="Picture 2" descr="C:\Documents and Settings\Галя\Рабочий стол\+ФОТО\1120234_760x500.jpg"/>
          <p:cNvPicPr/>
          <p:nvPr/>
        </p:nvPicPr>
        <p:blipFill>
          <a:blip r:embed="rId1"/>
          <a:stretch/>
        </p:blipFill>
        <p:spPr>
          <a:xfrm>
            <a:off x="0" y="1523880"/>
            <a:ext cx="7812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4" descr="mimoza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Прямоугольник 1"/>
          <p:cNvSpPr/>
          <p:nvPr/>
        </p:nvSpPr>
        <p:spPr>
          <a:xfrm>
            <a:off x="395280" y="260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7" name="Прямоугольник 2"/>
          <p:cNvSpPr/>
          <p:nvPr/>
        </p:nvSpPr>
        <p:spPr>
          <a:xfrm>
            <a:off x="539640" y="836640"/>
            <a:ext cx="65898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сценарии использованы песни и стихи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. «Мамино сердце». Музыка Кима Брейтбурга Слова Элеоноры Мельник Поет Жасми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«Поговори со мною, мам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Тёмная ночь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Фонограмма песни «Огонёк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онограмма романса «Любовь и разлук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нограмма «Драгоценная моя женщина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айсын Кулиев. Любимой с фронта в первый год войны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Пётр Градов. Человек, на котором держится д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Picture 3" descr="C:\Documents and Settings\Галя\Рабочий стол\+ФОТО\QVbXiqyZEKM.jpg"/>
          <p:cNvPicPr/>
          <p:nvPr/>
        </p:nvPicPr>
        <p:blipFill>
          <a:blip r:embed="rId1"/>
          <a:stretch/>
        </p:blipFill>
        <p:spPr>
          <a:xfrm>
            <a:off x="0" y="0"/>
            <a:ext cx="788508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e5b1"/>
                </a:solidFill>
                <a:latin typeface="Arial"/>
              </a:rPr>
              <a:t>«Без солнца не цветут цветы, без любви нет счастья, без матери нет ни поэта, ни героя. Вся гордость мира от женщин, от матерей.»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      А.М.Горьк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3" descr="C:\Documents and Settings\Галя\Рабочий стол\+ФОТО\img0.jpg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podsnegnik-goluboy"/>
          <p:cNvPicPr/>
          <p:nvPr/>
        </p:nvPicPr>
        <p:blipFill>
          <a:blip r:embed="rId1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7477200" cy="40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e5b1"/>
                </a:solidFill>
                <a:latin typeface="Arial"/>
              </a:rPr>
              <a:t>«Женщина – великое слово. </a:t>
            </a:r>
            <a:br>
              <a:rPr sz="4000"/>
            </a:br>
            <a:r>
              <a:rPr b="0" lang="ru-RU" sz="4000" spc="-1" strike="noStrike">
                <a:solidFill>
                  <a:srgbClr val="fae5b1"/>
                </a:solidFill>
                <a:latin typeface="Arial"/>
              </a:rPr>
              <a:t>В ней чистота девушки, в ней самоотверженность подруги, в ней подвиг матери.»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Некрасов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60" name="Picture 5" descr="5"/>
          <p:cNvPicPr/>
          <p:nvPr/>
        </p:nvPicPr>
        <p:blipFill>
          <a:blip r:embed="rId1"/>
          <a:stretch/>
        </p:blipFill>
        <p:spPr>
          <a:xfrm>
            <a:off x="214200" y="3213000"/>
            <a:ext cx="450216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455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ограмма «Драгоценная моя женщина»)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ы женщина, и, может быть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воё бессилье – это сила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не помогавшее забыть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Всё черное, что в жизни было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И, потому, что мы вдвоём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Живём бок о бок в мире этом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Я – луг, наполненный дождём.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ы – поле, залитое свет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ы светом своего добра 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Мой озаряла путь порою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И, если я и впрямь гора,</a:t>
            </a:r>
            <a:br>
              <a:rPr sz="2400"/>
            </a:br>
            <a:r>
              <a:rPr b="0" lang="ru-RU" sz="2400" spc="-1" strike="noStrike">
                <a:solidFill>
                  <a:srgbClr val="fae5b1"/>
                </a:solidFill>
                <a:latin typeface="Arial"/>
              </a:rPr>
              <a:t>То ты рассвет над той горою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втор: Кайсын Кулиев)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50c01"/>
                </a:solidFill>
                <a:latin typeface="Arial"/>
              </a:rPr>
              <a:t>О, руки женщины земной!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63" name="Picture 2" descr="О, руки женщины земной!"/>
          <p:cNvPicPr/>
          <p:nvPr/>
        </p:nvPicPr>
        <p:blipFill>
          <a:blip r:embed="rId1"/>
          <a:srcRect l="0" t="0" r="0" b="11874"/>
          <a:stretch/>
        </p:blipFill>
        <p:spPr>
          <a:xfrm>
            <a:off x="108000" y="1413000"/>
            <a:ext cx="76327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9:36:57Z</dcterms:created>
  <dc:creator>Антонина Михайловна</dc:creator>
  <dc:description/>
  <dc:language>en-US</dc:language>
  <cp:lastModifiedBy>Галя</cp:lastModifiedBy>
  <dcterms:modified xsi:type="dcterms:W3CDTF">2019-12-07T23:40:25Z</dcterms:modified>
  <cp:revision>53</cp:revision>
  <dc:subject/>
  <dc:title>С ЛЮБОВЬЮ К ЖЕНЩИНЕ</dc:title>
</cp:coreProperties>
</file>