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380-7823-4E80-89F3-3438B37F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0AB-4ECE-482E-9598-7DD00A06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867-FA48-43F1-BB91-00684AA0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A4F-5FD6-4C21-8C32-6EE71EB9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588-E0CB-4017-A2EC-8FC7D03E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BC2-E0DE-4BF7-A7FD-5144315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FBC-A568-4151-8935-B749A59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3D4-64EE-40AC-8941-4A0DB41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ABA-6E04-48C9-8B93-84CFE4F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E1A-8C35-4D00-8D89-624FDA1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CC8-6F07-46B2-BCD2-5511A8A5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567-6B0C-4800-B0FA-8063D26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7C9-0F32-46AF-8E66-71D6992A9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764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b050"/>
                </a:solidFill>
                <a:uFillTx/>
                <a:latin typeface="Aharoni"/>
                <a:ea typeface="Aharoni"/>
              </a:rPr>
              <a:t>Game “A Boaster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I am eating ice-cream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you eating ice-cream now?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You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no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eating ice-cream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Arial"/>
              </a:rPr>
              <a:t>Game “Champio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oup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eacher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not) 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oup 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friend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not) ..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9-12-21T17:02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