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495-5710-45A3-90EE-1463BD27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C1D-295E-484B-8DF4-C5D49015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C27-9563-45C8-8970-FAF8D5C9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6D1-1C17-46B0-AF6C-E4517302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7B5D-856D-4A21-9A4D-5EF13B0E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8BAE-FBCB-43DB-A958-64090734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C48A-43D5-468D-9744-D7E24B4D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564-DE11-4D28-980F-27BB9F2C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D8CB-9CF8-4DF5-8B82-DE31A5A8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1F21-70E7-4F25-8497-73C0AC73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8216-319E-44CB-82F1-45F73D2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ABB-F9D7-4E05-8AB8-2132AFF5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8D03-13B0-4039-B0B5-FC86358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4432-71FC-4121-A67A-E651476F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AC2D-6F97-4476-8852-93467A95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9524-3D01-40EF-A119-3011F277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9F42-A241-4803-97A9-F28D4DA8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96D-38A1-4959-82E9-0C8C1E38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B98-B1C7-49C4-8833-48EE8AC7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B96-BDCB-443F-8233-6DE55488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774-6C43-44C3-A3D5-F7370128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C87-2F2D-43B3-A47C-3684AF0F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7ED-740E-47A8-9F69-302CC3F9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B71-57FC-4175-856D-DCC9B60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2DB7-FD8C-4C4A-9EDF-53A4B97419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C23E-5CAD-48E1-AFAD-5ED8BCE1D7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56000" y="136800"/>
            <a:ext cx="42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Times New Roman"/>
              </a:rPr>
              <a:t>ХАЙ ФАЙВ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4286160" cy="4200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4560" y="1843560"/>
            <a:ext cx="80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«Дай пять» - сигнал тишины и привлечения внимания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5486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СИМАЛТИНИУС РАУНД ТЭЙБ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2390760"/>
            <a:ext cx="5042160" cy="4467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32920" y="1124280"/>
            <a:ext cx="7011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Одновременный раунд тейбл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руктура, в которой 4 участника в команде одновре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ыполняют письменную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 отдельных листочках или в тетр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по окончанию времени передают друг другу по круг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26920" y="1700280"/>
          <a:ext cx="7632720" cy="4565520"/>
        </p:xfrm>
        <a:graphic>
          <a:graphicData uri="http://schemas.openxmlformats.org/drawingml/2006/table">
            <a:tbl>
              <a:tblPr/>
              <a:tblGrid>
                <a:gridCol w="954360"/>
                <a:gridCol w="952560"/>
                <a:gridCol w="1908000"/>
                <a:gridCol w="1909800"/>
                <a:gridCol w="1908000"/>
              </a:tblGrid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,  дающие в сумме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до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х произ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их произведения   от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 txBox="1"/>
          <p:nvPr/>
        </p:nvSpPr>
        <p:spPr>
          <a:xfrm>
            <a:off x="2484360" y="907920"/>
            <a:ext cx="381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олни пустые клет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57200" y="533520"/>
          <a:ext cx="8229600" cy="5716440"/>
        </p:xfrm>
        <a:graphic>
          <a:graphicData uri="http://schemas.openxmlformats.org/drawingml/2006/table">
            <a:tbl>
              <a:tblPr/>
              <a:tblGrid>
                <a:gridCol w="1028880"/>
                <a:gridCol w="1027080"/>
                <a:gridCol w="2057400"/>
                <a:gridCol w="2058840"/>
                <a:gridCol w="2057400"/>
              </a:tblGrid>
              <a:tr h="123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,  дающие в сумме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до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х произ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их произведения   от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1          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+1 = 121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44          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+ 4 = 144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9          1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+9 = 169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843280" y="907920"/>
            <a:ext cx="3286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оставление схем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07272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08000" y="76500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СИМАЛТИНИУС РЕЛЛИ ТЭЙБ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" y="1340280"/>
            <a:ext cx="846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Одновременный релли тейбл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руктура, в которой 2 участника в команде одноврем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ыполняют письменную работу на отдельных листочках или в тет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по окончанию времени передают друг другу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46324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34840" y="907920"/>
            <a:ext cx="421776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ТАЙМД ПЭА ШЭ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1080" y="1727640"/>
            <a:ext cx="827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труктура, в которой два участника делятся развернутыми от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в течение определенного количества времени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2205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тянулись к звездным дал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85720" y="620640"/>
            <a:ext cx="259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ТИМ Ч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2970360"/>
            <a:ext cx="3888000" cy="388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4160" y="1341360"/>
            <a:ext cx="716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кричалка, девиз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ороткое, веселое упражнение для поднятия духа ауд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0600" y="619560"/>
            <a:ext cx="681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 по схеме д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демонстрируйте свои умения родителям и друзь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130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1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86800" y="691920"/>
            <a:ext cx="814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КУИЗ-КУИЗ-ТРЭЙ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«опроси-опроси-обменяйся карточками по тем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7610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95280" y="981000"/>
          <a:ext cx="8354880" cy="5413320"/>
        </p:xfrm>
        <a:graphic>
          <a:graphicData uri="http://schemas.openxmlformats.org/drawingml/2006/table">
            <a:tbl>
              <a:tblPr/>
              <a:tblGrid>
                <a:gridCol w="4175280"/>
                <a:gridCol w="417960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*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умножить число двузначное на 11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9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9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9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*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умножить двузначные числа с одинаковыми первыми цифрами и вторыми цифрами, в сумме дающими 10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55640" y="1773360"/>
          <a:ext cx="7992720" cy="3455640"/>
        </p:xfrm>
        <a:graphic>
          <a:graphicData uri="http://schemas.openxmlformats.org/drawingml/2006/table">
            <a:tbl>
              <a:tblPr/>
              <a:tblGrid>
                <a:gridCol w="3996000"/>
                <a:gridCol w="3996720"/>
              </a:tblGrid>
              <a:tr h="15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23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23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*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умножить трехзначное число на 101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возвести число в квадрат, оканчивающее цифрой 5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39640" y="1773360"/>
          <a:ext cx="8353080" cy="3310920"/>
        </p:xfrm>
        <a:graphic>
          <a:graphicData uri="http://schemas.openxmlformats.org/drawingml/2006/table">
            <a:tbl>
              <a:tblPr/>
              <a:tblGrid>
                <a:gridCol w="4176360"/>
                <a:gridCol w="4176720"/>
              </a:tblGrid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5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5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 *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умножить трехзначное число на 11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*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умножить двузначное четное число на 15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00" y="1700280"/>
          <a:ext cx="8351640" cy="405900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*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*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14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14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*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*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5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5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*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89760" y="521280"/>
            <a:ext cx="60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 быстро возвести в квадр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исла  26, 24, 23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2000" y="1051920"/>
            <a:ext cx="706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Тема занятия.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Числовые закономер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при умно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и возведении чисел в степ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3640" y="9072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ТИМ Ч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4360" y="2211480"/>
            <a:ext cx="3254400" cy="4646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282120"/>
            <a:ext cx="60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решек знаний твер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 мы не привыкли отступ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м расколоть его по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ение закономерность отыска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2000" y="1820880"/>
            <a:ext cx="716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кричалка, девиз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ороткое, веселое упражнение для поднятия духа ауд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0T15:55:03Z</dcterms:created>
  <dc:creator>Lisenok</dc:creator>
  <dc:description/>
  <dc:language>en-US</dc:language>
  <cp:lastModifiedBy>Lisenok</cp:lastModifiedBy>
  <dcterms:modified xsi:type="dcterms:W3CDTF">2019-12-21T13:34:15Z</dcterms:modified>
  <cp:revision>14</cp:revision>
  <dc:subject/>
  <dc:title>Слайд 1</dc:title>
</cp:coreProperties>
</file>