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F3D-E77C-49F3-A85C-B8C04F1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DF5-1976-4FB6-AFF6-30FB924F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8DC-9668-4D9C-904B-EE0BF820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42A-6E6A-46B5-89AA-5C67C34E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EF00A-87C4-4BE2-B8A9-325E0358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9EDA-4812-4804-9C2B-EC261D73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7AC5-A1DF-47ED-A2D6-D372CA0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1F57F-6C9F-484F-8C0E-34D160A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1F225-0EFA-437B-870F-7CDF2158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C8B8-E8CB-4910-9C38-02CA527A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44EA2-4AF4-407E-8141-6D9B8A6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333-51A4-4DC7-A3FC-6246EA4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8B0C-AA9C-43CA-865D-7151078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2C2EB-DEE3-4504-9625-9B88588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8DF06-5294-4EE8-AAA7-43B02D80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67CF1-EFC7-414C-9B07-725877B8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889DC-203D-4437-97A9-87BDE202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7833F-E16D-4286-A5F0-168A9629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F1822-C4C0-48AE-857D-06A8D22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37292-A498-4684-93C7-ECF1C17A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D7297-615C-4D9D-AD56-25B75094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0B4AD-A410-44FB-9025-86565C9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1C4-8462-44FC-8628-79C56B10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9E609-2381-4437-991B-4FAEB556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E2025-DDBF-4F6D-AF42-9216F73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1C512-6FD8-4EAD-A053-E15F107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55D88-B179-4D1C-A109-957AF2C0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D4BF4-365F-454B-BE19-C1425E9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D44F3-7A3D-4FCC-93F4-8F6BFAEF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E28CA-FCF2-47FE-879E-D6D94D02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1B5-2A6E-4E10-B601-58B81CFA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C4A-2D2D-4A25-94C2-85A96DA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FDF-F778-4321-A2BA-572D381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599-5694-48F6-A9D2-59A26B6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AEF-E288-4F0D-A475-31C4E22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C80-B276-4A73-AA52-80C03CE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F6A-CFF8-4646-9E4D-F9608263FC9D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7B3-4D0C-415F-92DD-E817534DEDE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788-C187-4012-BFA2-84A2C5789FCA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1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ение задач по тем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Закон сохранения импульса и механической энергии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Picture 4" descr="Balls (1)"/>
          <p:cNvPicPr/>
          <p:nvPr/>
        </p:nvPicPr>
        <p:blipFill>
          <a:blip r:embed="rId1"/>
          <a:stretch/>
        </p:blipFill>
        <p:spPr>
          <a:xfrm>
            <a:off x="755640" y="4508640"/>
            <a:ext cx="316872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304920" y="838080"/>
            <a:ext cx="8534160" cy="6019920"/>
          </a:xfrm>
          <a:prstGeom prst="ellipse">
            <a:avLst/>
          </a:prstGeom>
          <a:solidFill>
            <a:srgbClr val="99ff99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33520" y="1981080"/>
            <a:ext cx="4038480" cy="3505320"/>
          </a:xfrm>
          <a:prstGeom prst="ellipse">
            <a:avLst/>
          </a:prstGeom>
          <a:solidFill>
            <a:srgbClr val="99ff99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4648320" y="1981080"/>
            <a:ext cx="4038480" cy="3505320"/>
          </a:xfrm>
          <a:prstGeom prst="ellipse">
            <a:avLst/>
          </a:prstGeom>
          <a:solidFill>
            <a:srgbClr val="99ff99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 flipH="1">
            <a:off x="4572000" y="914400"/>
            <a:ext cx="76320" cy="5943600"/>
          </a:xfrm>
          <a:prstGeom prst="line">
            <a:avLst/>
          </a:prstGeom>
          <a:ln w="572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04920" y="3733920"/>
            <a:ext cx="8458200" cy="304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916360" y="1159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фтальмо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009"/>
          <p:cNvPicPr/>
          <p:nvPr/>
        </p:nvPicPr>
        <p:blipFill>
          <a:blip r:embed="rId1"/>
          <a:stretch/>
        </p:blipFill>
        <p:spPr>
          <a:xfrm>
            <a:off x="4500720" y="6922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5.78035E-008 C 0.25677 -5.78035E-008 0.46667 0.19514 0.46667 0.43561 C 0.46667 0.67561 0.25677 0.87121 0 0.87121 C -0.25764 0.87121 -0.46667 0.67561 -0.46667 0.43561 C -0.46667 0.19514 -0.25764 -5.78035E-008 0 -5.78035E-008 Z">
                                      <p:cBhvr>
                                        <p:cTn id="271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5.78035E-008 L -0.0125 0.87121 E">
                                      <p:cBhvr>
                                        <p:cTn id="274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39399 L -0.00417 0.42173 C -0.00417 0.43376 0.11962 0.44948 0.22083 0.44948 L 0.44583 0.44948 E">
                                      <p:cBhvr>
                                        <p:cTn id="277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83 0.44948 C 0.42622 0.59445 0.31181 0.68994 0.19063 0.66035 C 0.07014 0.6326 -0.01215 0.48948 0.00729 0.34451 C 0.02726 0.19838 0.14149 0.10405 0.26181 0.13295 C 0.38299 0.16185 0.46528 0.30335 0.44583 0.44948 Z">
                                      <p:cBhvr>
                                        <p:cTn id="28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83 0.44948 L -0.47917 0.41619 E">
                                      <p:cBhvr>
                                        <p:cTn id="283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917 0.41619 C -0.47917 0.2696 -0.37413 0.15006 -0.24549 0.15006 C -0.11701 0.15006 -0.0125 0.2696 -0.0125 0.41619 C -0.0125 0.56324 -0.11701 0.68185 -0.24549 0.68185 C -0.37413 0.68185 -0.47917 0.56324 -0.47917 0.41619 Z">
                                      <p:cBhvr>
                                        <p:cTn id="286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917 0.41619 L -0.00417 0.42728 E">
                                      <p:cBhvr>
                                        <p:cTn id="289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42728 L -0.00417 -0.00555 E">
                                      <p:cBhvr>
                                        <p:cTn id="292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.Тележка массой 10 кг, движущаяся по гладкой горизонтальной  поверхности со скоростью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 м/с, сталкивается с неподвижной тележкой такой   же массы и сцепляется с ней. Най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корость тележек после взаимодейств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твет: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2,5 м/с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. Самолёт летит со скоростью 180 км/ч, а вертолёт со скоростью 90 км/ч.  Масса самолё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000кг. Отношение импульса самолёта к импульсу вертолёта 1,5. Чему равна мас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ертолёта?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=4000кг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. На рисунке представлен график зависимости  скорост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елосипедиста от   времени. За первые 2 с  движения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инетическая энергия велосипедиста  увеличилас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твет: Г. в 9 раз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. Установите соответствие между физическими величинами  и формулами, по которы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ти величины определяются. К каждой позиции  левого  столбца подберите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ую   позицию правого столбц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твет: А – 2            Б – 1           В – 3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. Модуль импульса первого тела равен 3кг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/с, а второго тела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вен 4кг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/с . Чему равен    модуль импульса системы этих тел   после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х абсолютно упругого удара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твет: 5 кг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/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3716280"/>
          <a:ext cx="9144000" cy="154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велич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  Импульс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.  Кинетическая энергия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 Закон сохранения импуль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v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ru-RU" sz="14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֜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m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֜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3" descr="get_file?id=1089"/>
          <p:cNvPicPr/>
          <p:nvPr/>
        </p:nvPicPr>
        <p:blipFill>
          <a:blip r:embed="rId1"/>
          <a:stretch/>
        </p:blipFill>
        <p:spPr>
          <a:xfrm>
            <a:off x="7451640" y="1557360"/>
            <a:ext cx="1692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28"/>
          <p:cNvGrpSpPr/>
          <p:nvPr/>
        </p:nvGrpSpPr>
        <p:grpSpPr>
          <a:xfrm>
            <a:off x="7362720" y="5373720"/>
            <a:ext cx="1781280" cy="1484280"/>
            <a:chOff x="7362720" y="5373720"/>
            <a:chExt cx="1781280" cy="1484280"/>
          </a:xfrm>
        </p:grpSpPr>
        <p:sp>
          <p:nvSpPr>
            <p:cNvPr id="173" name="AutoShape 29"/>
            <p:cNvSpPr/>
            <p:nvPr/>
          </p:nvSpPr>
          <p:spPr>
            <a:xfrm>
              <a:off x="7362720" y="5373720"/>
              <a:ext cx="1781280" cy="14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30" descr="get_file?id=106"/>
            <p:cNvPicPr/>
            <p:nvPr/>
          </p:nvPicPr>
          <p:blipFill>
            <a:blip r:embed="rId2"/>
            <a:stretch/>
          </p:blipFill>
          <p:spPr>
            <a:xfrm>
              <a:off x="7362720" y="5581440"/>
              <a:ext cx="13068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1" descr="get_file?id=106"/>
            <p:cNvPicPr/>
            <p:nvPr/>
          </p:nvPicPr>
          <p:blipFill>
            <a:blip r:embed="rId3"/>
            <a:stretch/>
          </p:blipFill>
          <p:spPr>
            <a:xfrm>
              <a:off x="8550720" y="5685480"/>
              <a:ext cx="525600" cy="415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69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908000" y="1628640"/>
            <a:ext cx="5328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А.В.Пёрышкин, Е.М.Гутник., Физика 9 кл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ебник для общеобразовательного учреждений-М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офа,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Зорин Н.И. ГИА 2013. Физика: тематическ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енировочные задания: 9 кл.– М.: Эксмо, 2018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Пурышева Н.С.ГИА выпускников 9 кл. в ново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е.Физика.2014.Учебное пособие.- Москва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теллект- Центр,2014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Кабардин, О.Ф. ГИА 2012. Физика. 9 к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иповые тестовые задания /О.Ф. Кабардин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.И. Кабардина. – М.: Издательство «Экзамен», 201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)КИМ.Физика:9 класс/ Сост. Н.И.Зорин.- М.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АКО,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Что называют импульсом тел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Назовите  единицы измерения данной физической величины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кая система называется замкну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Чем отличается абсолютно упругий удар от абсолютно неупругого уда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Сформулируйте закон сохранения  импуль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Что называется и как вычисляется кинетическая и потенциальная энерги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.Что называется полной механической энергие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. Сформулируйте закон сохранения  механической энерг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2420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.Скорость тела возросла в 3 раза. Во сколько раз изменилась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нетическая энергия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. увеличилась в 3раза                                              Б. уменьшилась в 3 р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 увеличилась в 9 раз                                               Г. уменьшилась в 9 ра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: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2. Для придания наиболее эффективного ускорения космическому кораблю струя  выхлопны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азов, вырывающаяся из сопла его реактивного двигателя, должна быть   направле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.  по направлению движения корабля           Б. противоположно направлению движения корабля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перпендикулярно направлению движения корабля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под произвольным углом к направлению движения кораб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. Тело свободно падает на Землю. Как изменяются в процессе падения импульс тела   и е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тенциальная энергия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А.  импульс тела и потенциальная энергия уменьшаютс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.  импульс тела уменьшается, потенциальная энергия увеличиваетс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 импульс тела не изменяется, потенциальная энергия уменьшаетс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импульс тела увеличивается, потенциальная энергия уменьшаетс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: 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 Камень брошен вертикально вверх. В момент броска он имел кинетическую  энергию 30 Дж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акую  потенциальную энергию будет иметь камень в верхней точке    траектории   полёта?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. 0 Дж              Б. 15 Дж                 В. 30 Дж             Г. 300Д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: 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5 Тележка массой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 движущаяся со скоростью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, сталкивается с неподвижной тележкой той 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ассы и сцепляется с ней. Импульс тележек после взаимодействия раве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.0                     Б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2                   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Г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: 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29840" y="247680"/>
            <a:ext cx="838980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Мальчик массой 40кг запрыгивает на неподвижну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лежку, имея скорость 1м/с. С какой скоростью 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должит движение на тележке, если её масса 10к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ешение: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+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+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 т.к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,  т.к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i="1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= 0,8 м/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05092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987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211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543564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819173629"/>
          <p:cNvPicPr/>
          <p:nvPr/>
        </p:nvPicPr>
        <p:blipFill>
          <a:blip r:embed="rId1"/>
          <a:stretch/>
        </p:blipFill>
        <p:spPr>
          <a:xfrm>
            <a:off x="7380360" y="5157720"/>
            <a:ext cx="739800" cy="9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5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)Танк движется со скоростью  18 км/ч, а грузовик со скоростью 72 км/ч. Масса танка 36000кг. Отношение величины импульса танка к величине импульса  грузовика равно 2,25. Чему равна, массу грузовика?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76280"/>
            <a:ext cx="8507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:       2,25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 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ru-RU" sz="26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,25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Arial"/>
              </a:rPr>
              <a:t>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4000к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819173629"/>
          <p:cNvPicPr/>
          <p:nvPr/>
        </p:nvPicPr>
        <p:blipFill>
          <a:blip r:embed="rId1"/>
          <a:stretch/>
        </p:blipFill>
        <p:spPr>
          <a:xfrm>
            <a:off x="7308720" y="5084640"/>
            <a:ext cx="854280" cy="108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get_file?id=1031"/>
          <p:cNvPicPr/>
          <p:nvPr/>
        </p:nvPicPr>
        <p:blipFill>
          <a:blip r:embed="rId1"/>
          <a:stretch/>
        </p:blipFill>
        <p:spPr>
          <a:xfrm>
            <a:off x="179280" y="260280"/>
            <a:ext cx="1920960" cy="19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2421000"/>
            <a:ext cx="82296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:  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к1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1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0" lang="ru-RU" sz="2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к2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25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0" lang="ru-RU" sz="2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  с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2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  с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Е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268360" y="0"/>
            <a:ext cx="6875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На рисунке представлен график зависимости скорости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осипедист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 времени 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Найти во сколько раз увеличилась кинетическая энергия велосипедиста за первые 4 c дви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819173629"/>
          <p:cNvPicPr/>
          <p:nvPr/>
        </p:nvPicPr>
        <p:blipFill>
          <a:blip r:embed="rId2"/>
          <a:stretch/>
        </p:blipFill>
        <p:spPr>
          <a:xfrm>
            <a:off x="7308720" y="5229360"/>
            <a:ext cx="79704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Тело бросили с поверхности Земли вертикально вверх. Установите соответствие между физическими величинами и их возможными изменениями при движении тела, считая, что сопротивление воздуха пренебрежительно мало. К каждой позиции левого столбца подберите соответствующую позицию правого столбца. Физическая величина Характер изменения  физической величины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 Кинетическая энергия                Б.  Потенциальная энергия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Полная механическая энергия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увеличится           2. не изменится         3. уменьшитс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340000" y="5734080"/>
          <a:ext cx="3740040" cy="807840"/>
        </p:xfrm>
        <a:graphic>
          <a:graphicData uri="http://schemas.openxmlformats.org/drawingml/2006/table">
            <a:tbl>
              <a:tblPr/>
              <a:tblGrid>
                <a:gridCol w="1185840"/>
                <a:gridCol w="1276200"/>
                <a:gridCol w="127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340000" y="6093000"/>
          <a:ext cx="3744720" cy="431640"/>
        </p:xfrm>
        <a:graphic>
          <a:graphicData uri="http://schemas.openxmlformats.org/drawingml/2006/table">
            <a:tbl>
              <a:tblPr/>
              <a:tblGrid>
                <a:gridCol w="1185840"/>
                <a:gridCol w="1281240"/>
                <a:gridCol w="127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360" y="4179960"/>
          <a:ext cx="8315280" cy="1265040"/>
        </p:xfrm>
        <a:graphic>
          <a:graphicData uri="http://schemas.openxmlformats.org/drawingml/2006/table">
            <a:tbl>
              <a:tblPr/>
              <a:tblGrid>
                <a:gridCol w="3647880"/>
                <a:gridCol w="466740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велич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изменения  физической величи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 Кинетическая 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.  Потенциальная 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 Полная механическая энер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увелич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 измен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меньши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98" descr="819173629"/>
          <p:cNvPicPr/>
          <p:nvPr/>
        </p:nvPicPr>
        <p:blipFill>
          <a:blip r:embed="rId1"/>
          <a:stretch/>
        </p:blipFill>
        <p:spPr>
          <a:xfrm>
            <a:off x="7308720" y="5445000"/>
            <a:ext cx="854280" cy="107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755640" y="2090520"/>
            <a:ext cx="777564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5к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12м/с = 6к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м/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2к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м/с = 8к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    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к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м/с = 10к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3059280" y="549720"/>
            <a:ext cx="5945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) Система состоит из двух тел 1 и 2, массы которых равны 0,5 кг и 2 кг. На рисунке стрелками в заданном масштабе указаны скорости этих тел. Чему равен импульс всей системы по модулю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7"/>
          <p:cNvSpPr/>
          <p:nvPr/>
        </p:nvSpPr>
        <p:spPr>
          <a:xfrm flipH="1">
            <a:off x="1331640" y="4941720"/>
            <a:ext cx="13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7"/>
          <p:cNvSpPr/>
          <p:nvPr/>
        </p:nvSpPr>
        <p:spPr>
          <a:xfrm flipH="1">
            <a:off x="3132000" y="494172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7"/>
          <p:cNvSpPr/>
          <p:nvPr/>
        </p:nvSpPr>
        <p:spPr>
          <a:xfrm flipH="1" flipV="1">
            <a:off x="1116000" y="5013000"/>
            <a:ext cx="21600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47"/>
          <p:cNvSpPr/>
          <p:nvPr/>
        </p:nvSpPr>
        <p:spPr>
          <a:xfrm flipV="1">
            <a:off x="1332000" y="494172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47"/>
          <p:cNvSpPr/>
          <p:nvPr/>
        </p:nvSpPr>
        <p:spPr>
          <a:xfrm flipV="1">
            <a:off x="3132000" y="494172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7"/>
          <p:cNvSpPr/>
          <p:nvPr/>
        </p:nvSpPr>
        <p:spPr>
          <a:xfrm flipH="1" flipV="1">
            <a:off x="2916000" y="4941720"/>
            <a:ext cx="21564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2" descr="819173629"/>
          <p:cNvPicPr/>
          <p:nvPr/>
        </p:nvPicPr>
        <p:blipFill>
          <a:blip r:embed="rId1"/>
          <a:stretch/>
        </p:blipFill>
        <p:spPr>
          <a:xfrm>
            <a:off x="7380360" y="5229360"/>
            <a:ext cx="79524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3" descr="get_file?id=109"/>
          <p:cNvPicPr/>
          <p:nvPr/>
        </p:nvPicPr>
        <p:blipFill>
          <a:blip r:embed="rId2"/>
          <a:stretch/>
        </p:blipFill>
        <p:spPr>
          <a:xfrm>
            <a:off x="324000" y="485640"/>
            <a:ext cx="1854000" cy="1632240"/>
          </a:xfrm>
          <a:prstGeom prst="rect">
            <a:avLst/>
          </a:prstGeom>
          <a:ln w="0">
            <a:noFill/>
          </a:ln>
        </p:spPr>
      </p:pic>
      <p:sp>
        <p:nvSpPr>
          <p:cNvPr id="157" name="Line 35"/>
          <p:cNvSpPr/>
          <p:nvPr/>
        </p:nvSpPr>
        <p:spPr>
          <a:xfrm flipV="1">
            <a:off x="2268360" y="15570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7"/>
          <p:cNvSpPr/>
          <p:nvPr/>
        </p:nvSpPr>
        <p:spPr>
          <a:xfrm>
            <a:off x="1547640" y="220500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2050920" y="155664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 м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9"/>
          <p:cNvSpPr/>
          <p:nvPr/>
        </p:nvSpPr>
        <p:spPr>
          <a:xfrm>
            <a:off x="1187280" y="22755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 м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2:53:49Z</dcterms:created>
  <dc:creator>SamLab.ws</dc:creator>
  <dc:description/>
  <dc:language>en-US</dc:language>
  <cp:lastModifiedBy>Vladimir</cp:lastModifiedBy>
  <dcterms:modified xsi:type="dcterms:W3CDTF">2019-12-21T10:06:51Z</dcterms:modified>
  <cp:revision>22</cp:revision>
  <dc:subject/>
  <dc:title>Решение задач по теме «Закон сохранения импульса и механической энергии.  Подготовка к ГИА »</dc:title>
</cp:coreProperties>
</file>