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8725-4A20-4A36-8395-1DF521E7C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BC5D-9E05-4BD7-ABB2-51BA70AF9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801B04-5471-4AC8-A346-680B8392E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5B4F78-56B4-4FAE-B90F-F6E8B0549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0E036C-D4CC-4F56-81AE-F8AD26202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23DBA9-2B5F-46A9-8EE1-43B93D14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D5DD49-B1B6-4B6E-95AF-D574E3F5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4799AE-E137-425D-A1E1-F5DF6D42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795673-8334-4766-89BD-96BB18D30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8B2A80-D551-4E2C-B9DF-A8458BFE7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D1C2B6-BAF2-46E0-BBB6-EDB23D745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1155B7-B0A3-47E4-9379-DC8DB755B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5C11-09D4-48F8-A7D5-E332776D8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AFF6E9-B72C-4AC1-9227-4CF93891B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7602FB-4F0E-4C40-89FD-ED4E0B8AC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CF7B65-2387-409E-A09D-09ADE85FD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B7A9F4-5121-4670-999E-73F60A4DC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A43426-2ABC-4C54-9A32-0972C4BC5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E61939-1D73-4977-8D35-4FA0F3C7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15B24E-BBC8-462C-9039-7F1AED14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D28178-C9BB-4A11-902B-4D2DE59E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121460-3FF0-4875-99BF-B33F0E20D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10F27A-4C88-4FCE-BCA7-C0589E12A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E9C2-B45D-471B-880D-011F67024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CA28FB-1584-4387-8BFB-19005181A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CA76B5-F44F-4400-B6B9-B171D82C2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5C78D7-C251-4B45-833F-CAF47A82C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EB672F-4FB3-4E7E-8567-9320ED5E3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BA5FFD-5D0D-4C17-884A-F482CE370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257363-69FD-4759-85C2-8BCBC4D0F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3375D2-B600-4902-A1AF-C0D271C4A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C19D89-491F-48F2-AB9E-16D7A57F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2AEB24-DBCF-438E-BA7D-A8069046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88E020-1B25-4564-B468-85504791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A9202-D866-4777-A849-1EFD173BE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6482EA-378A-4EB3-9346-E1C6672C8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7FA05D-B9D6-424A-BA0F-378500AC7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CE176F-3470-4A80-9257-53B9816BE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1D5563-DD84-463F-9A34-1F5CC2D2F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E98E4F-C359-4D7C-8751-B3D804A38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F3949D-E012-43C5-BA38-61AF6DA01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8DBA96-9270-4D82-BE0A-332D828BC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91EBA3-1356-4037-898D-4985C3831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D16D67-346F-4AA7-B3BD-5E3032DD9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3CC25E-41E0-4996-A6FE-427F75B9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C0304-F23F-441B-9DC8-131E127E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EF9DBB-9338-4BEC-B335-59F3D7A3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0074D3-DB72-40A4-B93D-29B0F8E6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12B4D1-3719-4240-B281-DC944AC4E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66CBCC-24DF-4830-96F2-B9A56F65F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4FC4E6-0F21-4381-B67C-6F7C652A5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CA5DF7-A7E9-48CE-82CF-D7FF57639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DA6900-204B-419D-B8D4-F0BAA2F37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3C0FBC-C3A0-4918-98AF-F4AFBBF3C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B5C879-80E0-4C60-BB81-D1BB39837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64BC09-E3A7-427C-B4C5-37AFEE96E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F3CD1-D0F1-4252-8F09-068E53147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16C3F4-6BE5-481F-BE47-BDC3366A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44B55B-F204-47C7-9853-060093DC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F28E48-8F6E-4564-9BF9-276A6AF5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27CF78-8571-486A-8F6F-7D6E78CB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EB32DE-27BD-4C6D-BCDB-E858E9674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DC8BAB-FA56-44B7-B3E7-5AA7AD6F9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780BA1-28D6-47B1-9987-C891ED601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7F0F4B-6A25-4980-82C7-16C312E25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3CFEC5-5923-4818-ABF7-B7A7F7CC5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8DFA7B-D096-47A9-AF60-27291A794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9794C-7309-4D8D-B8D8-D5061D840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BE8C55-9EEE-4D2A-8411-440C6E209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54ED04-12F4-4598-BB07-8E4AC3C0B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A0BA5F-7BA7-4DC3-A643-636EB828B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579785-D80D-4774-BCB6-823D6B89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76B328-7834-4AF2-85A1-5B44A80C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912A5F-84D4-4B20-8694-B2A58117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E510D0-2AEA-4891-B32D-6DEE6BE2D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274BBE-3565-469C-BDEF-804E3C0C3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66BD83-5154-46DA-9D51-F5FAF345E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E86472-C0BA-406F-942B-69CE2DBA3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90F89-A94A-4D7C-B631-9B4DB1A41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24C6F7-B37A-46F7-AB7B-FCED46D19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298493-5B1F-40FE-B070-FA0E18197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AE7159-AC98-43D0-9B08-81DE24401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45278B-1847-4374-8DB2-C1EE91B09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AA054E-1F3B-4249-8482-1D9BC61F8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61B720-BB78-4307-A29D-E1B045A0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14FC96-1537-4864-B279-542C7826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4172F8-31ED-412B-8009-18AFBA47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5D3A37-F31C-44D0-A59F-6D67D71F0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234B9B-898A-4EDB-BB95-D1FAA07FE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4A550-B1AA-49EB-8E1F-C8640B700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EC0F95-57B2-49EF-8523-4C35C5179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F04411-39CD-448B-9DC8-8FDBC5A3E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3D17FA-897B-48B5-8D4B-05B1F58DF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E8493E-D638-482E-8396-82D54DDAF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4C227F-8A58-4E8D-B269-BA3112F1C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DCC626-7042-4A85-8317-5693685D0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75A6FF-0600-4019-85FA-3775A51C9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C5D2B1-3F55-4113-8940-32F8027B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984BF1-CF13-4F87-A106-93D9FB59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F92674-5C14-47CF-A094-A6D7431C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A1CBF-567A-4CB9-88D6-6603034D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9DD166-45A1-4FA3-BFFC-0B9CC2EFA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657EEA-EFAD-4C39-A692-803B4CC87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CF0C44-4B99-4A0E-9217-FCE8E7306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C087C8-ACD7-4778-BB74-B8D9C18E5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FCEA59-3B7C-489F-AA79-E24CB42C0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37FD7C-1AF6-4CFB-9B7B-63EC9D2B0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EB338D-C343-43DB-8728-8B4668419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2066E3-7288-4C59-BE89-2E15D421D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E4E8FB-DB28-4D7E-A32E-DEAB24400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DC14DD-A42D-4B2A-BF95-CAA8FDAF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8E30-F878-4046-A70F-AC5AF8F2F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46C00-7C6A-4935-B695-376EE91E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1FCCFE-7024-4419-9598-E309B314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1D6F81-991A-486C-A988-67ABF8FE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278B2E-341D-45F6-AFFA-03762F6FD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38D760-0430-4CC4-A1D9-185EE7BD5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E837AE-B5B8-4CF1-81D3-9AD7CAB50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5B2BF3-A900-42F8-BE95-5DD1AB149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C02C88-46E5-4FC6-95E9-50B073BAB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807B59-73DC-4004-B04C-8A2A87847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F6AEDA-2738-4A5F-A464-8DB8CA350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4D61AE-DC27-4D99-9E56-5141D92AE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44248-0465-412A-9732-9B13163A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5CAB0A-57FA-4F64-980A-F9859F15A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74B0CC-5A2D-4B55-950C-3C0DFCE6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31512D-C79C-4F4C-8358-9A23DCE3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BEA91B-6E23-48B0-98C0-2156876A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F3A22A-D2DC-460C-AFA8-29AF991CA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FAA2F9-AE4C-4E19-965E-1697420F4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33D218-7479-481C-90DC-80017AC8A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FDFE0-FDCB-4E7C-9223-5976B0A23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CE8C3-2D68-4A0A-9734-CE6EB2B4A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0EE77-7FD2-4102-803A-5247EC04E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E0B1A-7D57-42F9-9AE1-63AFA27F8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A0898-2779-4D45-98C2-FB549A8FE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22231-4A8C-4B8C-9796-23F901981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D5688-54C5-4441-ACC6-F5811902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5383D-517D-4832-9651-9AF78A4D0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0473-5EC5-44CC-924E-1AEF9D71F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E3FDD-0DC2-47F4-8E4A-76149252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D9550-8AC9-4CBC-8485-F170C4D3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2C72E-D12A-4378-ABA3-446C267B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DF6CE-393D-4F6D-A45E-6EF73FFE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892CD-36BE-4F5C-AACE-41BC78EB5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891A8-A8D1-4883-A301-05B6AFBCD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701E9-BB04-423F-A44F-F462CAABF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8372A-3C56-47FB-8723-30329C18D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E3BFE-7A27-4365-B977-A18E49844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6F7FC-FCEC-4036-93CD-04A79F693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5F07-4299-4692-BF5E-7B8CBD648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B3875-754C-458C-923D-FB2A1C264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CDA96-670D-424C-8164-07673B626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0CEA7-059F-416D-9AFA-E5EFB1BBC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1DF11-DB45-46EA-AB18-9A2D45FB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18A0C-2FC2-48BD-9599-1D0DFCDD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D81D6-1BCD-43DE-B027-5254A2E5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2E8E0-E6AC-4BF4-82F1-4B582300F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80D09-ECE0-411A-9481-DF7F2AE0B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DAAE5-D088-445D-9A3C-52C3F4F1D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9A237-3607-46D3-B287-29A2CEA72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4CB1-3125-4BAA-84BA-15FD4C7D3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8E6D3-FDF8-4AF3-A938-1D5C6E65C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374D6-61AA-42CF-A8B8-EAF7C93D3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807C8-69E0-4F0E-9C80-368B1EAD7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CD920-0E63-44BB-8E72-DD04D1030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7BE9D-D71F-4202-8D0F-0ECCB3635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C52B4-FC40-4142-8FB5-D0C841AE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25299-C2A8-410C-9988-8CE71F37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24330-6886-4CD0-B8F1-A884E35B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EB54D-A63B-4D32-B1A6-3166B00C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98E1C-E382-4CC3-BB1E-EF31B3B42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991B-757F-4140-B1EA-85867DD38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BA0DB-A9A4-4B0A-9F50-5DF4D6CFB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291CC-D32E-4C34-96DD-377E04677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C6EC7-2F74-4EB2-8CC7-ADD3223A5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FFE8E-69AB-4B34-BCCD-CA94A7017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958F9-DB37-4495-9322-22EDA51C9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71B22-FC13-4CE4-B085-89B8EF6B1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B3F50-6303-4957-9C76-3B1139EC7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B706A-54F5-4A3D-98EF-7B111FCC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7C76E-B809-4CDA-A187-96BD7D40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58E07-945F-45B7-8AD7-58E0FA92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EF8B-12B6-41C8-8444-D7E2F6EA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4003C-A173-4C7C-8409-FD56463DE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A2F7D-AD5C-4E04-B22C-E96869A7F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DA0DF8-AE00-402B-8D02-43921D0E8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8A491D-D097-492A-98F7-78FB543B7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FD0A1-BA6F-4EF7-8DFB-2F1062290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8420B-AFD9-4ED1-A931-2013C7542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4CD0E6-CCA3-4A7C-ACA6-4C517D42E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A5BEA-06B4-4B37-9418-46E2F5C23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7F0BF-8AC7-4F2F-BFD1-6063712DC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0F41F-0EC0-462C-9E3D-BC9003BD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0A96-9084-44BA-9F65-C9083607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0395F9-D623-4833-A33D-8164B3BA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9F518-B6FA-49B3-8EB0-7AE117FA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BCCDA-9220-462D-87FE-F025BB6D3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90AD7E-8150-4D57-90A4-ECB04A466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3E055-6F52-4E68-96A8-53B483362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052EF6-B339-4ED5-8F8F-D8867A0B7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9C1291-1AFC-4F87-91B9-7047C005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48B896-C65D-47CD-9FA3-502A4302E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BD61B-7FB3-44D4-AF71-B8D8CE808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FC79CC-BE38-41E1-B2E5-C2D5C3678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E4AE-663C-435C-8A38-A23CD2E1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C9FD50-7FB7-44B8-B26C-33E212A02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19FD1D-C476-4487-B097-EA59BBF0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10028C-84C6-40A1-B6BE-4E7AB987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9B2429-3700-4E14-BD26-8B87DA9D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B72C9C-6621-4B42-9DB4-29B3888D3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372337-CD54-4EF1-A461-6CD2106E6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46A0DC-A895-4827-9766-ACCB8A628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C7F984-3D18-441D-B476-3F38E89FA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171D97-BE54-4141-BADF-162522C61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8521E1-EE91-4323-B2E9-56879E722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43136-237B-4F68-B82C-46E00FAA330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4580B-04E3-4C75-9064-8A012B40A8D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BD44E-EB7C-48F1-BBEE-12FF8BA311F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4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5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6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6801-8831-4B98-B513-87CDF4ED64A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2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TextBox 8"/>
          <p:cNvSpPr/>
          <p:nvPr/>
        </p:nvSpPr>
        <p:spPr>
          <a:xfrm>
            <a:off x="738360" y="887400"/>
            <a:ext cx="5457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9"/>
          <p:cNvSpPr/>
          <p:nvPr/>
        </p:nvSpPr>
        <p:spPr>
          <a:xfrm>
            <a:off x="7850160" y="3119400"/>
            <a:ext cx="5540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36D8B-2829-4F49-BD0F-D3C5D0D1C9B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4D929-61E0-4A28-A8B4-54CE79F3C4F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3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3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4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5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41D7-03C1-412C-8946-3CA40BADD13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6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48F96-237E-42F8-BBF7-FEF6C3D8FD6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DCF34-0E5F-40B4-94FB-7030DAE4060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9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47C3F-CBAB-4297-8553-4A7BBAA1CDC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Droplets-SD-Title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030CD-F05B-4955-91AA-99AC3AD3D00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FBAF2-AF73-44B0-B22F-59A1A097B29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5B816-B753-4D15-8948-33BAA0806F7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6799E-064C-407A-88D8-158F13F3242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FA23A-DC5C-4463-AA57-41CE0480E45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0CE59-FCCA-4505-B197-A86583FFEBF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5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24F00-A1EB-41E1-A5E0-97698103A8A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F5790-BC58-48FD-80C0-1B02531C15B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Text Box 5"/>
          <p:cNvSpPr/>
          <p:nvPr/>
        </p:nvSpPr>
        <p:spPr>
          <a:xfrm>
            <a:off x="1600200" y="4191120"/>
            <a:ext cx="588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6"/>
          <p:cNvSpPr/>
          <p:nvPr/>
        </p:nvSpPr>
        <p:spPr>
          <a:xfrm>
            <a:off x="1584360" y="4075200"/>
            <a:ext cx="7940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WordArt 9"/>
          <p:cNvSpPr txBox="1"/>
          <p:nvPr/>
        </p:nvSpPr>
        <p:spPr>
          <a:xfrm>
            <a:off x="388800" y="4038480"/>
            <a:ext cx="8305920" cy="163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339933"/>
                </a:solidFill>
                <a:latin typeface="Times New Roman"/>
              </a:rPr>
              <a:t> </a:t>
            </a:r>
            <a:endParaRPr b="1" lang="en-US" sz="2000" spc="1" strike="noStrike">
              <a:ln w="12600">
                <a:solidFill>
                  <a:srgbClr val="ffff00"/>
                </a:solidFill>
                <a:miter/>
              </a:ln>
              <a:solidFill>
                <a:srgbClr val="339933"/>
              </a:solidFill>
              <a:latin typeface="Times New Roman"/>
              <a:ea typeface="Times New Roman"/>
            </a:endParaRPr>
          </a:p>
        </p:txBody>
      </p:sp>
      <p:sp>
        <p:nvSpPr>
          <p:cNvPr id="778" name="Text Box 10"/>
          <p:cNvSpPr/>
          <p:nvPr/>
        </p:nvSpPr>
        <p:spPr>
          <a:xfrm>
            <a:off x="152280" y="4495680"/>
            <a:ext cx="4114800" cy="19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a2839"/>
                </a:solidFill>
                <a:latin typeface="Times New Roman"/>
                <a:ea typeface="Times New Roman"/>
              </a:rPr>
              <a:t>инструктор по физической культуре                            МБДОУ Детский сад №7                          «Золотой ключик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a2839"/>
                </a:solidFill>
                <a:latin typeface="Times New Roman"/>
                <a:ea typeface="Times New Roman"/>
              </a:rPr>
              <a:t>    </a:t>
            </a:r>
            <a:r>
              <a:rPr b="1" lang="ru-RU" sz="1600" spc="-1" strike="noStrike">
                <a:solidFill>
                  <a:srgbClr val="1a2839"/>
                </a:solidFill>
                <a:latin typeface="Times New Roman"/>
                <a:ea typeface="Times New Roman"/>
              </a:rPr>
              <a:t>Землянская Марина Викторов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Box 7"/>
          <p:cNvSpPr/>
          <p:nvPr/>
        </p:nvSpPr>
        <p:spPr>
          <a:xfrm>
            <a:off x="533520" y="1219320"/>
            <a:ext cx="78534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a2839"/>
                </a:solidFill>
                <a:latin typeface="Times New Roman"/>
                <a:ea typeface="Times New Roman"/>
              </a:rPr>
              <a:t>Организац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a2839"/>
                </a:solidFill>
                <a:latin typeface="Times New Roman"/>
                <a:ea typeface="Times New Roman"/>
              </a:rPr>
              <a:t>системы физкультурно-оздоровительного процесс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a2839"/>
                </a:solidFill>
                <a:latin typeface="Times New Roman"/>
                <a:ea typeface="Times New Roman"/>
              </a:rPr>
              <a:t>в ДОО в соответствии с требованиями ФГОС Д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TextBox 1"/>
          <p:cNvSpPr/>
          <p:nvPr/>
        </p:nvSpPr>
        <p:spPr>
          <a:xfrm>
            <a:off x="3953520" y="284940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ропаган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ЗО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Box 2"/>
          <p:cNvSpPr/>
          <p:nvPr/>
        </p:nvSpPr>
        <p:spPr>
          <a:xfrm>
            <a:off x="4117320" y="838080"/>
            <a:ext cx="99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есед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Box 3"/>
          <p:cNvSpPr/>
          <p:nvPr/>
        </p:nvSpPr>
        <p:spPr>
          <a:xfrm>
            <a:off x="6039720" y="1208160"/>
            <a:ext cx="2433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гровая деятельнос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дидактические игр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развивающие игр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сюжетно-ролевы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игры-драмат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Box 4"/>
          <p:cNvSpPr/>
          <p:nvPr/>
        </p:nvSpPr>
        <p:spPr>
          <a:xfrm>
            <a:off x="6041160" y="3983040"/>
            <a:ext cx="238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ктивный отд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физкультурный дос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Дни здоров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Box 5"/>
          <p:cNvSpPr/>
          <p:nvPr/>
        </p:nvSpPr>
        <p:spPr>
          <a:xfrm>
            <a:off x="3674160" y="5210280"/>
            <a:ext cx="187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художествен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Box 6"/>
          <p:cNvSpPr/>
          <p:nvPr/>
        </p:nvSpPr>
        <p:spPr>
          <a:xfrm>
            <a:off x="1583640" y="4498920"/>
            <a:ext cx="202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Экскур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целевые прогул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Box 7"/>
          <p:cNvSpPr/>
          <p:nvPr/>
        </p:nvSpPr>
        <p:spPr>
          <a:xfrm>
            <a:off x="1496880" y="2863800"/>
            <a:ext cx="174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знаватель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актичес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Box 8"/>
          <p:cNvSpPr/>
          <p:nvPr/>
        </p:nvSpPr>
        <p:spPr>
          <a:xfrm>
            <a:off x="1681200" y="1146240"/>
            <a:ext cx="15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дуктив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Прямая соединительная линия 10"/>
          <p:cNvSpPr/>
          <p:nvPr/>
        </p:nvSpPr>
        <p:spPr>
          <a:xfrm>
            <a:off x="3340080" y="1822320"/>
            <a:ext cx="755640" cy="920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Прямая соединительная линия 14"/>
          <p:cNvSpPr/>
          <p:nvPr/>
        </p:nvSpPr>
        <p:spPr>
          <a:xfrm>
            <a:off x="4746600" y="1573200"/>
            <a:ext cx="19080" cy="10936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Прямая соединительная линия 15"/>
          <p:cNvSpPr/>
          <p:nvPr/>
        </p:nvSpPr>
        <p:spPr>
          <a:xfrm flipH="1">
            <a:off x="5435640" y="1946160"/>
            <a:ext cx="595440" cy="7970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Прямая соединительная линия 16"/>
          <p:cNvSpPr/>
          <p:nvPr/>
        </p:nvSpPr>
        <p:spPr>
          <a:xfrm flipH="1">
            <a:off x="3227040" y="3665520"/>
            <a:ext cx="885960" cy="7221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Прямая соединительная линия 17"/>
          <p:cNvSpPr/>
          <p:nvPr/>
        </p:nvSpPr>
        <p:spPr>
          <a:xfrm>
            <a:off x="4584600" y="3898800"/>
            <a:ext cx="19080" cy="10922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6" name="Рисунок 21" descr=""/>
          <p:cNvPicPr/>
          <p:nvPr/>
        </p:nvPicPr>
        <p:blipFill>
          <a:blip r:embed="rId1"/>
          <a:stretch/>
        </p:blipFill>
        <p:spPr>
          <a:xfrm rot="2071800">
            <a:off x="3110040" y="3005280"/>
            <a:ext cx="666720" cy="550800"/>
          </a:xfrm>
          <a:prstGeom prst="rect">
            <a:avLst/>
          </a:prstGeom>
          <a:ln w="0">
            <a:noFill/>
          </a:ln>
        </p:spPr>
      </p:pic>
      <p:pic>
        <p:nvPicPr>
          <p:cNvPr id="927" name="Рисунок 22" descr=""/>
          <p:cNvPicPr/>
          <p:nvPr/>
        </p:nvPicPr>
        <p:blipFill>
          <a:blip r:embed="rId2"/>
          <a:stretch/>
        </p:blipFill>
        <p:spPr>
          <a:xfrm>
            <a:off x="5170320" y="3622680"/>
            <a:ext cx="8748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Text Box 3"/>
          <p:cNvSpPr/>
          <p:nvPr/>
        </p:nvSpPr>
        <p:spPr>
          <a:xfrm>
            <a:off x="2398680" y="3357720"/>
            <a:ext cx="453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4"/>
          <p:cNvSpPr/>
          <p:nvPr/>
        </p:nvSpPr>
        <p:spPr>
          <a:xfrm>
            <a:off x="735120" y="208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 Box 5"/>
          <p:cNvSpPr/>
          <p:nvPr/>
        </p:nvSpPr>
        <p:spPr>
          <a:xfrm>
            <a:off x="1706400" y="1170000"/>
            <a:ext cx="240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Привитие культурно-гигиенич. навы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6"/>
          <p:cNvSpPr/>
          <p:nvPr/>
        </p:nvSpPr>
        <p:spPr>
          <a:xfrm>
            <a:off x="6362640" y="4084560"/>
            <a:ext cx="1067040" cy="12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Ходьба боси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8"/>
          <p:cNvSpPr/>
          <p:nvPr/>
        </p:nvSpPr>
        <p:spPr>
          <a:xfrm>
            <a:off x="7088040" y="2006640"/>
            <a:ext cx="16002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гры с вод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10"/>
          <p:cNvSpPr/>
          <p:nvPr/>
        </p:nvSpPr>
        <p:spPr>
          <a:xfrm>
            <a:off x="5726160" y="849240"/>
            <a:ext cx="1765080" cy="12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мывание прохлад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од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11"/>
          <p:cNvSpPr/>
          <p:nvPr/>
        </p:nvSpPr>
        <p:spPr>
          <a:xfrm>
            <a:off x="3419640" y="4941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12"/>
          <p:cNvSpPr/>
          <p:nvPr/>
        </p:nvSpPr>
        <p:spPr>
          <a:xfrm>
            <a:off x="6819840" y="2849400"/>
            <a:ext cx="1752840" cy="8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Облегче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одежда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13"/>
          <p:cNvSpPr/>
          <p:nvPr/>
        </p:nvSpPr>
        <p:spPr>
          <a:xfrm>
            <a:off x="2050920" y="2060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14"/>
          <p:cNvSpPr/>
          <p:nvPr/>
        </p:nvSpPr>
        <p:spPr>
          <a:xfrm>
            <a:off x="1692360" y="364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15"/>
          <p:cNvSpPr/>
          <p:nvPr/>
        </p:nvSpPr>
        <p:spPr>
          <a:xfrm flipH="1">
            <a:off x="1732680" y="5253120"/>
            <a:ext cx="1830600" cy="8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Проветривани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кварце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Rectangle 16"/>
          <p:cNvSpPr/>
          <p:nvPr/>
        </p:nvSpPr>
        <p:spPr>
          <a:xfrm>
            <a:off x="1654200" y="2612880"/>
            <a:ext cx="169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Line 17"/>
          <p:cNvSpPr/>
          <p:nvPr/>
        </p:nvSpPr>
        <p:spPr>
          <a:xfrm flipH="1" flipV="1">
            <a:off x="2895120" y="2209680"/>
            <a:ext cx="1219320" cy="91440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Line 18"/>
          <p:cNvSpPr/>
          <p:nvPr/>
        </p:nvSpPr>
        <p:spPr>
          <a:xfrm flipH="1" flipV="1">
            <a:off x="4811760" y="1100160"/>
            <a:ext cx="76320" cy="154944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19"/>
          <p:cNvSpPr/>
          <p:nvPr/>
        </p:nvSpPr>
        <p:spPr>
          <a:xfrm flipV="1">
            <a:off x="5715000" y="1676160"/>
            <a:ext cx="914400" cy="144756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21"/>
          <p:cNvSpPr/>
          <p:nvPr/>
        </p:nvSpPr>
        <p:spPr>
          <a:xfrm flipH="1">
            <a:off x="3019320" y="3809880"/>
            <a:ext cx="943200" cy="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23"/>
          <p:cNvSpPr/>
          <p:nvPr/>
        </p:nvSpPr>
        <p:spPr>
          <a:xfrm>
            <a:off x="5508720" y="3933720"/>
            <a:ext cx="434880" cy="94320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24"/>
          <p:cNvSpPr/>
          <p:nvPr/>
        </p:nvSpPr>
        <p:spPr>
          <a:xfrm flipH="1">
            <a:off x="3386160" y="3902040"/>
            <a:ext cx="1000080" cy="113184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Rectangle 25"/>
          <p:cNvSpPr/>
          <p:nvPr/>
        </p:nvSpPr>
        <p:spPr>
          <a:xfrm>
            <a:off x="3924360" y="3022560"/>
            <a:ext cx="25146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99"/>
                </a:solidFill>
                <a:latin typeface="Calibri"/>
              </a:rPr>
              <a:t>Закалив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Line 26"/>
          <p:cNvSpPr/>
          <p:nvPr/>
        </p:nvSpPr>
        <p:spPr>
          <a:xfrm flipH="1" flipV="1">
            <a:off x="5866920" y="3657240"/>
            <a:ext cx="762120" cy="30492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Rectangle 30"/>
          <p:cNvSpPr/>
          <p:nvPr/>
        </p:nvSpPr>
        <p:spPr>
          <a:xfrm>
            <a:off x="4162320" y="5419800"/>
            <a:ext cx="1524240" cy="2952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Сон с доступ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возду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31"/>
          <p:cNvSpPr/>
          <p:nvPr/>
        </p:nvSpPr>
        <p:spPr>
          <a:xfrm flipV="1">
            <a:off x="5943600" y="2362320"/>
            <a:ext cx="1295280" cy="83808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32"/>
          <p:cNvSpPr/>
          <p:nvPr/>
        </p:nvSpPr>
        <p:spPr>
          <a:xfrm flipH="1" flipV="1">
            <a:off x="4898520" y="3936960"/>
            <a:ext cx="34920" cy="112392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 Box 35"/>
          <p:cNvSpPr/>
          <p:nvPr/>
        </p:nvSpPr>
        <p:spPr>
          <a:xfrm>
            <a:off x="1706400" y="3382920"/>
            <a:ext cx="160020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Свето-воздушные ван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Line 37"/>
          <p:cNvSpPr/>
          <p:nvPr/>
        </p:nvSpPr>
        <p:spPr>
          <a:xfrm flipH="1">
            <a:off x="6019920" y="3200400"/>
            <a:ext cx="838080" cy="22860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extBox 1"/>
          <p:cNvSpPr/>
          <p:nvPr/>
        </p:nvSpPr>
        <p:spPr>
          <a:xfrm>
            <a:off x="4262040" y="63828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Прогул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Text Box 4"/>
          <p:cNvSpPr/>
          <p:nvPr/>
        </p:nvSpPr>
        <p:spPr>
          <a:xfrm>
            <a:off x="914400" y="1752480"/>
            <a:ext cx="5562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55071"/>
                </a:solidFill>
                <a:latin typeface="Calibri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Бес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Индивидуальные консуль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Семинары – практику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Информационные стен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Родительские собр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Совместные праздники,  соревн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Дни и недели здоровь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Анкетиро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5" name="Picture 2" descr="http://liceum35.edusite.ru/images/semya.gif"/>
          <p:cNvPicPr/>
          <p:nvPr/>
        </p:nvPicPr>
        <p:blipFill>
          <a:blip r:embed="rId1"/>
          <a:stretch/>
        </p:blipFill>
        <p:spPr>
          <a:xfrm>
            <a:off x="5486400" y="770040"/>
            <a:ext cx="3311640" cy="2946240"/>
          </a:xfrm>
          <a:prstGeom prst="rect">
            <a:avLst/>
          </a:prstGeom>
          <a:ln w="0">
            <a:noFill/>
          </a:ln>
        </p:spPr>
      </p:pic>
      <p:sp>
        <p:nvSpPr>
          <p:cNvPr id="956" name="WordArt 10"/>
          <p:cNvSpPr txBox="1"/>
          <p:nvPr/>
        </p:nvSpPr>
        <p:spPr>
          <a:xfrm>
            <a:off x="838080" y="1905120"/>
            <a:ext cx="42674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абота с родителями</a:t>
            </a:r>
            <a:endParaRPr b="1" lang="en-US" sz="2800" spc="1" strike="noStrike">
              <a:ln w="1260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"/>
          <p:cNvSpPr txBox="1"/>
          <p:nvPr/>
        </p:nvSpPr>
        <p:spPr>
          <a:xfrm>
            <a:off x="1752480" y="2285640"/>
            <a:ext cx="60962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МЕДИЦИНСКИЙ БЛОК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МЕДИЦИНСКИЙ КАБИНЕТ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ПРОЦЕДУРНЫЙ КАБИНЕТ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ИЗОЛЯТОР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В ГРУППАХ</a:t>
            </a: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 ДЕТСКОГО САДА НАХОДЯТСЯ</a:t>
            </a:r>
            <a:r>
              <a:rPr b="1" i="1" lang="en-US" sz="1800" spc="-1" strike="noStrike">
                <a:solidFill>
                  <a:srgbClr val="c00000"/>
                </a:solidFill>
                <a:latin typeface="Calibri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        </a:t>
            </a: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БАКТЕРИЦИДНЫЕ ЛАМПЫ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8" name="WordArt 7"/>
          <p:cNvSpPr txBox="1"/>
          <p:nvPr/>
        </p:nvSpPr>
        <p:spPr>
          <a:xfrm>
            <a:off x="1333440" y="1066680"/>
            <a:ext cx="636264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атериально – технические условия </a:t>
            </a:r>
            <a:endParaRPr b="1" lang="en-US" sz="2800" spc="1" strike="noStrike">
              <a:ln w="1260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"/>
          <p:cNvSpPr txBox="1"/>
          <p:nvPr/>
        </p:nvSpPr>
        <p:spPr>
          <a:xfrm>
            <a:off x="2514600" y="2362320"/>
            <a:ext cx="5943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ФИЗКУЛЬТУРНЫЙ ЗАЛ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МУЗЫКАЛЬНЫЙ ЗАЛ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СПОРТИВНАЯ ПЛОЩАДКА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РОГУЛОЧНЫЕ УЧАСТКИ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ЦЕНТР ФИЗИЧЕСКОЙ  КУЛЬТУРЫ (В ГРУППАХ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0" name="WordArt 27"/>
          <p:cNvSpPr txBox="1"/>
          <p:nvPr/>
        </p:nvSpPr>
        <p:spPr>
          <a:xfrm>
            <a:off x="2019240" y="380880"/>
            <a:ext cx="613404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едметно-развивающая среда </a:t>
            </a:r>
            <a:endParaRPr b="1" lang="en-US" sz="2400" spc="1" strike="noStrike">
              <a:ln w="1260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1" name="Diagram 35"/>
          <p:cNvGrpSpPr/>
          <p:nvPr/>
        </p:nvGrpSpPr>
        <p:grpSpPr>
          <a:xfrm>
            <a:off x="1566720" y="880920"/>
            <a:ext cx="5865480" cy="5611680"/>
            <a:chOff x="1566720" y="880920"/>
            <a:chExt cx="5865480" cy="5611680"/>
          </a:xfrm>
        </p:grpSpPr>
        <p:sp>
          <p:nvSpPr>
            <p:cNvPr id="962" name="_s62468"/>
            <p:cNvSpPr/>
            <p:nvPr/>
          </p:nvSpPr>
          <p:spPr>
            <a:xfrm flipH="1" flipV="1">
              <a:off x="3450600" y="2654640"/>
              <a:ext cx="624600" cy="704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_s62469"/>
            <p:cNvSpPr/>
            <p:nvPr/>
          </p:nvSpPr>
          <p:spPr>
            <a:xfrm>
              <a:off x="2351520" y="1524600"/>
              <a:ext cx="1344600" cy="1280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a35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w Cen MT"/>
                </a:rPr>
                <a:t>Прогулки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w Cen MT"/>
                </a:rPr>
                <a:t>подвижны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w Cen MT"/>
                </a:rPr>
                <a:t>игр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_s62470"/>
            <p:cNvSpPr/>
            <p:nvPr/>
          </p:nvSpPr>
          <p:spPr>
            <a:xfrm flipH="1" flipV="1">
              <a:off x="2891160" y="3578040"/>
              <a:ext cx="954720" cy="158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_s62471"/>
            <p:cNvSpPr/>
            <p:nvPr/>
          </p:nvSpPr>
          <p:spPr>
            <a:xfrm>
              <a:off x="1566720" y="2862720"/>
              <a:ext cx="1344600" cy="1280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ce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w Cen MT"/>
                </a:rPr>
                <a:t>Гимнастика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w Cen MT"/>
                </a:rPr>
                <a:t>посл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w Cen MT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Tw Cen MT"/>
                </a:rPr>
                <a:t>дневного сн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_s62472"/>
            <p:cNvSpPr/>
            <p:nvPr/>
          </p:nvSpPr>
          <p:spPr>
            <a:xfrm flipH="1">
              <a:off x="3232440" y="4166640"/>
              <a:ext cx="693360" cy="781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_s62473"/>
            <p:cNvSpPr/>
            <p:nvPr/>
          </p:nvSpPr>
          <p:spPr>
            <a:xfrm>
              <a:off x="2023560" y="4625640"/>
              <a:ext cx="1344600" cy="12780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2fa3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w Cen MT"/>
                </a:rPr>
                <a:t>Гимнастика: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w Cen MT"/>
                </a:rPr>
                <a:t>пальчиковая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w Cen MT"/>
                </a:rPr>
                <a:t>дыхательна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w Cen MT"/>
                </a:rPr>
                <a:t>артикуляционна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_s62476"/>
            <p:cNvSpPr/>
            <p:nvPr/>
          </p:nvSpPr>
          <p:spPr>
            <a:xfrm>
              <a:off x="4673520" y="4466160"/>
              <a:ext cx="0" cy="649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_s62477"/>
            <p:cNvSpPr/>
            <p:nvPr/>
          </p:nvSpPr>
          <p:spPr>
            <a:xfrm>
              <a:off x="3959640" y="5212080"/>
              <a:ext cx="1344600" cy="1280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4bca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Работа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с родителям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_s62478"/>
            <p:cNvSpPr/>
            <p:nvPr/>
          </p:nvSpPr>
          <p:spPr>
            <a:xfrm>
              <a:off x="5083560" y="4166640"/>
              <a:ext cx="838440" cy="45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_s62479"/>
            <p:cNvSpPr/>
            <p:nvPr/>
          </p:nvSpPr>
          <p:spPr>
            <a:xfrm>
              <a:off x="5830560" y="4306680"/>
              <a:ext cx="1344600" cy="12787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a35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w Cen MT"/>
                </a:rPr>
                <a:t>Физкульт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w Cen MT"/>
                </a:rPr>
                <a:t>минут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_s62480"/>
            <p:cNvSpPr/>
            <p:nvPr/>
          </p:nvSpPr>
          <p:spPr>
            <a:xfrm flipV="1">
              <a:off x="5163840" y="3576240"/>
              <a:ext cx="949680" cy="161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_s62481"/>
            <p:cNvSpPr/>
            <p:nvPr/>
          </p:nvSpPr>
          <p:spPr>
            <a:xfrm>
              <a:off x="6105240" y="2790720"/>
              <a:ext cx="1326960" cy="13168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d99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w Cen MT"/>
                </a:rPr>
                <a:t>Индивидуальна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w Cen MT"/>
                </a:rPr>
                <a:t>рабо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_s62482"/>
            <p:cNvSpPr/>
            <p:nvPr/>
          </p:nvSpPr>
          <p:spPr>
            <a:xfrm flipV="1">
              <a:off x="4934160" y="2654640"/>
              <a:ext cx="619920" cy="704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_s62483"/>
            <p:cNvSpPr/>
            <p:nvPr/>
          </p:nvSpPr>
          <p:spPr>
            <a:xfrm>
              <a:off x="5279760" y="1575360"/>
              <a:ext cx="1349280" cy="13021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w Cen MT"/>
                </a:rPr>
                <a:t>Физкультурны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w Cen MT"/>
                </a:rPr>
                <a:t>занят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_s62484"/>
            <p:cNvSpPr/>
            <p:nvPr/>
          </p:nvSpPr>
          <p:spPr>
            <a:xfrm flipV="1">
              <a:off x="4503960" y="2290680"/>
              <a:ext cx="0" cy="919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_s62485"/>
            <p:cNvSpPr/>
            <p:nvPr/>
          </p:nvSpPr>
          <p:spPr>
            <a:xfrm>
              <a:off x="3796920" y="880920"/>
              <a:ext cx="1447200" cy="12891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2fa3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w Cen MT"/>
                </a:rPr>
                <a:t>Утрення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w Cen MT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Tw Cen MT"/>
                </a:rPr>
                <a:t>гимнастика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_s62486"/>
            <p:cNvSpPr/>
            <p:nvPr/>
          </p:nvSpPr>
          <p:spPr>
            <a:xfrm>
              <a:off x="3720960" y="2941200"/>
              <a:ext cx="1549800" cy="1524960"/>
            </a:xfrm>
            <a:prstGeom prst="ellipse">
              <a:avLst/>
            </a:pr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cc"/>
                  </a:solidFill>
                  <a:latin typeface="Tw Cen MT"/>
                </a:rPr>
                <a:t>Физкультурно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cc"/>
                  </a:solidFill>
                  <a:latin typeface="Tw Cen MT"/>
                </a:rPr>
                <a:t>оздоровительная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cc"/>
                  </a:solidFill>
                  <a:latin typeface="Tw Cen MT"/>
                </a:rPr>
                <a:t>рабо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9" name="Рисунок 3" descr=""/>
          <p:cNvPicPr/>
          <p:nvPr/>
        </p:nvPicPr>
        <p:blipFill>
          <a:blip r:embed="rId1"/>
          <a:stretch/>
        </p:blipFill>
        <p:spPr>
          <a:xfrm>
            <a:off x="0" y="4419720"/>
            <a:ext cx="2089080" cy="2087280"/>
          </a:xfrm>
          <a:prstGeom prst="rect">
            <a:avLst/>
          </a:prstGeom>
          <a:ln w="0">
            <a:noFill/>
          </a:ln>
        </p:spPr>
      </p:pic>
      <p:pic>
        <p:nvPicPr>
          <p:cNvPr id="980" name="Рисунок 4" descr=""/>
          <p:cNvPicPr/>
          <p:nvPr/>
        </p:nvPicPr>
        <p:blipFill>
          <a:blip r:embed="rId2"/>
          <a:stretch/>
        </p:blipFill>
        <p:spPr>
          <a:xfrm>
            <a:off x="7043760" y="4343400"/>
            <a:ext cx="2100240" cy="2158920"/>
          </a:xfrm>
          <a:prstGeom prst="rect">
            <a:avLst/>
          </a:prstGeom>
          <a:ln w="0">
            <a:noFill/>
          </a:ln>
        </p:spPr>
      </p:pic>
      <p:sp>
        <p:nvSpPr>
          <p:cNvPr id="981" name="WordArt 54"/>
          <p:cNvSpPr txBox="1"/>
          <p:nvPr/>
        </p:nvSpPr>
        <p:spPr>
          <a:xfrm>
            <a:off x="941400" y="415800"/>
            <a:ext cx="93456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  </a:t>
            </a:r>
            <a:r>
              <a:rPr b="1" lang="en-US" sz="2000" spc="1" strike="noStrike">
                <a:ln w="1260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дель ежедневной физкультурно-оздоровительной работы                                      </a:t>
            </a:r>
            <a:endParaRPr b="1" lang="en-US" sz="2000" spc="1" strike="noStrike">
              <a:ln w="1260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4" dur="2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"/>
          <p:cNvSpPr txBox="1"/>
          <p:nvPr/>
        </p:nvSpPr>
        <p:spPr>
          <a:xfrm>
            <a:off x="762120" y="1066680"/>
            <a:ext cx="8153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СПАСИБО                   ЗА    ВНИМАНИЕ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2200" spc="-1" strike="noStrike" u="sng">
                <a:solidFill>
                  <a:srgbClr val="990000"/>
                </a:solidFill>
                <a:uFillTx/>
                <a:latin typeface="Calibri"/>
              </a:rPr>
              <a:t>О</a:t>
            </a:r>
            <a:r>
              <a:rPr b="1" i="1" lang="ru-RU" sz="2200" spc="-1" strike="noStrike" u="sng">
                <a:solidFill>
                  <a:srgbClr val="990000"/>
                </a:solidFill>
                <a:uFillTx/>
                <a:latin typeface="Calibri"/>
              </a:rPr>
              <a:t>СНОВОПОЛАГАЮЩИЕ ДОКУМЕНТЫ ПО ПРОБЛЕМЕ ОБЕСПЕЧЕНИЯ ЗДОРОВЬЯ ДЕТЕЙ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*ЗАКОН РФ: «ОБ ОБРАЗОВАНИИ В РОССИЙСКОЙ ФЕДЕРАЦИИ»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*САНПИН 2.4.1.3049-13, «О САНИТАРНО- ЭПИДЕМИОЛОГИЧЕСКОМ БЛАГОПОЛУЧИИ НАСЕЛЕНИЯ РФ»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*УКАЗ ПРЕЗИДЕНТА РОССИИ «О НЕОТЛОЖНЫХ МЕРАХ ПО ОБЕСПЕЧЕНИЮ ЗДОРОВЬЯ НАСЕЛЕНИЯ В РФ»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*«КОНВЕНЦИЯ О ПРАВАХ РЕБЕНКА»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82" name="Picture 4" descr="images (6)"/>
          <p:cNvPicPr/>
          <p:nvPr/>
        </p:nvPicPr>
        <p:blipFill>
          <a:blip r:embed="rId1"/>
          <a:srcRect l="13238" t="8770" r="0" b="0"/>
          <a:stretch/>
        </p:blipFill>
        <p:spPr>
          <a:xfrm>
            <a:off x="5486400" y="3886200"/>
            <a:ext cx="2666880" cy="23511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Text Box 8"/>
          <p:cNvSpPr/>
          <p:nvPr/>
        </p:nvSpPr>
        <p:spPr>
          <a:xfrm>
            <a:off x="533520" y="1143000"/>
            <a:ext cx="78771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990000"/>
                </a:solidFill>
                <a:uFillTx/>
                <a:latin typeface="Calibri"/>
              </a:rPr>
              <a:t>Цель физкультурно-оздоровительной работы в ДОУ</a:t>
            </a:r>
            <a:r>
              <a:rPr b="1" i="1" lang="ru-RU" sz="1800" spc="-1" strike="noStrike">
                <a:solidFill>
                  <a:srgbClr val="99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- сохранение и укрепление физического и психическ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здоровья детей, совершенствование их физическ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развития, приобщение к здоровому образу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990000"/>
                </a:solidFill>
                <a:uFillTx/>
                <a:latin typeface="Calibri"/>
              </a:rPr>
              <a:t>Задачи физкультурно-оздоровительной работы в ДО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- охрана и укрепление здоровья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- формирование жизненно необходимых двигатель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умений и навыков ребёнка в соответствии с его индивидуальными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особенностями, развит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физических каче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- создание условий для реал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зации потребности детей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двигательной актив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- воспитание потребности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здоровом образе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- обеспечение физического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сихического     благополуч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0"/>
          <p:cNvSpPr/>
          <p:nvPr/>
        </p:nvSpPr>
        <p:spPr>
          <a:xfrm>
            <a:off x="2809800" y="3246480"/>
            <a:ext cx="29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                 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6" name="WordArt 42"/>
          <p:cNvSpPr txBox="1"/>
          <p:nvPr/>
        </p:nvSpPr>
        <p:spPr>
          <a:xfrm>
            <a:off x="501480" y="268200"/>
            <a:ext cx="820116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solidFill>
                    <a:srgbClr val="993300"/>
                  </a:solidFill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alibri"/>
              </a:rPr>
              <a:t>Система физкультурно-оздоровителной работы в ДОУ</a:t>
            </a:r>
            <a:endParaRPr b="1" lang="en-US" sz="2800" spc="1" strike="noStrike">
              <a:ln w="0">
                <a:solidFill>
                  <a:srgbClr val="993300"/>
                </a:solidFill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alibri"/>
              <a:ea typeface="Calibri"/>
            </a:endParaRPr>
          </a:p>
        </p:txBody>
      </p:sp>
      <p:grpSp>
        <p:nvGrpSpPr>
          <p:cNvPr id="787" name="Diagram 35"/>
          <p:cNvGrpSpPr/>
          <p:nvPr/>
        </p:nvGrpSpPr>
        <p:grpSpPr>
          <a:xfrm>
            <a:off x="1828800" y="1143000"/>
            <a:ext cx="5743080" cy="5328720"/>
            <a:chOff x="1828800" y="1143000"/>
            <a:chExt cx="5743080" cy="5328720"/>
          </a:xfrm>
        </p:grpSpPr>
        <p:sp>
          <p:nvSpPr>
            <p:cNvPr id="788" name="_s62468"/>
            <p:cNvSpPr/>
            <p:nvPr/>
          </p:nvSpPr>
          <p:spPr>
            <a:xfrm flipH="1" flipV="1">
              <a:off x="3632760" y="2723040"/>
              <a:ext cx="597600" cy="674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_s62469"/>
            <p:cNvSpPr/>
            <p:nvPr/>
          </p:nvSpPr>
          <p:spPr>
            <a:xfrm>
              <a:off x="2580120" y="1641240"/>
              <a:ext cx="1287360" cy="12258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a35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Calibri"/>
                </a:rPr>
                <a:t>Режим дн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_s62470"/>
            <p:cNvSpPr/>
            <p:nvPr/>
          </p:nvSpPr>
          <p:spPr>
            <a:xfrm flipH="1" flipV="1">
              <a:off x="3096360" y="3607200"/>
              <a:ext cx="91404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_s62471"/>
            <p:cNvSpPr/>
            <p:nvPr/>
          </p:nvSpPr>
          <p:spPr>
            <a:xfrm>
              <a:off x="1828800" y="2922120"/>
              <a:ext cx="1287360" cy="12258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ce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Calibri"/>
                </a:rPr>
                <a:t>Материально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Calibri"/>
                </a:rPr>
                <a:t>технически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Calibri"/>
                </a:rPr>
                <a:t>услов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Calibri"/>
                </a:rPr>
                <a:t>Предметно-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Calibri"/>
                </a:rPr>
                <a:t>развив сре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_s62472"/>
            <p:cNvSpPr/>
            <p:nvPr/>
          </p:nvSpPr>
          <p:spPr>
            <a:xfrm flipH="1">
              <a:off x="3284280" y="4170240"/>
              <a:ext cx="802440" cy="44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_s62473"/>
            <p:cNvSpPr/>
            <p:nvPr/>
          </p:nvSpPr>
          <p:spPr>
            <a:xfrm>
              <a:off x="2087280" y="4304160"/>
              <a:ext cx="1287360" cy="12240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2fa3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Calibri"/>
                </a:rPr>
                <a:t>Работа с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Calibri"/>
                </a:rPr>
                <a:t>родителям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_s62474"/>
            <p:cNvSpPr/>
            <p:nvPr/>
          </p:nvSpPr>
          <p:spPr>
            <a:xfrm flipH="1">
              <a:off x="4106520" y="4438440"/>
              <a:ext cx="316080" cy="829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_s62475"/>
            <p:cNvSpPr/>
            <p:nvPr/>
          </p:nvSpPr>
          <p:spPr>
            <a:xfrm>
              <a:off x="3263400" y="5245920"/>
              <a:ext cx="1287360" cy="12258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d99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Calibri"/>
                </a:rPr>
                <a:t>Работа п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Calibri"/>
                </a:rPr>
                <a:t>формированию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Calibri"/>
                </a:rPr>
                <a:t>ЗО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_s62476"/>
            <p:cNvSpPr/>
            <p:nvPr/>
          </p:nvSpPr>
          <p:spPr>
            <a:xfrm>
              <a:off x="4860720" y="4438440"/>
              <a:ext cx="317880" cy="82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_s62477"/>
            <p:cNvSpPr/>
            <p:nvPr/>
          </p:nvSpPr>
          <p:spPr>
            <a:xfrm>
              <a:off x="4753440" y="5229720"/>
              <a:ext cx="1287360" cy="1227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4bca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         </a:t>
              </a:r>
              <a:r>
                <a:rPr b="1" i="1" lang="ru-RU" sz="1800" spc="-1" strike="noStrike">
                  <a:solidFill>
                    <a:srgbClr val="000000"/>
                  </a:solidFill>
                  <a:latin typeface="Calibri"/>
                </a:rPr>
                <a:t>Санитарно-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1" i="1" lang="ru-RU" sz="1800" spc="-1" strike="noStrike">
                  <a:solidFill>
                    <a:srgbClr val="000000"/>
                  </a:solidFill>
                  <a:latin typeface="Calibri"/>
                </a:rPr>
                <a:t>гигиеническ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i="1" lang="ru-RU" sz="1800" spc="-1" strike="noStrike">
                  <a:solidFill>
                    <a:srgbClr val="000000"/>
                  </a:solidFill>
                  <a:latin typeface="Calibri"/>
                </a:rPr>
                <a:t>требов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_s62478"/>
            <p:cNvSpPr/>
            <p:nvPr/>
          </p:nvSpPr>
          <p:spPr>
            <a:xfrm>
              <a:off x="5195520" y="4170240"/>
              <a:ext cx="802440" cy="439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_s62479"/>
            <p:cNvSpPr/>
            <p:nvPr/>
          </p:nvSpPr>
          <p:spPr>
            <a:xfrm>
              <a:off x="5910840" y="4304160"/>
              <a:ext cx="1287360" cy="12240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a35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i="1" lang="ru-RU" sz="1800" spc="-1" strike="noStrike">
                  <a:solidFill>
                    <a:srgbClr val="000000"/>
                  </a:solidFill>
                  <a:latin typeface="Calibri"/>
                </a:rPr>
                <a:t>Организаци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Calibri"/>
                </a:rPr>
                <a:t>пит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_s62480"/>
            <p:cNvSpPr/>
            <p:nvPr/>
          </p:nvSpPr>
          <p:spPr>
            <a:xfrm flipV="1">
              <a:off x="5272560" y="3604680"/>
              <a:ext cx="909000" cy="154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_s62481"/>
            <p:cNvSpPr/>
            <p:nvPr/>
          </p:nvSpPr>
          <p:spPr>
            <a:xfrm>
              <a:off x="6173640" y="2853000"/>
              <a:ext cx="1398240" cy="12603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d99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Calibri"/>
                </a:rPr>
                <a:t>Профилак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Calibri"/>
                </a:rPr>
                <a:t>тическ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Calibri"/>
                </a:rPr>
                <a:t>мероприятия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Calibri"/>
                </a:rPr>
                <a:t>Закалива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_s62482"/>
            <p:cNvSpPr/>
            <p:nvPr/>
          </p:nvSpPr>
          <p:spPr>
            <a:xfrm flipV="1">
              <a:off x="5052600" y="2723040"/>
              <a:ext cx="593280" cy="674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_s62483"/>
            <p:cNvSpPr/>
            <p:nvPr/>
          </p:nvSpPr>
          <p:spPr>
            <a:xfrm>
              <a:off x="5383440" y="1689480"/>
              <a:ext cx="1389960" cy="1246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Calibri"/>
                </a:rPr>
                <a:t>Двигательна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Calibri"/>
                </a:rPr>
                <a:t>деятель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_s62484"/>
            <p:cNvSpPr/>
            <p:nvPr/>
          </p:nvSpPr>
          <p:spPr>
            <a:xfrm flipV="1">
              <a:off x="4640760" y="2374920"/>
              <a:ext cx="0" cy="880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_s62485"/>
            <p:cNvSpPr/>
            <p:nvPr/>
          </p:nvSpPr>
          <p:spPr>
            <a:xfrm>
              <a:off x="3948840" y="1143000"/>
              <a:ext cx="1383120" cy="1234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2fa3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i="1" lang="ru-RU" sz="1800" spc="-1" strike="noStrike">
                  <a:solidFill>
                    <a:srgbClr val="000000"/>
                  </a:solidFill>
                  <a:latin typeface="Calibri"/>
                </a:rPr>
                <a:t>Мониторин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Calibri"/>
                </a:rPr>
                <a:t>Диспансери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Calibri"/>
                </a:rPr>
                <a:t>зация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_s62486"/>
            <p:cNvSpPr/>
            <p:nvPr/>
          </p:nvSpPr>
          <p:spPr>
            <a:xfrm>
              <a:off x="3997800" y="3255480"/>
              <a:ext cx="1287360" cy="1225800"/>
            </a:xfrm>
            <a:prstGeom prst="ellipse">
              <a:avLst/>
            </a:pr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Calibri"/>
                </a:rPr>
                <a:t>Система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Calibri"/>
                </a:rPr>
                <a:t>физкультурно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Calibri"/>
                </a:rPr>
                <a:t>оздоровительн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Calibri"/>
                </a:rPr>
                <a:t>работы в ДОУ</a:t>
              </a:r>
              <a:r>
                <a:rPr b="1" lang="ru-RU" sz="19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Box 1"/>
          <p:cNvSpPr/>
          <p:nvPr/>
        </p:nvSpPr>
        <p:spPr>
          <a:xfrm>
            <a:off x="3359160" y="3041640"/>
            <a:ext cx="25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b5484"/>
                </a:solidFill>
                <a:latin typeface="Arial"/>
              </a:rPr>
              <a:t>Мониторин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Box 3"/>
          <p:cNvSpPr/>
          <p:nvPr/>
        </p:nvSpPr>
        <p:spPr>
          <a:xfrm>
            <a:off x="3507480" y="493560"/>
            <a:ext cx="358848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Состояние здоров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заболеваем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-количество частоболеющи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-</a:t>
            </a:r>
            <a:r>
              <a:rPr b="0" lang="ru-RU" sz="1400" spc="-1" strike="noStrike">
                <a:solidFill>
                  <a:srgbClr val="ff0000"/>
                </a:solidFill>
                <a:latin typeface="Century Schoolbook"/>
                <a:ea typeface="Arial"/>
              </a:rPr>
              <a:t>количество детей с отклонения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entury Schoolbook"/>
                <a:ea typeface="Arial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Century Schoolbook"/>
                <a:ea typeface="Arial"/>
              </a:rPr>
              <a:t>в состоянии здоровья, хронически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entury Schoolbook"/>
                <a:ea typeface="Arial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Century Schoolbook"/>
                <a:ea typeface="Arial"/>
              </a:rPr>
              <a:t>заболевания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entury Schoolbook"/>
                <a:ea typeface="Arial"/>
              </a:rPr>
              <a:t>-распределение детей по группа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entury Schoolbook"/>
                <a:ea typeface="Arial"/>
              </a:rPr>
              <a:t>здоровь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Box 9"/>
          <p:cNvSpPr/>
          <p:nvPr/>
        </p:nvSpPr>
        <p:spPr>
          <a:xfrm>
            <a:off x="5812920" y="4097160"/>
            <a:ext cx="28540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Физическое 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-</a:t>
            </a:r>
            <a:r>
              <a:rPr b="0" lang="ru-RU" sz="1400" spc="-1" strike="noStrike">
                <a:solidFill>
                  <a:srgbClr val="ff0000"/>
                </a:solidFill>
                <a:latin typeface="Century Schoolbook"/>
                <a:ea typeface="Arial"/>
              </a:rPr>
              <a:t>антропометрические дан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entury Schoolbook"/>
                <a:ea typeface="Arial"/>
              </a:rPr>
              <a:t>-характеристика стоп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entury Schoolbook"/>
                <a:ea typeface="Arial"/>
              </a:rPr>
              <a:t>-характеристика опорно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entury Schoolbook"/>
                <a:ea typeface="Arial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Century Schoolbook"/>
                <a:ea typeface="Arial"/>
              </a:rPr>
              <a:t>двигательного аппара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Box 10"/>
          <p:cNvSpPr/>
          <p:nvPr/>
        </p:nvSpPr>
        <p:spPr>
          <a:xfrm>
            <a:off x="1502280" y="4267080"/>
            <a:ext cx="324864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Двигательное 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-развитие скоростно-силов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качеств и координации движ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entury Schoolbook"/>
              </a:rPr>
              <a:t>- двигательные умения и навы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Прямая соединительная линия 13"/>
          <p:cNvSpPr/>
          <p:nvPr/>
        </p:nvSpPr>
        <p:spPr>
          <a:xfrm>
            <a:off x="5105520" y="2514600"/>
            <a:ext cx="0" cy="5875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Прямая соединительная линия 16"/>
          <p:cNvSpPr/>
          <p:nvPr/>
        </p:nvSpPr>
        <p:spPr>
          <a:xfrm>
            <a:off x="5410080" y="3587760"/>
            <a:ext cx="914400" cy="4237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Прямая соединительная линия 17"/>
          <p:cNvSpPr/>
          <p:nvPr/>
        </p:nvSpPr>
        <p:spPr>
          <a:xfrm flipH="1">
            <a:off x="3684600" y="3646440"/>
            <a:ext cx="604800" cy="593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Line 20"/>
          <p:cNvSpPr/>
          <p:nvPr/>
        </p:nvSpPr>
        <p:spPr>
          <a:xfrm flipH="1" flipV="1">
            <a:off x="3505320" y="1666800"/>
            <a:ext cx="490320" cy="125424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Line 21"/>
          <p:cNvSpPr/>
          <p:nvPr/>
        </p:nvSpPr>
        <p:spPr>
          <a:xfrm flipV="1">
            <a:off x="4343400" y="1219320"/>
            <a:ext cx="457200" cy="180504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Line 19"/>
          <p:cNvSpPr/>
          <p:nvPr/>
        </p:nvSpPr>
        <p:spPr>
          <a:xfrm flipH="1" flipV="1">
            <a:off x="2057040" y="1294920"/>
            <a:ext cx="1590840" cy="146844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4"/>
          <p:cNvSpPr/>
          <p:nvPr/>
        </p:nvSpPr>
        <p:spPr>
          <a:xfrm>
            <a:off x="3341520" y="2725560"/>
            <a:ext cx="2578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Calibri"/>
              </a:rPr>
              <a:t>Двигатель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Calibri"/>
              </a:rPr>
              <a:t>де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6"/>
          <p:cNvSpPr/>
          <p:nvPr/>
        </p:nvSpPr>
        <p:spPr>
          <a:xfrm>
            <a:off x="735120" y="208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 Box 7"/>
          <p:cNvSpPr/>
          <p:nvPr/>
        </p:nvSpPr>
        <p:spPr>
          <a:xfrm>
            <a:off x="2808360" y="5284800"/>
            <a:ext cx="237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Коррекционная гимнастика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: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для глаз, дыхательная, пальчик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 Box 8"/>
          <p:cNvSpPr/>
          <p:nvPr/>
        </p:nvSpPr>
        <p:spPr>
          <a:xfrm>
            <a:off x="6245280" y="193356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Подвижные игры и физ. упраж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9"/>
          <p:cNvSpPr/>
          <p:nvPr/>
        </p:nvSpPr>
        <p:spPr>
          <a:xfrm>
            <a:off x="685800" y="20908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Гимнастика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после с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11"/>
          <p:cNvSpPr/>
          <p:nvPr/>
        </p:nvSpPr>
        <p:spPr>
          <a:xfrm>
            <a:off x="3419640" y="4941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 Box 12"/>
          <p:cNvSpPr/>
          <p:nvPr/>
        </p:nvSpPr>
        <p:spPr>
          <a:xfrm>
            <a:off x="6595920" y="47433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Пла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13"/>
          <p:cNvSpPr/>
          <p:nvPr/>
        </p:nvSpPr>
        <p:spPr>
          <a:xfrm>
            <a:off x="3716280" y="6541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Утренняя гимна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14"/>
          <p:cNvSpPr/>
          <p:nvPr/>
        </p:nvSpPr>
        <p:spPr>
          <a:xfrm>
            <a:off x="2050920" y="2060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15"/>
          <p:cNvSpPr/>
          <p:nvPr/>
        </p:nvSpPr>
        <p:spPr>
          <a:xfrm>
            <a:off x="844560" y="3303720"/>
            <a:ext cx="18288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здоровитель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ый бе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16"/>
          <p:cNvSpPr/>
          <p:nvPr/>
        </p:nvSpPr>
        <p:spPr>
          <a:xfrm flipH="1">
            <a:off x="6939000" y="292896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портивные иг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Line 18"/>
          <p:cNvSpPr/>
          <p:nvPr/>
        </p:nvSpPr>
        <p:spPr>
          <a:xfrm>
            <a:off x="2989440" y="2997360"/>
            <a:ext cx="668160" cy="35532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22"/>
          <p:cNvSpPr/>
          <p:nvPr/>
        </p:nvSpPr>
        <p:spPr>
          <a:xfrm flipV="1">
            <a:off x="5133960" y="2130120"/>
            <a:ext cx="485640" cy="63036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Line 23"/>
          <p:cNvSpPr/>
          <p:nvPr/>
        </p:nvSpPr>
        <p:spPr>
          <a:xfrm flipV="1">
            <a:off x="5562720" y="2743200"/>
            <a:ext cx="685800" cy="45720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Line 25"/>
          <p:cNvSpPr/>
          <p:nvPr/>
        </p:nvSpPr>
        <p:spPr>
          <a:xfrm flipH="1">
            <a:off x="2666880" y="3581280"/>
            <a:ext cx="914400" cy="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Line 26"/>
          <p:cNvSpPr/>
          <p:nvPr/>
        </p:nvSpPr>
        <p:spPr>
          <a:xfrm flipH="1">
            <a:off x="2666520" y="4025880"/>
            <a:ext cx="1049400" cy="103500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Line 28"/>
          <p:cNvSpPr/>
          <p:nvPr/>
        </p:nvSpPr>
        <p:spPr>
          <a:xfrm flipV="1">
            <a:off x="5638680" y="3262320"/>
            <a:ext cx="1300320" cy="39528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Line 29"/>
          <p:cNvSpPr/>
          <p:nvPr/>
        </p:nvSpPr>
        <p:spPr>
          <a:xfrm>
            <a:off x="5715000" y="3809880"/>
            <a:ext cx="1752480" cy="53352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Line 31"/>
          <p:cNvSpPr/>
          <p:nvPr/>
        </p:nvSpPr>
        <p:spPr>
          <a:xfrm flipH="1">
            <a:off x="4096800" y="3983040"/>
            <a:ext cx="282600" cy="95868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Line 32"/>
          <p:cNvSpPr/>
          <p:nvPr/>
        </p:nvSpPr>
        <p:spPr>
          <a:xfrm>
            <a:off x="5095800" y="3938760"/>
            <a:ext cx="903240" cy="77292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Line 34"/>
          <p:cNvSpPr/>
          <p:nvPr/>
        </p:nvSpPr>
        <p:spPr>
          <a:xfrm>
            <a:off x="4710240" y="4025880"/>
            <a:ext cx="950760" cy="124632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 Box 35"/>
          <p:cNvSpPr/>
          <p:nvPr/>
        </p:nvSpPr>
        <p:spPr>
          <a:xfrm>
            <a:off x="1900080" y="51444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Индивид. игровая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40"/>
          <p:cNvSpPr/>
          <p:nvPr/>
        </p:nvSpPr>
        <p:spPr>
          <a:xfrm>
            <a:off x="1257480" y="438624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Активный отдых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: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физ.досуги, спорт. праздники, дни здоров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51"/>
          <p:cNvSpPr/>
          <p:nvPr/>
        </p:nvSpPr>
        <p:spPr>
          <a:xfrm>
            <a:off x="5010120" y="1600200"/>
            <a:ext cx="152388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Физкультур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зан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Box 1"/>
          <p:cNvSpPr/>
          <p:nvPr/>
        </p:nvSpPr>
        <p:spPr>
          <a:xfrm>
            <a:off x="6796080" y="3746520"/>
            <a:ext cx="193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Индивид. рабо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по развит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движ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Box 2"/>
          <p:cNvSpPr/>
          <p:nvPr/>
        </p:nvSpPr>
        <p:spPr>
          <a:xfrm>
            <a:off x="5121000" y="4903920"/>
            <a:ext cx="122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Физкуль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ину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Line 40"/>
          <p:cNvSpPr/>
          <p:nvPr/>
        </p:nvSpPr>
        <p:spPr>
          <a:xfrm flipH="1">
            <a:off x="3733920" y="3581280"/>
            <a:ext cx="720720" cy="194472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2"/>
          <p:cNvSpPr/>
          <p:nvPr/>
        </p:nvSpPr>
        <p:spPr>
          <a:xfrm>
            <a:off x="3094200" y="2851200"/>
            <a:ext cx="326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55071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cc3300"/>
                </a:solidFill>
                <a:latin typeface="Calibri"/>
              </a:rPr>
              <a:t>Профилактические меропри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4"/>
          <p:cNvSpPr/>
          <p:nvPr/>
        </p:nvSpPr>
        <p:spPr>
          <a:xfrm>
            <a:off x="735120" y="208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5"/>
          <p:cNvSpPr/>
          <p:nvPr/>
        </p:nvSpPr>
        <p:spPr>
          <a:xfrm>
            <a:off x="3851280" y="6206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итаминиз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-го блюда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9"/>
          <p:cNvSpPr/>
          <p:nvPr/>
        </p:nvSpPr>
        <p:spPr>
          <a:xfrm>
            <a:off x="5999040" y="3641760"/>
            <a:ext cx="30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казкотерап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11"/>
          <p:cNvSpPr/>
          <p:nvPr/>
        </p:nvSpPr>
        <p:spPr>
          <a:xfrm>
            <a:off x="2590920" y="552924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узыкотерап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1600200" y="4373640"/>
            <a:ext cx="1676520" cy="150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мехотерап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игрушки-забав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13"/>
          <p:cNvSpPr/>
          <p:nvPr/>
        </p:nvSpPr>
        <p:spPr>
          <a:xfrm>
            <a:off x="3419640" y="4941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15"/>
          <p:cNvSpPr/>
          <p:nvPr/>
        </p:nvSpPr>
        <p:spPr>
          <a:xfrm>
            <a:off x="1378080" y="2719440"/>
            <a:ext cx="188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использование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фитонцид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(лук, чесно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17"/>
          <p:cNvSpPr/>
          <p:nvPr/>
        </p:nvSpPr>
        <p:spPr>
          <a:xfrm>
            <a:off x="5445000" y="1370160"/>
            <a:ext cx="33418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спользование приёмов релаксации, минуты тиш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2050920" y="2060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19"/>
          <p:cNvSpPr/>
          <p:nvPr/>
        </p:nvSpPr>
        <p:spPr>
          <a:xfrm>
            <a:off x="1692360" y="364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 Box 20"/>
          <p:cNvSpPr/>
          <p:nvPr/>
        </p:nvSpPr>
        <p:spPr>
          <a:xfrm flipH="1">
            <a:off x="1449360" y="685800"/>
            <a:ext cx="2224080" cy="10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Коррекционно-развивающие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занятия у психол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21"/>
          <p:cNvSpPr/>
          <p:nvPr/>
        </p:nvSpPr>
        <p:spPr>
          <a:xfrm>
            <a:off x="4387680" y="488484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Занятия по ОБ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валеологии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25"/>
          <p:cNvSpPr/>
          <p:nvPr/>
        </p:nvSpPr>
        <p:spPr>
          <a:xfrm flipH="1" flipV="1">
            <a:off x="3200040" y="2133720"/>
            <a:ext cx="647640" cy="100800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Line 27"/>
          <p:cNvSpPr/>
          <p:nvPr/>
        </p:nvSpPr>
        <p:spPr>
          <a:xfrm flipV="1">
            <a:off x="4351320" y="1386000"/>
            <a:ext cx="431640" cy="172872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28"/>
          <p:cNvSpPr/>
          <p:nvPr/>
        </p:nvSpPr>
        <p:spPr>
          <a:xfrm flipV="1">
            <a:off x="5638680" y="2285640"/>
            <a:ext cx="719280" cy="86364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32"/>
          <p:cNvSpPr/>
          <p:nvPr/>
        </p:nvSpPr>
        <p:spPr>
          <a:xfrm flipH="1" flipV="1">
            <a:off x="2935080" y="3301560"/>
            <a:ext cx="741240" cy="15876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34"/>
          <p:cNvSpPr/>
          <p:nvPr/>
        </p:nvSpPr>
        <p:spPr>
          <a:xfrm>
            <a:off x="6227640" y="3438360"/>
            <a:ext cx="757440" cy="24300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39"/>
          <p:cNvSpPr/>
          <p:nvPr/>
        </p:nvSpPr>
        <p:spPr>
          <a:xfrm>
            <a:off x="5018040" y="3616200"/>
            <a:ext cx="351000" cy="126540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42"/>
          <p:cNvSpPr/>
          <p:nvPr/>
        </p:nvSpPr>
        <p:spPr>
          <a:xfrm flipH="1">
            <a:off x="2971800" y="3848040"/>
            <a:ext cx="644400" cy="55080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2"/>
          <p:cNvSpPr/>
          <p:nvPr/>
        </p:nvSpPr>
        <p:spPr>
          <a:xfrm>
            <a:off x="2841480" y="2352600"/>
            <a:ext cx="453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4"/>
          <p:cNvSpPr/>
          <p:nvPr/>
        </p:nvSpPr>
        <p:spPr>
          <a:xfrm>
            <a:off x="735120" y="208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5"/>
          <p:cNvSpPr/>
          <p:nvPr/>
        </p:nvSpPr>
        <p:spPr>
          <a:xfrm>
            <a:off x="3352680" y="533520"/>
            <a:ext cx="27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Подвижные игры с элементами основных видов движ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7"/>
          <p:cNvSpPr/>
          <p:nvPr/>
        </p:nvSpPr>
        <p:spPr>
          <a:xfrm>
            <a:off x="5904000" y="542880"/>
            <a:ext cx="320040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Спортивные игры с элементами футбола, баскетбола и т.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8"/>
          <p:cNvSpPr/>
          <p:nvPr/>
        </p:nvSpPr>
        <p:spPr>
          <a:xfrm>
            <a:off x="6207120" y="1965240"/>
            <a:ext cx="278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здоровительный Общий массаж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Гидромассаж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12"/>
          <p:cNvSpPr/>
          <p:nvPr/>
        </p:nvSpPr>
        <p:spPr>
          <a:xfrm>
            <a:off x="1395360" y="28764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Ходьба на лыжа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13"/>
          <p:cNvSpPr/>
          <p:nvPr/>
        </p:nvSpPr>
        <p:spPr>
          <a:xfrm>
            <a:off x="3419640" y="4941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15"/>
          <p:cNvSpPr/>
          <p:nvPr/>
        </p:nvSpPr>
        <p:spPr>
          <a:xfrm>
            <a:off x="1454040" y="430056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Коррекционная гимнастика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18"/>
          <p:cNvSpPr/>
          <p:nvPr/>
        </p:nvSpPr>
        <p:spPr>
          <a:xfrm>
            <a:off x="2050920" y="2060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19"/>
          <p:cNvSpPr/>
          <p:nvPr/>
        </p:nvSpPr>
        <p:spPr>
          <a:xfrm>
            <a:off x="1692360" y="364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20"/>
          <p:cNvSpPr/>
          <p:nvPr/>
        </p:nvSpPr>
        <p:spPr>
          <a:xfrm flipH="1">
            <a:off x="1599480" y="1413000"/>
            <a:ext cx="20667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здоровительный          бе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Rectangle 21"/>
          <p:cNvSpPr/>
          <p:nvPr/>
        </p:nvSpPr>
        <p:spPr>
          <a:xfrm>
            <a:off x="3973680" y="4861080"/>
            <a:ext cx="4800600" cy="18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итотерапия: полоскание горла отварами трав, фиточай витами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итоадептогены (женьшен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элеутерако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25"/>
          <p:cNvSpPr/>
          <p:nvPr/>
        </p:nvSpPr>
        <p:spPr>
          <a:xfrm flipH="1" flipV="1">
            <a:off x="2895120" y="2209680"/>
            <a:ext cx="1219320" cy="91440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28"/>
          <p:cNvSpPr/>
          <p:nvPr/>
        </p:nvSpPr>
        <p:spPr>
          <a:xfrm flipH="1" flipV="1">
            <a:off x="4790880" y="1368360"/>
            <a:ext cx="75960" cy="154944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Line 29"/>
          <p:cNvSpPr/>
          <p:nvPr/>
        </p:nvSpPr>
        <p:spPr>
          <a:xfrm flipV="1">
            <a:off x="5715000" y="2473200"/>
            <a:ext cx="658800" cy="48096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Line 30"/>
          <p:cNvSpPr/>
          <p:nvPr/>
        </p:nvSpPr>
        <p:spPr>
          <a:xfrm flipH="1" flipV="1">
            <a:off x="2895120" y="3238560"/>
            <a:ext cx="1143000" cy="41904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Line 32"/>
          <p:cNvSpPr/>
          <p:nvPr/>
        </p:nvSpPr>
        <p:spPr>
          <a:xfrm flipH="1">
            <a:off x="3303360" y="4038480"/>
            <a:ext cx="734760" cy="38124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33"/>
          <p:cNvSpPr/>
          <p:nvPr/>
        </p:nvSpPr>
        <p:spPr>
          <a:xfrm flipV="1">
            <a:off x="5369040" y="1571760"/>
            <a:ext cx="954000" cy="128880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36"/>
          <p:cNvSpPr/>
          <p:nvPr/>
        </p:nvSpPr>
        <p:spPr>
          <a:xfrm>
            <a:off x="5334120" y="4038480"/>
            <a:ext cx="1066680" cy="83844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Rectangle 41"/>
          <p:cNvSpPr/>
          <p:nvPr/>
        </p:nvSpPr>
        <p:spPr>
          <a:xfrm>
            <a:off x="3581280" y="28195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bcaad"/>
                </a:solidFill>
                <a:latin typeface="Calibri"/>
              </a:rPr>
              <a:t>Традицио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bcaad"/>
                </a:solidFill>
                <a:latin typeface="Calibri"/>
              </a:rPr>
              <a:t>       </a:t>
            </a:r>
            <a:r>
              <a:rPr b="1" lang="ru-RU" sz="2400" spc="-1" strike="noStrike">
                <a:solidFill>
                  <a:srgbClr val="4bcaad"/>
                </a:solidFill>
                <a:latin typeface="Calibri"/>
              </a:rPr>
              <a:t>формы оздоро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4" name="Рисунок 30" descr="ромашка5.jpg"/>
          <p:cNvPicPr/>
          <p:nvPr/>
        </p:nvPicPr>
        <p:blipFill>
          <a:blip r:embed="rId1"/>
          <a:stretch/>
        </p:blipFill>
        <p:spPr>
          <a:xfrm rot="1176000">
            <a:off x="7400880" y="5316480"/>
            <a:ext cx="1339920" cy="1170000"/>
          </a:xfrm>
          <a:prstGeom prst="rect">
            <a:avLst/>
          </a:prstGeom>
          <a:ln w="0">
            <a:noFill/>
          </a:ln>
        </p:spPr>
      </p:pic>
      <p:pic>
        <p:nvPicPr>
          <p:cNvPr id="885" name="Рисунок 32" descr="бк3.jpg"/>
          <p:cNvPicPr/>
          <p:nvPr/>
        </p:nvPicPr>
        <p:blipFill>
          <a:blip r:embed="rId2"/>
          <a:stretch/>
        </p:blipFill>
        <p:spPr>
          <a:xfrm rot="1855200">
            <a:off x="2447640" y="592200"/>
            <a:ext cx="544320" cy="46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Line 35"/>
          <p:cNvSpPr/>
          <p:nvPr/>
        </p:nvSpPr>
        <p:spPr>
          <a:xfrm>
            <a:off x="5791320" y="3733920"/>
            <a:ext cx="992160" cy="28404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Line 37"/>
          <p:cNvSpPr/>
          <p:nvPr/>
        </p:nvSpPr>
        <p:spPr>
          <a:xfrm>
            <a:off x="4724280" y="3886200"/>
            <a:ext cx="946440" cy="81612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2"/>
          <p:cNvSpPr/>
          <p:nvPr/>
        </p:nvSpPr>
        <p:spPr>
          <a:xfrm>
            <a:off x="2820960" y="303516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Calibri"/>
              </a:rPr>
              <a:t>Нетрадиционные формы оздоро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4"/>
          <p:cNvSpPr/>
          <p:nvPr/>
        </p:nvSpPr>
        <p:spPr>
          <a:xfrm>
            <a:off x="735120" y="208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5"/>
          <p:cNvSpPr/>
          <p:nvPr/>
        </p:nvSpPr>
        <p:spPr>
          <a:xfrm>
            <a:off x="1400040" y="438120"/>
            <a:ext cx="18907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узтерап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узсопровождение режимных процесс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узоформление фона занят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узтеатральная дея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7"/>
          <p:cNvSpPr/>
          <p:nvPr/>
        </p:nvSpPr>
        <p:spPr>
          <a:xfrm>
            <a:off x="4562640" y="488880"/>
            <a:ext cx="2576520" cy="19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утотренинг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сихогимна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игры и упражнения на развитие эмоциональной сфер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игры на подавление отрицательных эмоций и снятие невротических состоя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оррекция пове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8"/>
          <p:cNvSpPr/>
          <p:nvPr/>
        </p:nvSpPr>
        <p:spPr>
          <a:xfrm>
            <a:off x="6288120" y="2583000"/>
            <a:ext cx="22543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Приемы Су-Дж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терап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11"/>
          <p:cNvSpPr/>
          <p:nvPr/>
        </p:nvSpPr>
        <p:spPr>
          <a:xfrm>
            <a:off x="3514680" y="5008680"/>
            <a:ext cx="2228760" cy="17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роматотерап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роматизация помещен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влажнение воздуха помеще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ромамедальо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13"/>
          <p:cNvSpPr/>
          <p:nvPr/>
        </p:nvSpPr>
        <p:spPr>
          <a:xfrm>
            <a:off x="3419640" y="4941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 Box 17"/>
          <p:cNvSpPr/>
          <p:nvPr/>
        </p:nvSpPr>
        <p:spPr>
          <a:xfrm>
            <a:off x="2884320" y="919080"/>
            <a:ext cx="175896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Свето и цветотерап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еспечение светового режим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цветовое и световое сопровождение среды учебного процес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 Box 18"/>
          <p:cNvSpPr/>
          <p:nvPr/>
        </p:nvSpPr>
        <p:spPr>
          <a:xfrm>
            <a:off x="2050920" y="2060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19"/>
          <p:cNvSpPr/>
          <p:nvPr/>
        </p:nvSpPr>
        <p:spPr>
          <a:xfrm>
            <a:off x="1692360" y="364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21"/>
          <p:cNvSpPr/>
          <p:nvPr/>
        </p:nvSpPr>
        <p:spPr>
          <a:xfrm>
            <a:off x="5721480" y="4443480"/>
            <a:ext cx="14475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Релакс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ctangle 24"/>
          <p:cNvSpPr/>
          <p:nvPr/>
        </p:nvSpPr>
        <p:spPr>
          <a:xfrm>
            <a:off x="1177920" y="4257720"/>
            <a:ext cx="2971800" cy="10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Элементы дыхательной гимнастики по А.Стрельников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Line 27"/>
          <p:cNvSpPr/>
          <p:nvPr/>
        </p:nvSpPr>
        <p:spPr>
          <a:xfrm flipH="1" flipV="1">
            <a:off x="2747520" y="2146320"/>
            <a:ext cx="986040" cy="64944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Line 28"/>
          <p:cNvSpPr/>
          <p:nvPr/>
        </p:nvSpPr>
        <p:spPr>
          <a:xfrm flipH="1" flipV="1">
            <a:off x="4096800" y="2088720"/>
            <a:ext cx="389160" cy="107316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Line 29"/>
          <p:cNvSpPr/>
          <p:nvPr/>
        </p:nvSpPr>
        <p:spPr>
          <a:xfrm flipV="1">
            <a:off x="5257800" y="2286000"/>
            <a:ext cx="274680" cy="83808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Line 34"/>
          <p:cNvSpPr/>
          <p:nvPr/>
        </p:nvSpPr>
        <p:spPr>
          <a:xfrm flipV="1">
            <a:off x="5638680" y="2666880"/>
            <a:ext cx="762120" cy="60984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Line 36"/>
          <p:cNvSpPr/>
          <p:nvPr/>
        </p:nvSpPr>
        <p:spPr>
          <a:xfrm flipH="1">
            <a:off x="2819160" y="3886200"/>
            <a:ext cx="609480" cy="60948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Line 39"/>
          <p:cNvSpPr/>
          <p:nvPr/>
        </p:nvSpPr>
        <p:spPr>
          <a:xfrm>
            <a:off x="4410000" y="3849840"/>
            <a:ext cx="11160" cy="109188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44"/>
          <p:cNvSpPr/>
          <p:nvPr/>
        </p:nvSpPr>
        <p:spPr>
          <a:xfrm>
            <a:off x="6662880" y="356544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Пальчиковая гимнастика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 Box 45"/>
          <p:cNvSpPr/>
          <p:nvPr/>
        </p:nvSpPr>
        <p:spPr>
          <a:xfrm>
            <a:off x="6324480" y="2286000"/>
            <a:ext cx="23623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«Дорожки здоровь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Line 46"/>
          <p:cNvSpPr/>
          <p:nvPr/>
        </p:nvSpPr>
        <p:spPr>
          <a:xfrm flipV="1">
            <a:off x="5867280" y="3429000"/>
            <a:ext cx="762120" cy="7632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9" name="Рисунок 32" descr="бк3.jpg"/>
          <p:cNvPicPr/>
          <p:nvPr/>
        </p:nvPicPr>
        <p:blipFill>
          <a:blip r:embed="rId1"/>
          <a:stretch/>
        </p:blipFill>
        <p:spPr>
          <a:xfrm rot="13596600">
            <a:off x="3354480" y="346320"/>
            <a:ext cx="544680" cy="463680"/>
          </a:xfrm>
          <a:prstGeom prst="rect">
            <a:avLst/>
          </a:prstGeom>
          <a:ln w="0">
            <a:noFill/>
          </a:ln>
        </p:spPr>
      </p:pic>
      <p:pic>
        <p:nvPicPr>
          <p:cNvPr id="910" name="Рисунок 15" descr="подс1.jpg"/>
          <p:cNvPicPr/>
          <p:nvPr/>
        </p:nvPicPr>
        <p:blipFill>
          <a:blip r:embed="rId2"/>
          <a:stretch/>
        </p:blipFill>
        <p:spPr>
          <a:xfrm>
            <a:off x="1308240" y="5167440"/>
            <a:ext cx="1136520" cy="1406520"/>
          </a:xfrm>
          <a:prstGeom prst="rect">
            <a:avLst/>
          </a:prstGeom>
          <a:ln w="0">
            <a:noFill/>
          </a:ln>
        </p:spPr>
      </p:pic>
      <p:sp>
        <p:nvSpPr>
          <p:cNvPr id="911" name="Line 27"/>
          <p:cNvSpPr/>
          <p:nvPr/>
        </p:nvSpPr>
        <p:spPr>
          <a:xfrm flipH="1" flipV="1">
            <a:off x="2314440" y="3350880"/>
            <a:ext cx="1067040" cy="12204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Box 1"/>
          <p:cNvSpPr/>
          <p:nvPr/>
        </p:nvSpPr>
        <p:spPr>
          <a:xfrm>
            <a:off x="1398600" y="2766960"/>
            <a:ext cx="181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Танцеваль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ритм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дви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Катя</cp:lastModifiedBy>
  <dcterms:modified xsi:type="dcterms:W3CDTF">2019-08-27T19:21:35Z</dcterms:modified>
  <cp:revision>122</cp:revision>
  <dc:subject/>
  <dc:title>Физкультурно-оздоровительная работа в ДО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