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471-A495-43B5-BB4E-02B4D0A6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5B8-58E4-47C7-82FD-2D7D4AAD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00A-7377-45F6-BDEC-50B1FD4E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6AC-B091-49FE-9152-18579695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5AE-9F66-4C1E-8C74-803DCAD3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E041-CCED-4387-B3C4-FA6DC98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EE15-49E6-45D4-8999-40D65CD4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068B-028E-4142-AED4-2FA21D24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8FF9-6339-46AD-9B60-1778ABC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CF9D-AFF6-423A-86F3-0B6531A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C03-DD13-432B-A056-513E47B2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709-D7BA-4035-B120-0A3F9A4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A83D-49AA-42C1-AAAC-08A7D75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1CE2-A679-495F-A2D2-F29A077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71A-45C3-484C-8100-7C5FDB36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F0CE-6AD8-42BE-8C32-33A2B533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22F-6EFB-4CD3-89E9-CC7F8424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B958-D9FB-4D89-A20B-8DD2F42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A0BE-7061-4554-9A07-44A5F997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CE9D-B445-42B4-AE58-4422C29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F6F5-B4B2-4294-A47B-608B4FD0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1305-7274-45BB-BFB6-07F119BD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2B1-1B88-433B-9216-9694B70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2566-BAFF-492B-A0E5-75B7EF3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ED1C-3B5E-4AF3-A187-E80D56C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895B-DB3F-4788-A19D-7C0FDAC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821A-1100-4870-9D6C-0655EDB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9FF9-4973-4E93-A9E7-6DD82FC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7175-E778-4106-A747-4FA1D893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6410-404D-4E91-8534-684CC732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FD0A-0B4A-486E-A356-DB3E0F8B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B1CC-BB92-4F7F-992D-B4F682A8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94E9-3813-494C-9215-4C10F117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7FC-6C5D-4C3C-B2CF-432F25F0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CC38-E8DC-4749-9202-0BB7D764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7DBE-7C29-4E65-91CE-FDF202E9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4E637-4F18-4385-BDDB-45D09C6C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74FF-F775-49FA-AF0A-0BDBE5D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99D6-50D1-4146-957F-DE4EC64E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5054-69FD-47DF-A883-A2A69BE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4069-52B6-47FC-A601-50A98FE1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9407-FCC6-4D14-AD10-68C03C46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DC90-6C4D-4E25-B801-924E7892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A393-57EE-4A05-837E-A5B72A47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19D-663A-4616-B5CA-84BCBB1F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7599A-878A-4BAD-B5EB-39D0D985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F074-EDEB-4FD0-82FD-0A33DA90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BC80-C572-43D6-94C3-78C642BF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AD4A-72DA-4888-9C9B-FBBF836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D1F2-6465-4586-B140-4D81CAC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728B-207E-4436-9A00-B8ED3B7B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82C7-5899-4B5C-8469-2083629B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4526-0D43-4BA3-B586-1772C77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1999-E197-4343-8E31-F803490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2652-BDD3-4191-8134-1A870003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CCB-3813-4129-A7DF-2586E03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F2BD-A7B4-4567-AA24-072FFEF0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1FAAC-D66B-485A-979E-4F185F1C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7FD74-E0BF-4A95-9BC8-316A0EE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1BF2E-F894-49CB-B3CF-3941827F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1A9ED-0F16-4C13-ACDF-2D6A181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F95B6-F440-4A65-83C0-AE3374ED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50AF3-4F6D-4AE3-BB97-04778393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6A489-D10C-405D-80E2-2F9D3C7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2BB82-174A-42F1-8671-59EA40A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6F51E-FCEB-434D-B23D-121E5AC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6BA-0977-465F-BD9D-E4535E1C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1AB7D-787D-429C-BD92-97921FA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D7AC6-5795-4AD8-9FFD-538B64C3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9F4C6-2169-4680-9655-275D697B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64A-A2F3-4F40-BA36-B5032DD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BE8-8A48-4191-90CB-A8A07A3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52A6-FA94-4334-AFB8-9AA54CAC63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DDC-FE15-499B-A581-D18A019CB7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D2A5-8A21-4347-B822-C2C28A1C8A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44F1-22D3-4278-9DB3-BA81466B45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1418-E3CA-48A6-BCA1-9416DF82D1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FBF-4DDA-4A3E-82AD-1359DD78BA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496000" cy="17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аболевания детей раннего возраста</a:t>
            </a: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аболевания слизистой полости рта</a:t>
            </a: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стоматиты</a:t>
            </a: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молочница)</a:t>
            </a: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линические проявления молочниц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0560" y="1268280"/>
            <a:ext cx="8496360" cy="5834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ражено общее беспокойство ребён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ппетит сниже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ание вяло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олезненно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хость и гиперемия слизистой гу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зы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нутренних поверхностях щё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вёрдом и мягком нёб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ёсна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зык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наружив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елые крошковидные налёт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возвышающиеся над поверхностью слизистой оболоч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напоминающие свернувшееся молоко или творожную масс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ёты обычно легко снимаютс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 при тяжёлом течении они могут быть плотно спаянными с подлежащими ткан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https://i.gyazo.com/d27a5120726600c3ebe4befa6fa46164.jpg"/>
          <p:cNvPicPr/>
          <p:nvPr/>
        </p:nvPicPr>
        <p:blipFill>
          <a:blip r:embed="rId1"/>
          <a:stretch/>
        </p:blipFill>
        <p:spPr>
          <a:xfrm>
            <a:off x="1714680" y="214200"/>
            <a:ext cx="585756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5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родолжительность заболевания 7-10 дней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68360" y="620280"/>
            <a:ext cx="8507520" cy="5619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9f25"/>
                </a:solidFill>
                <a:latin typeface="Verdana"/>
              </a:rPr>
              <a:t>Вирусный (герпетический</a:t>
            </a:r>
            <a:r>
              <a:rPr b="0" lang="en-US" sz="3600" spc="-1" strike="noStrike">
                <a:solidFill>
                  <a:srgbClr val="6b9f25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6b9f25"/>
                </a:solidFill>
                <a:latin typeface="Verdana"/>
              </a:rPr>
              <a:t> афтозный) стоматит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острое заболе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арактеризующее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воспалением слизистой оболочки полости рта и выраженными симптомами интоксикации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65"/>
          <p:cNvPicPr/>
          <p:nvPr/>
        </p:nvPicPr>
        <p:blipFill>
          <a:blip r:embed="rId1"/>
          <a:stretch/>
        </p:blipFill>
        <p:spPr>
          <a:xfrm>
            <a:off x="1214280" y="357120"/>
            <a:ext cx="692964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000" y="549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Возбудитель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ирус герпе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Пути передачи инфекции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душно-капель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о-бытов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Инкубационный перио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 4 до 8 дне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болевание продолжается 7-10 дн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линические проявления вирусного стоматит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0040" y="1071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ражены симптомы интоксикаци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вялость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отказ от еды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нарушение сн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температура тела повышена до фебрильных цифр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блюдается слюноотделение и неприятный запах изо рт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23640" y="549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ёчность дёсе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изистая оболочка ярко гиперемирова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слизистой появляются элементы сып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затем везикул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крываяс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и сливаются между соб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я эроз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кружённые ярко-красным ободком (афты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торые вскоре покрываются беловато-жёлтым налёт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же вокруг носа и в преддверие рта обычно выражена мацера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огут появиться герпетические высып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ются регионарны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мфатические узл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сновные принципы лечения стоматитов</a:t>
            </a:r>
            <a:r>
              <a:rPr b="1" lang="ru-RU" sz="3600" spc="-1" strike="noStrike">
                <a:solidFill>
                  <a:srgbClr val="e3ded1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2876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оляция ребёнка и организация правильного гигиенического ухо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ета адекватная состоянию и возрас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еханическо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ермическое и химическое щажение слизистой оболочки полости р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пищевой рацион- богатый белками и витаминами( ограничить углеводы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68360" y="47592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ильное питьё (отвар шиповни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або минерализованные дегазированные щелочные вод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исели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9f25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активной иммунотерапии при тяжёлом течен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нтерферо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нтер-лейкин-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ферон-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офер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мунокоррегирующи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амол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актив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9f25"/>
                </a:solidFill>
                <a:latin typeface="Verdan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аропонижающи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9f25"/>
                </a:solidFill>
                <a:latin typeface="Verdan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тигистаминны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50560" y="83664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Стоматиты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уппа заболеваний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характеризующихся воспалением слизистой оболочки полости рта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620280"/>
            <a:ext cx="8507520" cy="547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9f25"/>
                </a:solidFill>
                <a:latin typeface="Verdan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3ded1"/>
                </a:solidFill>
                <a:latin typeface="Verdana"/>
              </a:rPr>
              <a:t>Этиотропная терапия</a:t>
            </a:r>
            <a:r>
              <a:rPr b="0" lang="en-US" sz="2800" spc="-1" strike="noStrike">
                <a:solidFill>
                  <a:srgbClr val="e3ded1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 кандидозном стоматит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значают противогрибковы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стат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левор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имафуц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 молочнице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ошать слизистые 1-2% раствором натрия гидрокарбоната (с целью поддержания щелочной среды в полости рта) и проводить смазывание элементов 2% водным раствором анилиновых красителе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ахарным сиропом или раствором Люг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тивогрибковыми средств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 герпетическом и бактериальном стоматита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анировать полость рта с помощью полосканий  или орошений (из резинового баллончика) растворами антисептик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%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раствором перекиси водород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1 с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ложку на ½ стакана воды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озовым раствором калия перманган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арами из листьев грецкого орех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ры дуба (50 г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ырья варить в 500 мл воды в течение 20 мин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цеди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студить) или настоями из ромаш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шалфе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алендулы (1 с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ложку сухой травы залить 1 стаканом кипят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стоять 20 мин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цедить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 герпетическом стоматит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естно применя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отивовирусные маз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нафто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одоксо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брофе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лорена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ксолиновую маз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лейкоцитарный интерферо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ундизал-г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ксора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ри язвенно-некротическ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протеолитические фермент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рипс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химотрипсин для растворения слизи и некротизированной ткан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кровоточивости дёсен местно использовать гемостатически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1%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вор галаскорби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2%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твор тани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стой крапив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ель для дёсен «Метрогил-Дента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4-5 дня заболевания включить для ускорения эпителизации слизистой оболочки дополнительно репарант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тинола ацета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инил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итра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асло шиповни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лепих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аратол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ок каланхо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https://nebolet.com/medimg/content/allergicheskij-stomatit-9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9f25"/>
                </a:solidFill>
                <a:latin typeface="Verdana"/>
              </a:rPr>
              <a:t>Этиология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28760" y="1071720"/>
            <a:ext cx="82915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ибки типа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ndida (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рожжеподобные)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ирус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актерии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мешанная микрофлора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Факторы риска развития заболева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томо-физиологические особенности полости рта у детей (сухость слизистой полости р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илие кровеносных сосуд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вышенная ранимость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ушение целостности слизистой полости рта;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ягощённый преморбитный фон ребёнка (аллергический диатез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ьная повышенная чувствительность к лекарственным средств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иммуните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Профилактик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гиенический уход за полостью р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ение гигиенических правил ухода за ребёнк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гиенической культуры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ие и лечение кандидозных поражений у беременных и ли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занимающихся уходом за детьми раннего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евременное лечение кариозных зуб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6b9f25"/>
                </a:solidFill>
                <a:uFillTx/>
                <a:latin typeface="Verdana"/>
              </a:rPr>
              <a:t>Виды стоматитов</a:t>
            </a:r>
            <a:r>
              <a:rPr b="0" i="1" lang="en-US" sz="4000" spc="-1" strike="noStrike" u="sng">
                <a:solidFill>
                  <a:srgbClr val="6b9f25"/>
                </a:solidFill>
                <a:uFillTx/>
                <a:latin typeface="Verdan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ибковый стоматит (кандидоз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молочница)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ирусный (герпетический) стоматит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актериальный стоматит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068"/>
          <p:cNvPicPr/>
          <p:nvPr/>
        </p:nvPicPr>
        <p:blipFill>
          <a:blip r:embed="rId1"/>
          <a:stretch/>
        </p:blipFill>
        <p:spPr>
          <a:xfrm>
            <a:off x="965160" y="4572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23640" y="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Verdana"/>
              </a:rPr>
              <a:t>Грибковый стоматит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(кандидоз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молочница)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Механизм распространения инфекции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эрозоль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о-бытово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ути передачи инфекции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средственный контакт с больным кандидоз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рез инфицированные предметы ухо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загрязнённые ру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 время родов (кандидоз влагалища роженицы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45:38Z</dcterms:created>
  <dc:creator>Admin</dc:creator>
  <dc:description/>
  <dc:language>en-US</dc:language>
  <cp:lastModifiedBy>Анастасия</cp:lastModifiedBy>
  <dcterms:modified xsi:type="dcterms:W3CDTF">2016-11-07T19:59:29Z</dcterms:modified>
  <cp:revision>10</cp:revision>
  <dc:subject/>
  <dc:title>Заболевания детей раннего возраста. Стоматиты.</dc:title>
</cp:coreProperties>
</file>